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5FF-261F-443E-996D-54AC0E08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A3D-376A-483C-A586-75BE00EE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5B4-C0A8-4132-85A0-BCB602FA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A2C-3F52-40D8-8979-10845E5F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B0BB-62C6-43D3-8461-4287101C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07A8-9FAF-4C14-A3DD-5DB4A983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63EC-8D99-414B-A325-A41CCD06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D23B-AD19-47FB-9C42-4AA85A8C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4EBE-762F-4C05-889D-9A7EB610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2A41-E279-4059-B7E0-223AACDE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DE03-8EB4-4E80-8C13-2048FFD9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72E-362E-43D2-AB25-F1940454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3270-DE4D-4212-A5F7-7D748BF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C22F-7420-4C88-BE1B-C366FEEC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05FA-B4F2-4754-9DD7-A56BC35A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4381-E674-470E-A990-8FE73DFF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72DC-C8EB-4414-82E4-CA49E240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97AC-AFF4-4904-9A51-6B7614A5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1AE3-C6C8-46F5-BD5A-B1944F69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1764-A8BB-4E85-B5A3-22D8BB29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48A2-E6F2-413E-B2C3-0DD3DE03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0AAC-DEFF-4E29-9DAB-5C712CC3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4DD-5962-4EB7-9313-D84F1492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6CA1-177A-40B2-8E54-3C52960E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EDC5-26C6-4870-84AC-6882A73D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E94C-1548-495F-B2BB-B03E9095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C5D5-F9E4-4E82-85B5-FC6FB60F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19181-D470-4503-BE13-A4454767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5FB7-53FD-409E-A045-22CC85EF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ADAC6-39B9-48B9-8868-AB6F0A9C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EF6FB-155B-49A3-9236-74189374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7F537-3562-4806-B88C-6EEA2E87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1067-226C-4EF4-ACC1-93ACECBA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F9D-9798-4221-93F8-B563280D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ADBEE-8037-4E5A-9791-AFEBE807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B590C-3EFD-4A82-B14A-1D7F7303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CB61-534E-41D7-AA69-D0D69A19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CD49F-9BA7-48D9-A509-23D4BBE9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8538B-637E-4B34-BFEF-5714F4C8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9D317-71C5-48F1-AACD-439D9372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0289-C607-4A55-B33A-AC3D1ABB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E711-030A-45DE-9B3A-50B0BE8D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ECA9-4A91-44B1-801F-048977E9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79C6D-CE79-448A-B630-4EAAF4BE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03B-D5B8-44A8-B305-216B0462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FCE32-B6BF-493F-8EDE-EFB0ECC0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C4D9-4C1F-4C0A-ACA9-F8A4590B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B07FE-67B0-47D0-8204-43E2AA06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392A4-18CB-4733-B200-0116A178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4B32E-A319-46AF-B5B3-CB53D581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25129-2818-4BA4-8C5F-CC9AE49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D3890-B36C-4E9D-AF2E-B05FD2A3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B97E1-7C51-4A3A-ABDB-18B980BD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C67B-2B18-453F-A440-1AC5311C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7DBF5-A156-4B1F-9A56-86490508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FCD-BA66-4A68-86F8-3ECBA4A5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39DEE-FCAC-4EFE-AE3B-CCCB177E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E71E6-FA14-4310-B559-BC6DFF8C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DECE2-A0E7-4FC9-B42F-08ED5CFD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B28C1-920E-4A88-B043-1D659515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9C865-15AF-48BD-B452-2719D1F1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6A7CB-5E65-442B-97DD-9EA746D9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3824A-0FBF-4542-BF19-F334E5E9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24A7B-0C97-4B85-AD58-1D810A73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57060-2F0F-482F-A14F-0CE54A9E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F47E7-8514-45ED-820D-9415F0FA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C44-6C9D-470D-A8EA-D6E33BDE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A9469-3B2F-45E5-8C32-0A76C8DB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215DA-74E8-4382-808F-B22C877E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814D1-2C95-4E68-9E65-264AF4E0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CDF6E-EA8A-4A65-976A-26EDA36B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A5387-2B8E-4CB8-A73C-26C38CF4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97436-0D87-432C-A076-FD6638C2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99306-9F85-42E0-AE69-ACD58B14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83855-D7EC-477F-B8F6-C1F206C2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EA81A-1319-43C5-86DD-7A967562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4A80B-F252-48CD-BCBF-0F2D6D78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A8F-F8A7-4CDA-A728-DDB4F84B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7C308-F095-45AB-8B0B-B2E61CD8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2538A-1193-4A98-B9B7-E11F904A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BB2F2-512C-4E29-89A0-E4F3AF7D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B05C2-44F6-4D07-BCB7-66C77018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1B158-4248-4B05-BF79-319710A3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0D5-A8D3-44AE-A398-D5865B8C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2366-93B4-42A8-87AB-39E03BD03FB6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C92B-BA5A-4380-937F-1EF8259ABD3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7C94-AA11-4AF6-811A-EE6FB04CA559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24AC-09C4-4F34-8AE4-FCB39542BD9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1E19-312C-48CF-9E19-E6AF5136E992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1094-463D-4869-97DA-F5B318952DA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E288-4D4D-47C7-8323-503288FE12B5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51F6-5010-49A3-8F95-C174C9114CD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9510-847E-4443-8BAA-9D3F7B28D5D5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1F73-EE07-446B-8C94-2947896273D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ACD4-073E-4888-9D1D-A88CE43AC7EE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4278-836B-45D3-A1F7-A8C41A90851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8FCE-633D-4ED7-B20F-7C2F3F22CB6D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B553-514E-47FB-A8A8-2A3A1EA55D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52;&#1054;&#1044;&#1045;&#1051;&#1068;.docx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162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1600"/>
            </a:b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пыт развития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ой службы примирения в Угличском муниципальном районе Ярославской област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809880" y="426672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ронина Татьяна Михайловна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, директор ГУ ЯО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агрова Наталия Владимировна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, заместитель директора ГУ ЯО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981080" y="228600"/>
            <a:ext cx="61722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9FAC-2812-48DE-89E4-6454225CC77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У ЯО «Угличский детский дом»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18960" y="21337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: Воронина Татьяна Михайловн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: Багрова Наталия Владимировн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, факс: 8(48532)2-02-3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om-ugl.edu.yar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6140-AF25-43DA-BF4F-6D9DD26D0F9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4920" y="1294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истории: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015 год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828440"/>
            <a:ext cx="7499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 ЯО «Угличский детский дом» – региональная инновационная площадка проект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служб медиации в образовательных организациях Ярославской области»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департамента образования Ярославской области № 217/01-03 от 12.03.2015г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AB40-59B5-49D5-AA46-2D0D9910667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ая служба примирения Угличского МР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23880" y="2514600"/>
            <a:ext cx="718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ициирование создания и содействие в деятельности Служб примирения в Угличском муниципальном районе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2438280" y="228600"/>
            <a:ext cx="54864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0C28-FE38-4D45-B843-264D35E9A87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дель Территориальной службы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Содержимое 5" descr=""/>
          <p:cNvPicPr/>
          <p:nvPr/>
        </p:nvPicPr>
        <p:blipFill>
          <a:blip r:embed="rId1"/>
          <a:srcRect l="37663" t="43815" r="36530" b="22674"/>
          <a:stretch/>
        </p:blipFill>
        <p:spPr>
          <a:xfrm>
            <a:off x="2743200" y="2590920"/>
            <a:ext cx="4876920" cy="28954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6"/>
          <p:cNvSpPr/>
          <p:nvPr/>
        </p:nvSpPr>
        <p:spPr>
          <a:xfrm>
            <a:off x="2743200" y="2590920"/>
            <a:ext cx="4876920" cy="2895480"/>
          </a:xfrm>
          <a:prstGeom prst="rect">
            <a:avLst/>
          </a:prstGeom>
          <a:noFill/>
          <a:ln w="2844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Стрелка вправо 7"/>
          <p:cNvSpPr/>
          <p:nvPr/>
        </p:nvSpPr>
        <p:spPr>
          <a:xfrm>
            <a:off x="7010280" y="6095880"/>
            <a:ext cx="1828800" cy="533520"/>
          </a:xfrm>
          <a:prstGeom prst="rightArrow">
            <a:avLst>
              <a:gd name="adj1" fmla="val 50000"/>
              <a:gd name="adj2" fmla="val 49989"/>
            </a:avLst>
          </a:prstGeom>
          <a:noFill/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Модел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Номер слайда 8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149F-E70B-487F-8A4D-5AB6AD74FB3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ханизм реализации модели Территориальной службы примирен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66320" y="2361960"/>
            <a:ext cx="786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ьная группа при ТКДНиЗП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становительная работа со случаями, информация о которых поступает в комиссию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тнерстве с представителями субъектов профилактики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урегулировании конфликтов в образовательных учреждениях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E49B-7BAB-4819-BD69-4233977CD98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45920" y="1371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лужба примирения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У ЯО «Угличский детский дом»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371600" y="3200040"/>
            <a:ext cx="7562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гулирование конфликтных ситуаций, возникающих между субъектами воспитательного процесса в Угличском детском дом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CC48-54D6-44F5-91D4-8475452FAB2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лужбы примирения в О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23520" y="1828440"/>
            <a:ext cx="7410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регулирование конфликтных ситуаций, возникающих в образовательных отношениях учреждений Угличского муниципального района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деятельности Служб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восстановительных программ;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 школьным сообществом;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оддерживающей среды для участников службы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FA56-125A-4B06-88DB-1E3BFDE82A0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лонтерские группы медиаторов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295280" y="2514600"/>
            <a:ext cx="7639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регулирование конфликтных ситуаций между субъектами образовательных и воспитательных отношений на территории Угличского муниципального рай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волонтерских групп входят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ы ГОУ СПО ЯО Угличского индустриально-педагогического колледж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из числа заинтересованной общественност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C7B8-1937-4852-963C-2296908D7BB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тоги деятельности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ой службы примирен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143000" y="2370240"/>
          <a:ext cx="7772400" cy="44877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ное подразделение Служ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cc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cca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ая группа при ТКДНиЗ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осстановительных программ, примирение сторон во всех случа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а примирения ГУ ЯО «Угличский детский д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восстановительные программы, примирение сторон во всех случа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ая служ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организационных совещан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обучающих семинар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пыта развития Территориальной службы примирения на разных уровня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информации на сайте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4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37C8-25E2-4F08-B314-538F860F4CF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11:29:28Z</dcterms:created>
  <dc:creator>User</dc:creator>
  <dc:description/>
  <dc:language>en-US</dc:language>
  <cp:lastModifiedBy>Ольга Владимировна Чиркун</cp:lastModifiedBy>
  <dcterms:modified xsi:type="dcterms:W3CDTF">2016-11-09T10:26:26Z</dcterms:modified>
  <cp:revision>93</cp:revision>
  <dc:subject/>
  <dc:title>Опыт развития  Территориальной службы примирения в Угличском муниципальном районе Ярославской области</dc:title>
</cp:coreProperties>
</file>