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D490-BFFC-4917-92EA-A38691D58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F850-9C78-487A-A1A9-ADAB7F2E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E5C4-69A6-4054-A88C-2F3482061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8831-3378-48D9-8ED1-92F4D25F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73F6-D928-401D-9BA3-EA6E052C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44E2-1E0A-4E9A-8224-87C74B64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EA79-4862-4B8D-AC58-F32483A7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C172-A9CA-4A95-B21A-C9816049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EE7C-1B28-436F-A0E9-4DF94BF0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9F6E-854D-484B-9111-B3E4D198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4C46-0409-4FC2-B030-49E65458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D0AB-5976-4818-8043-314D0801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5A4F-A849-415F-B8D8-FC2AEBD262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М.В. Ломоносов – великий учёный и челове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2852640"/>
            <a:ext cx="7848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Начальная школ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XXI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е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ДАЧИ НАМ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овательные результ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едметны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оздают словесный портрет М.В. Ломоносова как человека и учё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называют этапы жизни М.В. Ломонос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называют открытия, сделанные учёным в разных областях нау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овательные результ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Метапредметные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находят необходимую информацию в различных информационных источника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контролируют собственные действия в соответствии с алгоритмом построения текс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оценивают себя и своих одноклассников по заданным критерия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высказывают собственные суждения и обосновывают и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работают в группе, выполняя порученную роль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Личностны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-наличие потребности к саморазвитию  на примере жизни великого учёного М.В. Ломонос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овательные результ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навыка составления словесного портрета посредством поиска информации в различных источни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1285920" y="1428840"/>
            <a:ext cx="614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лавная идея реализации содерж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чем основан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ана на интересе детей, вызванном просмотром филь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 со-бытийн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Составляем словесный портрет  М.В. Ломоносов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856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я учебной деятельности на уро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08000" y="836640"/>
          <a:ext cx="8856720" cy="7670880"/>
        </p:xfrm>
        <a:graphic>
          <a:graphicData uri="http://schemas.openxmlformats.org/drawingml/2006/table">
            <a:tbl>
              <a:tblPr/>
              <a:tblGrid>
                <a:gridCol w="1727280"/>
                <a:gridCol w="5113080"/>
                <a:gridCol w="2016360"/>
              </a:tblGrid>
              <a:tr h="64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тап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пособы организации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Дидак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6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ормирование потреб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 фрагмента документального фильма о М.В. Ломоносо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седа о герое  фильм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окументальный фильм «М.В. Ломоносов. Путь в науку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77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ормирование образа желаемого результ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ановка уточняющего вопроса «Как можно представить полученные знания, что может быть продуктом нашей деятельности в конце урока?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бсуждение в полилоге  образа желаемого результа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тив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седа о том, где могут пригодиться полученные зн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Целеполаг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туативная  бесе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нир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вместное  составление плана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77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ыполнение действ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бота в группах с разными источниками информации. Составляют рассказ по предложенному план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ебник, энциклопедии, научно-познавательная лит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нализ результ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амооценка и взаимооценка выполненной работы группы по совместно выработанным критерия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ализ со-бытийности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85680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ые  методы организации учебной деятельности соответствуют требованиям деятельностного подход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ые методы соответствуют  со-бытийному подход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ая грамотность проекта со-бытия: проект разработан в соответствии с основными этапами деятельно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вность проекта со-бытия: при реализации  со-бытия был создан продукт совместной деятельности «Словесный портрет М.В. Ломоносова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е выводы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ыла чётко организована деятельность   детей по созданию совместного продукта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ащиеся сумели сформулировать цель собственной  деятельности, наметили пути её достижения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умели распределить роли при работе в группах, оценить результаты  деятельности  группы и презентовать полученный продук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нее проработан оказался этап планирования деятельно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2T16:26:22Z</dcterms:created>
  <dc:creator>Ольга Вячеславовна Тихомирова</dc:creator>
  <dc:description/>
  <dc:language>en-US</dc:language>
  <cp:lastModifiedBy>Windows User</cp:lastModifiedBy>
  <dcterms:modified xsi:type="dcterms:W3CDTF">2016-03-28T17:01:38Z</dcterms:modified>
  <cp:revision>26</cp:revision>
  <dc:subject/>
  <dc:title>«Играем сказку»</dc:title>
</cp:coreProperties>
</file>