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9A9-E881-40B7-B3C6-D98874DD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F58-B11A-46D1-8EF1-C1B5D9D2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11A-0145-409E-A546-922CF64D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951-B2F7-452B-B3F4-B119AB19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A12-EF9B-4510-953E-3549243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FE6-4FF1-4C72-BB8B-89F29B4C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1A4-E5C2-4803-B121-62E2674E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624-6AED-4B08-9AEF-138ACD9E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9E7-4500-45DD-A56D-AF1FFEF0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EEC-0918-430A-A278-C8A44E0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8BA-CE20-464C-A3DC-C09EC782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F47-CF3E-4239-892D-2C711A0C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48A9-380B-49F4-A466-4F30696ED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3;&#1080;&#1095;&#1085;&#1086;&#1089;&#1090;&#1085;&#1099;&#1077;%20&#1088;&#1077;&#1079;&#1091;&#1083;&#1100;&#1090;&#1072;&#1090;&#1099;.doc" TargetMode="External"/><Relationship Id="rId2" Type="http://schemas.openxmlformats.org/officeDocument/2006/relationships/hyperlink" Target="file:///&#1084;&#1077;&#1090;&#1072;&#1087;&#1088;&#1077;&#1076;&#1084;&#1077;&#1090;&#1085;&#1099;&#1077;%20&#1088;&#1077;&#1079;&#1091;&#1083;&#1100;&#1090;&#1072;&#1090;&#1099;.doc" TargetMode="External"/><Relationship Id="rId3" Type="http://schemas.openxmlformats.org/officeDocument/2006/relationships/hyperlink" Target="file:///&#1087;&#1088;&#1077;&#1076;&#1084;&#1077;&#1090;&#1085;&#1099;&#1077;%20&#1088;&#1077;&#1079;&#1091;&#1083;&#1100;&#1090;&#1072;&#1090;&#1099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абочих материалов по итогам КПК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ы подготовили: Аксенова Дарья Валерьевна, заместитель директора по ВР, педагог — психолог, МОУ Лучинская СШ ЯМ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халова Людмила Владимировна, учитель русского языка и литературы, МОУ Лучинская СШ ЯМ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лова Светлана Юрь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ь начальных классов, МОУ Большесель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ько Марина Александровна, учитель  нача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ов, заместитель директора по УВР, средняя школа № 44 г. Ярослав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765000"/>
          <a:ext cx="8424720" cy="564696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381636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но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З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филь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Зачем нужно знать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 к личному опыт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 желаемого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Согласование образца, выбор наглядного материала для соста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Показ конкретного образца, выдача наглядного материала для изгото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принятие необходимости создания памятки для дошколь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оказание учителем помощи  в  создании памятки для до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яющий вопрос учителя, приводящий к четкой совместной формулировке. Фиксация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цели ребенком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овместного плана, фикс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ребенком плана на доске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группах по выбору дорожных знаков, необходимых для пешеходов. Фронтальная работа с моделью светофора. Оформление и представление памят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конкретной группе с выданным материалом (знаками). Участие в оформлении и представлении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еседе повторяем цель и определяем степень достигнутости. Подчеркивание личного вклада каждого в образование. Самоанали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личной значимости ребенка на конкретном уроке. Самооценка по критериям, данным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403280" y="249228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олагаемые результаты обучения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2133720"/>
            <a:ext cx="568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атическое планирование рабочей программы по предмету (окружающий мир, начальная школа 21 века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557360"/>
          <a:ext cx="8280360" cy="51022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  <a:gridCol w="1655640"/>
              </a:tblGrid>
              <a:tr h="42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(ча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бучени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а обучение со спец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Этот удивительный м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-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с дефектологом или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при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2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тьютор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, тью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страна – Россия. Родной кр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, 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здоровь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, 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други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поурочного  пла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73120"/>
          <a:ext cx="8435880" cy="6026040"/>
        </p:xfrm>
        <a:graphic>
          <a:graphicData uri="http://schemas.openxmlformats.org/drawingml/2006/table">
            <a:tbl>
              <a:tblPr/>
              <a:tblGrid>
                <a:gridCol w="1687680"/>
                <a:gridCol w="1685880"/>
                <a:gridCol w="1687320"/>
                <a:gridCol w="1687680"/>
                <a:gridCol w="16873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ые методы и при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зывает времена года, осенние месяц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яет последовательность времен года, различает 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ет правила поведения в ученическом коллектив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меет представление об учебном со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яет колл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нирует учеб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й творческий проект – коллаж «Золотая осен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ривлечением личного опыта «Как мы можем украсить школу к осеннему бал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, дневник наблюдений, журналы, книги, стихи об ос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549360"/>
          <a:ext cx="8229600" cy="597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поведения на доро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авильно переходит проезжую ча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значение сигналов светоф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ыполняет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одно из правил безопасной жиз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личной ответственности за свои поступ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памят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знаково–символических средствах представлениях информации (дорожные зна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мятка в картинках по ПДД для воспитанников детского са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 «Зачем нужно соблюдать правила поведения на дороге», «Кто может не знать правил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лядный материал (картинки для памят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хождение интерактивного те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ики, ИКТ, индивидуальный раздаточный материал (светофор, знаки, зебра и т.д.), учебный фильм, игра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404640"/>
          <a:ext cx="8229600" cy="568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и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ют названия профессий работников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личают особенности деятельности людей разных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нимают важность каждого человека в 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схе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равнивает и обобщает  знания о професс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а «Люди каких профессий работают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курсия по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ие жизненн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Т, «скелет» схемы, наглядность (картин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инклюзив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700280"/>
            <a:ext cx="7705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 из рабочей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едения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: Начальная школа 21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-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57360"/>
          <a:ext cx="8353440" cy="4922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нормой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44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правило безопасной жизни –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ет среди предложенных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яет памятку. Имеет представление о знаково – символических средствах представления информации – знает дорожные знаки, регулирующие поведение пешеходов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ет помощь в составлении памятки (выстригает, раскрашивает, приклеивает). Знакомится со знаково – символическими средствами представления информации –дорожными зна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дорожные знаки, необходимые для безопасного пребывания на улице, переходит проезжую часть в соответствии с правилам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ие правил поведения пешехода на дороге посредством создания памятки – рисунка «Правила поведения на дорог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23:05Z</dcterms:created>
  <dc:creator>student</dc:creator>
  <dc:description/>
  <dc:language>en-US</dc:language>
  <cp:lastModifiedBy>О.Г. Воронина</cp:lastModifiedBy>
  <dcterms:modified xsi:type="dcterms:W3CDTF">2016-04-25T10:09:23Z</dcterms:modified>
  <cp:revision>12</cp:revision>
  <dc:subject/>
  <dc:title>Представление рабочих материалов по итогам КПК детей с ОВЗ</dc:title>
</cp:coreProperties>
</file>