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E34-B3A7-478C-BDC8-792C0B525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C67D-FAA8-44BE-A694-CBCF0AC71C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BA6-9C74-4604-B055-7E87CEFD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DA3-5A91-4D12-954E-8B9F560C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19A-CCFF-4F53-BC57-3FB0A921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EDA-0CF2-4EA6-94FE-F4175FE6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E75-1194-4649-9452-F768B535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847-CDC0-4CCF-8DB4-491338FB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E07-7453-4B78-9303-F1A7133B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DA2-7E0C-4CDB-9F4A-116774B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2AA-0985-460C-B5BF-ABA2103C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3A7-2619-46EE-9B2A-47E131D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0F9-8188-4B13-AF72-CBD85F8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ECD-94E3-4AE4-81BD-535BDCA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7429-2F84-4D8B-8275-CBAD12BE8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рганизация самостоятельной работы студ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кладчик: методист ЯРТК Балабанова И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цесс организации самостоятельной работы студентов включает в себя следующие этапы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ределение целей, составление программы, подготовка методического обеспечения, оборудования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ализация программы, использование приемов поиска информации, усвоения, переработки, применения, передачи знаний, фиксирование результатов, самоорганизация процесса работ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ценка значимости и анализ результатов, их систематизация, оценка эффективности программы самостоятельной работы и приемов работы, выводы о направлениях оптимизации труд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иды заданий для внеаудиторной самостоятельной работ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владения зн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закрепления и систематизации зна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формирования ум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5103000">
            <a:off x="7740000" y="4939920"/>
            <a:ext cx="576360" cy="5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формационный рес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оложения об учреждениях СПО и Н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дарты по профессиям  и специаль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учебного плана и разработке рабочих программ учебных дисциплин и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локальные ак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рограммы учебных дисциплин и професс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учение коллект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нструктивно-методических совещ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коллекти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е консультаци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мероприятий по обмену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учебной дисцип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ализаци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етодически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курсовому проектир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написанию рефе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организации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чебны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тетра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ты заданий для внеаудиторной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овароведению непродовольственных тов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по учету и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ехнологии розничной торго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ие пособия по организаци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ТВЕРЖДЕ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тановлением Пр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341360"/>
          <a:ext cx="7777080" cy="4680000"/>
        </p:xfrm>
        <a:graphic>
          <a:graphicData uri="http://schemas.openxmlformats.org/drawingml/2006/table">
            <a:tbl>
              <a:tblPr/>
              <a:tblGrid>
                <a:gridCol w="3889080"/>
                <a:gridCol w="3888000"/>
              </a:tblGrid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от 18 июля 2008 г. N 54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4 июля 2008 г. N 5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Е ПОЛОЖ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 образовательном учреждении среднего профессиональног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ния (среднем специальном учебном заведен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ГО ПО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РАЗОВАТЕЛЬНОМ УЧРЕЖДЕНИИ НАЧАЛЬН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</a:t>
            </a:r>
            <a:br>
              <a:rPr sz="44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(образовательная деятельность образовательных учреждений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97160"/>
          <a:ext cx="8424720" cy="5126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специальное учебное заведени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(в части состава дисциплин (модулей), установленных средним специальным учебным заведением в учебном плане, и (или) содержания рабочих программ учебных дисциплин (модулей), программ учебной и производственной практики, а также методических материалов, обеспечивающих реализацию соответствующих образовательных технологий)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начального профессионального образования включают в себя учебный план, рабочие программы учебных курсов, предметов, дисциплин (модулей), программы учебной практики (производственного обучения) и производственной практики, календарный учебный график и другие методические материалы, которы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ю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тельным учреждением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712000" cy="567360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ый объем учебной нагруз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удента составляет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а в неделю, включая все виды аудиторной и внеаудиторной учебной нагруз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В средних специальных учебных заведениях устанавливаются основные виды учебных занятий, такие, как урок, лекция, семинар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и производственная практики, выполнение курсовой работы (курсовое проектирование)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дельная нагрузка студентов обязательными учебными занятиям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ого работника с обучающимися не должна превышат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В образовательном учреждении устанавливаются такие виды учебных занятий, как урок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практика (производственное обучение) и производственная практика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также могут проводиться другие виды учебных занят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учебно-производственной нагрузки не должен превышать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 академических часов в неделю и 6 академических часов в ден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КОМЕНД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ПО ПЛАНИРОВАНИЮ И ОРГАНИЗАЦИИ САМОСТОЯТЕЛЬНОЙ РАБОТ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СТУДЕНТОВ ОБРАЗОВАТЕЛЬНЫХ УЧРЕЖДЕНИЙ СРЕДНЕГ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ПРОФЕССИОНАЛЬНОГО ОБРАЗОВАНИЯ В УСЛОВИЯХ 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 СП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ложение к письму Минобразования России  от 29 декабря 2000 года                                                   N 16-52-138ин/16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Локальные акты регламентирующие вопросы организаци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б организации самостоятельной работы студентов коллед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календарно-тематическом планиров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право 3"/>
          <p:cNvSpPr/>
          <p:nvPr/>
        </p:nvSpPr>
        <p:spPr>
          <a:xfrm>
            <a:off x="7164360" y="5732640"/>
            <a:ext cx="720720" cy="2887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амостоятельная  работа  студентов проводится с цель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и  и закрепления полученных теоретических знаний и практических умений студ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я и расширения теоретических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умений   использовать   нормативную,   правовую, справочную документацию и специальную литерату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ознавательных способностей  и  активности  студентов: творческой    инициативы,    самостоятельности,    ответственности   и организов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самостоятельности   мышления,   способностей   к саморазвитию, самосовершенствованию и самореализ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ды самостояте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ая работа по дисциплине  выполняется на  учебных занятиях под непосредственным руководством преподавателя и по его зад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амостоятельная  работа выполняется студентом по заданию преподавателя, но без его непосредственного учас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етодика организации самостоятельной работы студентов завис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структуры, характера и особенностей изучаемой дисцип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а часов на ее изуч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 заданий для самостоятельной работы студен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х качеств 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52:11Z</dcterms:created>
  <dc:creator>User</dc:creator>
  <dc:description/>
  <dc:language>en-US</dc:language>
  <cp:lastModifiedBy>User</cp:lastModifiedBy>
  <cp:lastPrinted>2011-10-13T09:58:21Z</cp:lastPrinted>
  <dcterms:modified xsi:type="dcterms:W3CDTF">2011-12-01T09:57:59Z</dcterms:modified>
  <cp:revision>26</cp:revision>
  <dc:subject/>
  <dc:title>Презентация PowerPoint</dc:title>
</cp:coreProperties>
</file>