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708D2-006B-4FA1-AB21-589D4E5E4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68668-A001-4F10-B16F-E8191442E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26375-0709-4BA4-9E8F-EDA92A456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FD9C6-38DD-4FAE-8668-4AC64523E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B439A-454B-4FC0-8888-FCA16C086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6091C-C97E-4CC3-A5E5-E0B7124E1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19C44-E1F5-4FB6-B26E-193F80073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AA537-523E-4481-8F09-D25AF2FE1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C4261-E435-4DFC-85A5-7F16CB6A7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E12F1-975C-42DC-A3F7-DF135F031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D266A-FA0E-4346-B010-7E8F37F60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225C4-8191-4E38-AD45-33B3987ED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CFF21-D96E-4F12-9364-23ADDEB437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/&#1041;&#1059;&#1055;%20&#1085;&#1072;&#1095;%20&#1082;&#1083;&#1072;&#1089;&#1089;&#1099;%2021.01.xls" TargetMode="External"/><Relationship Id="rId2" Type="http://schemas.openxmlformats.org/officeDocument/2006/relationships/hyperlink" Target="file:///&#1059;&#1044;%20&#1055;&#1088;&#1072;&#1074;&#1086;&#1074;&#1086;&#1077;%20&#1086;&#1073;&#1077;&#1089;&#1087;&#1077;&#1095;&#1077;&#1085;&#1080;&#1077;%2003.05.11.doc" TargetMode="External"/><Relationship Id="rId3" Type="http://schemas.openxmlformats.org/officeDocument/2006/relationships/hyperlink" Target="file:///&#1055;&#1052;%20&#1052;&#1054;%20&#1053;&#1050;%2013.04.11.doc" TargetMode="External"/><Relationship Id="rId4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file:///&#1058;&#1088;&#1091;&#1076;&#1086;&#1105;&#1084;&#1082;&#1086;&#1089;&#1090;&#1100;%20&#1057;&#1056;&#1057;.doc" TargetMode="External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file:///&#1056;&#1077;&#1082;&#1086;&#1084;&#1077;&#1085;&#1076;&#1072;&#1094;&#1080;&#1080;%20&#1087;&#1086;%20&#1057;&#1056;&#1057;.doc" TargetMode="External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mailto:rcoll@mail.ru" TargetMode="External"/><Relationship Id="rId2" Type="http://schemas.openxmlformats.org/officeDocument/2006/relationships/hyperlink" Target="mailto:rcoll@mail.ru" TargetMode="External"/><Relationship Id="rId3" Type="http://schemas.openxmlformats.org/officeDocument/2006/relationships/hyperlink" Target="mailto:rcoll@mail.ru" TargetMode="External"/><Relationship Id="rId4" Type="http://schemas.openxmlformats.org/officeDocument/2006/relationships/hyperlink" Target="mailto:rcoll@mail.ru" TargetMode="External"/><Relationship Id="rId5" Type="http://schemas.openxmlformats.org/officeDocument/2006/relationships/hyperlink" Target="mailto:rcoll@mail.ru" TargetMode="External"/><Relationship Id="rId6" Type="http://schemas.openxmlformats.org/officeDocument/2006/relationships/hyperlink" Target="http://www.gou_rpk/" TargetMode="External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/&#1056;&#1072;&#1079;&#1076;&#1077;&#1083;%207%20&#1060;&#1043;&#1054;&#1057;.doc" TargetMode="External"/><Relationship Id="rId2" Type="http://schemas.openxmlformats.org/officeDocument/2006/relationships/hyperlink" Target="file:///&#1056;&#1077;&#1082;&#1086;&#1084;&#1077;&#1085;&#1076;&#1072;&#1094;&#1080;&#1080;%20&#1087;&#1086;%20&#1057;&#1056;.doc" TargetMode="External"/><Relationship Id="rId3" Type="http://schemas.openxmlformats.org/officeDocument/2006/relationships/hyperlink" Target="file:///&#1056;&#1077;&#1082;&#1086;&#1084;&#1077;&#1085;&#1076;&#1072;&#1094;&#1080;&#1080;%20&#1087;&#1086;%20&#1057;&#1056;.doc" TargetMode="External"/><Relationship Id="rId4" Type="http://schemas.openxmlformats.org/officeDocument/2006/relationships/hyperlink" Target="file:///&#1056;&#1077;&#1082;&#1086;&#1084;&#1077;&#1085;&#1076;&#1072;&#1094;&#1080;&#1080;%20&#1087;&#1086;%20&#1057;&#1056;.doc" TargetMode="External"/><Relationship Id="rId5" Type="http://schemas.openxmlformats.org/officeDocument/2006/relationships/hyperlink" Target="file:///&#1041;&#1088;&#1086;&#1096;&#1102;&#1088;&#1072;%20&#1086;%20&#1057;&#1056;&#1057;.doc" TargetMode="External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907560"/>
            <a:ext cx="822960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Организация самостоятельной работы обучающихся в условиях введения ФГОС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Ярославль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9640" y="333360"/>
            <a:ext cx="7777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Документы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68360" y="1844640"/>
            <a:ext cx="842472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just">
              <a:spcBef>
                <a:spcPts val="901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Базисный учебный план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Рабочий учебный пла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901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Рабочая программа по У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901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Рабочая программа по П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52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Руководство СР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68360" y="1412640"/>
            <a:ext cx="842472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1. Подготовительный этап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1.1. Отбор целей самостоятельной работы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1.2. Отбор содержания СРС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1.3.  Отбор  форм, типов и видов СРС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1.4. Комплексное методическое обеспечение СРС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Основной этап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2.1. Мотивация СРС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2.2. Руководство выполнением  СРС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3. Заключительный этап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3.1. Организация контроля СРС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3.2. Рефлексия руководства СРС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4960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Следует учитывать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68360" y="764640"/>
            <a:ext cx="842472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ложность изучаемого материал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бъем изучаемой дисципли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урс обучения и получаемую специальность, професси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спользуемые педагогом технолог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етодическое обеспечение учебной дисципли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озможность использования информационно-коммуникационных средств обуч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численность состава групп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собенности студентов и уровень их самостоятель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8496360" cy="5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Проблема перегрузки!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250560" y="692280"/>
            <a:ext cx="8713800" cy="59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омашнее задание студентки 5 курса…..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 25 декабря 2009 год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оставить конспект занятия по …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(долг подождет, она хорошо ко мне относитс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дготовиться к зачету по …….</a:t>
            </a:r>
            <a:r>
              <a:rPr b="1" lang="en-US" sz="2400" spc="-1" strike="noStrike">
                <a:solidFill>
                  <a:srgbClr val="33cc33"/>
                </a:solidFill>
                <a:latin typeface="Arial"/>
              </a:rPr>
              <a:t>(мало оценок – 4, а могла бы и на 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оработать конспект лекции по…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(«пронесло» и не спросил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дготовиться к семинару по… </a:t>
            </a:r>
            <a:r>
              <a:rPr b="1" lang="en-US" sz="2400" spc="-1" strike="noStrike">
                <a:solidFill>
                  <a:srgbClr val="33cc33"/>
                </a:solidFill>
                <a:latin typeface="Arial"/>
              </a:rPr>
              <a:t>(может освободят от экзамена – 5 УРА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 Подготовить сообщение по…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(сказала, что не успела распечатать, перенесли на следующую неделю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 Получить зачет по ВКР…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(очень рада, что в колледже не встретились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496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Нормы внеаудиторной СР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250560" y="1557000"/>
            <a:ext cx="8675640" cy="482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нПиН определяет время, ежедневно выделяемое на выполнение домашнего задания по всем предметам, вместе взятым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 класс – не превышает 1 ча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 класс – 1,5 ча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-4 класс – 2 ча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5-6 класс – 2,5 ча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7-8 класс – 3 ча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9-11 класс – 4 час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4960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Учет СРС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250560" y="765000"/>
            <a:ext cx="867564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бсуждение объема внеаудиторной СРС на заседании Ц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ля инструктажа используется время, отведенное на изучение УД и МД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ожно проводить консультации из общего объема времени, отведенного на консультации (100 часов в год на учебную группу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онтроль  результатов может проходить на учебных занятиях и (или) в форме предъявления изделия или продукта творческой деятельност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адания на внеаудиторную СРС, формы и методы контроля прописываются в КТП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24000" y="476280"/>
            <a:ext cx="84960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Учет СРС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250560" y="1628280"/>
            <a:ext cx="867564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адания на внеаудиторную СРС записываются в классном журнале, в графе: «Домашняя работ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Форма контроля отражается в содержании учебного занятия (справа) и фиксируется колонкой отметок (зачетов) на левой сторон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онсультации записываются в журнале консультаци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аписи в классном журнале и КТП должны совпада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- Что такое самостоятельная работа (СР)?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- В каких нормативных и методических документах она прописана?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- Каким образом она может быть организована?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- Как вести учет самостоятельной работы?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4000" y="475920"/>
            <a:ext cx="84960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Спасибо за внимание!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250560" y="3860280"/>
            <a:ext cx="8675640" cy="25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.Г.Копотюк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иректор ГОАУ СПО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Я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ыбинского педколледж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-mail: </a:t>
            </a:r>
            <a:r>
              <a:rPr b="0" lang="en-GB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rcoll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@</a:t>
            </a:r>
            <a:r>
              <a:rPr b="0" lang="en-GB" sz="2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mail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.</a:t>
            </a:r>
            <a:r>
              <a:rPr b="0" lang="en-GB" sz="2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GB" sz="2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www.gou_rpk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- Что такое самостоятельная работа (СР)?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- В каких нормативных и методических документах она прописана?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- Каким образом она может быть организована?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- Как вести учет самостоятельной работы?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8964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Понятие самостоятельной работ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4247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just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вид учебной деятельности учащихся как на уроке, так и во вне урочное время (Т.А.Ильина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метод обучения, при котором учащиеся под руководством учителя и  по его заданию самостоятельно решают поставленную задачу (Л.В.Жарова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8964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Понятие самостоятельной работ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68360" y="1412640"/>
            <a:ext cx="842472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just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форма самостоятельной деятельности, которая всегда строго ограничена временными рамками и является обязательной для каждого ученика (Н.Ю.Лейкина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редство вовлечения учащихся в самостоятельную познавательную деятельность (П.И.Пидкасистый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8964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Понятие самостоятельной работ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68360" y="1557360"/>
            <a:ext cx="842472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бщим для всех подходов является то, что самостоятельная работа является орудием педагогического руководства и управления самостоятельной познавательной деятельностью обучающегося в процессе обучения. Результаты СР в том числе и домашней используются в учебном процесс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8569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Формы и  типы самостоятельной работ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68360" y="1412640"/>
            <a:ext cx="842472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Форм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по количеству обучающихс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по месту проведе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Типы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Воспроизводящая (копирующие действия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Реконструктивная (репродуктивные действия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Эвристическая (частично-поисковая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Творческая (самостоятельные действия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8964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Виды самостоятельной работ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68360" y="1412640"/>
            <a:ext cx="842472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Виды 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(по дидактическим целям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для овладения знаниями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для закрепления и систематизации знаний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для формирования умений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для проверки сформированности знаний и умений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8964720" cy="3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Виды самостоятельной работ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68360" y="907920"/>
            <a:ext cx="842472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Виды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(по дидактическим целям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для овладения знаниями (самостоятельное изучение отдельных тем курса, чтение текста, конспектирование текста и т.п.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для закрепления и систематизации знаний (работа с конспектом лекции, учебником, работа с опорными сигналами, составление таблиц, подготовка сообщений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для формирования умений (решение задач и упражнений, упражнение на тренажёре, подготовка к деловым играм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для проверки сформированности знаний и умений (подготовка к контрольной работе, опросу, зачету, семинару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8964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Документ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68360" y="1052640"/>
            <a:ext cx="842472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орматив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ФГО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Методическ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Письмо </a:t>
            </a:r>
            <a:r>
              <a:rPr b="0" lang="ru-RU" sz="3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Минобразования</a:t>
            </a:r>
            <a:r>
              <a:rPr b="0" lang="ru-RU" sz="36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 России от 29.12.2000 № 16-52-138 ин/16-13 «О рекомендациях по планированию и организации СР студентов (СРС)…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901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Рекомендации по руководству СРС педагогического колледжа (2010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0T07:49:57Z</dcterms:created>
  <dc:creator>Kopotuk</dc:creator>
  <dc:description/>
  <dc:language>en-US</dc:language>
  <cp:lastModifiedBy>Kopotuk</cp:lastModifiedBy>
  <dcterms:modified xsi:type="dcterms:W3CDTF">2002-01-20T11:04:22Z</dcterms:modified>
  <cp:revision>8</cp:revision>
  <dc:subject/>
  <dc:title>Организация самостоятельной работы обучающихся в условиях введения ФГОС   Ярославль 2011</dc:title>
</cp:coreProperties>
</file>