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11E-5B58-4EB1-88B2-9ECA664B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FB0-2239-4C43-87AE-B9C5E09F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E6B-AE2D-4EA9-87B1-84137F9E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26F-446E-42B6-8378-78A1A799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07F8-A84A-41D3-ABE1-A36C3649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310B-01FE-4D00-81C4-9162C804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DDC8-1B58-4C0F-8A44-40455A3F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71D2-5420-4A56-B40A-87F33CC9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964C-7057-4D32-8150-3E0313AB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940F-F2D5-4A44-8CF4-644BDA98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78F9-5C55-4B87-9C6F-FD79E11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D45-C048-4C35-8126-FD6BE7C8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DD3C-F58F-4B47-8718-2894F048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D5A6-2122-4D2B-B75F-DDFE0AAB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EEA5-2464-4D96-B3D9-A1368C53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590C-8B0E-4BE4-A7B4-D1E8C34A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7656-5149-4A36-9841-4CC27FDA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DFF-5DCF-422D-91EB-7EBA7FAB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EAE-49E9-4B98-BBB4-10E3129F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959-BE26-4FF8-B429-D2DA121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C9B-1B0E-4D59-A20C-DC194FD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056-E37B-420F-AB49-678B190E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4AC-58EF-4DAA-95DE-A7AEC142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4AA-5CAF-498B-B78B-CEBF813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11F3-7B39-49C4-A91F-81D675F03A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7D0A-18AE-4D5A-96B8-6594B5F7DC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Scan1.PDF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&#1055;&#1086;&#1103;&#1089;&#1085;&#1080;&#1090;&#1077;&#1083;&#1100;&#1085;&#1072;&#1103;%20&#1079;&#1072;&#1087;&#1080;&#1089;&#1082;&#1072;%20&#1082;%20&#1054;&#1055;&#1054;&#1055;.doc" TargetMode="External"/><Relationship Id="rId5" Type="http://schemas.openxmlformats.org/officeDocument/2006/relationships/image" Target="../media/image4.png"/><Relationship Id="rId6" Type="http://schemas.openxmlformats.org/officeDocument/2006/relationships/hyperlink" Target="file:///&#1056;&#1059;&#1055;%20&#1052;&#1040;&#1057;&#1058;&#1045;&#1056;%20&#1062;&#1048;%2020.05.2011.xls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&#1056;&#1077;&#1082;&#1086;&#1084;&#1077;&#1085;&#1076;&#1072;&#1094;&#1080;&#1080;-&#1052;&#1054;&#1053;-2007.doc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&#1053;&#1086;&#1074;&#1099;&#1077;%20&#1088;&#1077;&#1082;&#1086;&#1084;&#1077;&#1085;&#1076;&#1072;&#1094;&#1080;&#1080;%20&#1060;&#1048;&#1056;&#1054;%20&#1087;&#1086;%20&#1054;&#1044;.doc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&#1056;&#1072;&#1089;&#1095;&#1077;&#1090;%20&#1095;&#1072;&#1089;&#1086;&#1074;.xls" TargetMode="External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hyperlink" Target="file:///&#1041;&#1102;&#1076;&#1078;&#1077;&#1090;%20&#1074;&#1088;&#1077;&#1084;&#1077;&#1085;&#1080;.doc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055;&#1077;&#1088;&#1077;&#1095;&#1077;&#1085;&#1100;%20&#1082;&#1072;&#1073;&#1080;&#1085;&#1077;&#1090;&#1086;&#1074;.doc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8;&#1086;&#1075;&#1088;&#1072;&#1084;&#1084;&#1072;%20%20&#1054;&#1089;&#1085;&#1086;&#1074;&#1099;%20&#1080;&#1085;&#1092;&#1086;&#1088;&#1084;&#1072;&#1094;&#1080;&#1086;&#1085;&#1085;&#1099;&#1093;%20&#1090;&#1077;&#1093;&#1085;&#1086;&#1083;&#1086;&#1075;&#1080;&#1081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55;&#1086;&#1091;&#1088;&#1086;&#1095;&#1085;&#1086;&#1077;%20&#1087;&#1083;&#1072;&#1085;&#1080;&#1088;&#1086;&#1074;&#1072;&#1085;&#1080;&#1077;%20&#1087;&#1086;%20&#1054;&#1048;&#1058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55;&#1088;&#1086;&#1075;&#1088;&#1072;&#1084;&#1084;&#1072;%20&#1055;&#1052;1%20&#1042;&#1074;&#1086;&#1076;%20&#1080;%20&#1086;&#1073;&#1088;&#1072;&#1073;&#1086;&#1090;&#1082;&#1072;%20&#1062;&#1048;.doc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тодическое обеспечение ОПОП в соответствии с требованиями ФГОС НП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848360" cy="16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С.Новиков - заместитель директора по УП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У НПО ЯО ПЛ №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Ярослав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Титульный лист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Пояснительная записка к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Учебный 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(рекомендации МОН от 29.05.2007г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(рекомендации ФИРО№ 1 от 03 февраля 2011 г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2"/>
              </a:rPr>
              <a:t>(профили НП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учебного проц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5"/>
              </a:rPr>
              <a:t>Сводные данные по бюджету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7"/>
              </a:rPr>
              <a:t>Перечень кабинетов, мастерских и пр.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Программы учебных дисциплин (ОД, ОП, ФК, БЖ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Программы профессиональных моду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дура и содержание И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ическое сопровождение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ОД и О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моду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работа обучаю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ормативно-правовое и учебно-методическое обеспечение образовательного процесса в условиях введения нового ФГОС НПО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8:56:14Z</dcterms:created>
  <dc:creator>Admin</dc:creator>
  <dc:description/>
  <dc:language>en-US</dc:language>
  <cp:lastModifiedBy>Admin</cp:lastModifiedBy>
  <dcterms:modified xsi:type="dcterms:W3CDTF">2011-11-30T12:15:24Z</dcterms:modified>
  <cp:revision>9</cp:revision>
  <dc:subject/>
  <dc:title>Учебно-методическое обеспечение ОПОП в соответствии с требованиями ФГОС НПО</dc:title>
</cp:coreProperties>
</file>