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5FA-9032-4269-80C1-69081BED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C2F-6608-415D-B311-F53E13B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DB0-3ECA-46B1-9F95-683D77C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A11-F8AB-4E31-853B-BDDA7549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6D0-B4EB-4066-BD6C-CBBA0DCD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2A7-B328-4DCD-8EC6-3AE90F9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3A6C-63E6-4C25-B710-DC16E08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96F-9EEA-4C58-B960-AEBF0541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03C3-AC1B-4122-8A42-5EDE845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F08F-76BF-445F-99C8-F874F32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EBED-F19A-40D0-A1AA-CE8DF56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52C-47C0-4595-98F0-01F1761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9BB9-59F2-43F6-AE99-6149E2D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8780-C7E9-4FCA-9466-245F1E9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3713-612A-4542-A185-942939B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22D-9E68-44A1-B913-0396089B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B5D8-497A-4D7D-86E1-01D6753F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942F-5986-43D6-8EEC-04D8C47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A39B-A805-4AAC-8E28-828F8679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523F-213E-457C-B797-79AA540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B25E-BBF9-412B-9108-22BDF19F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A25C-E394-458F-9D34-59AF561F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B02-B459-408B-A99F-62FE26E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74CA-1F61-469E-AE68-F116FF55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A95C-A019-4675-84A2-9105DDF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AACD-3E82-468E-8E8F-C0051DA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CA67-7D2A-478E-B712-CE696BF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A158-6EBE-47F8-92F5-E46E357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507B1-32F8-4208-ACE1-CB34E6C3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D0A1-7B24-425B-8576-C529857D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A90E-67B4-4966-BFC1-5579CC7E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0755-A2E5-4456-85B1-0AEE8A2E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ED46-7999-4CF2-915B-4128C47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6DB-9AA8-4C0B-A471-A9058D3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24FF-6270-40AE-9DD2-DDA9672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1B27-377C-42FA-BB2B-979F1FD7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1283-0BAB-41EC-BBE6-D3506AD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0499-0F69-4423-9C0A-7D7A3D3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78D3-2A47-43EF-9286-62C356E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4923-853D-4A85-A4AF-54321711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BA72-018C-4AEE-B93C-5EDA194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3796-79A4-46AA-92AC-6FAA57BB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C221-46C1-4DF5-A73B-B2E9C35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B0F-DCED-4503-A637-F918D4E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3A7-38DA-4EB3-BDC0-42248B5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E0B-458D-4A51-98BD-6B8C1B81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A63-AB10-459B-8F20-0771601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7AF-CD56-46E9-811E-5212126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612-5A81-4802-BA3A-2A14443090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4BA-20E7-4097-B65E-26436A86C55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D666-AAA5-44CF-938B-44C50377E7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ABF-B789-45C1-98CA-2EDC24F67E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86;&#1075;&#1088;&#1072;&#1084;&#1084;&#1084;&#1072;%20&#1087;&#1086;%20&#1087;&#1088;&#1072;&#1082;&#1090;&#1080;&#1082;&#1077;%20&#1055;&#1053;&#1050;%20&#1087;&#1086;%20&#1060;&#1043;&#1054;&#1057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2"/>
          <a:stretch/>
        </p:blipFill>
        <p:spPr>
          <a:xfrm>
            <a:off x="378000" y="1859040"/>
            <a:ext cx="8461080" cy="42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480" y="542880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ласова Светлана Александровн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аведующая профессиональной практикой студе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00040" y="928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ЯО Ростов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Документы, регламентирующие порядок организации и проведения практ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РФ «Об образован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П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чие учебные план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ожение об учебной и производственной практике студентов (курсантов), осваивающих ОПОП СПО, утвержденное приказом Минобрнауки от 26 ноября 2009г. №673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профессиональной практике студентов по специальностям СПО (Минобразование России, 03.03.2003 г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иды профессиональной практи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ебная практи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изводственная практика (практика по профилю специальности и преддипломная практик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тодологические подходы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организации профессиональной практики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286080"/>
            <a:ext cx="82296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льтурологически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тност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нципы организации профессиональной прак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ем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ч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функциона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гра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выбора и ответ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связь теоретического обучения и прак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блемность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Структура рабочей программы прак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СПОРТ РАБОЧЕЙ ПРОГРАММ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ЗУЛЬТАТЫ ПРОХОЖДЕН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ТРУКТУРА И ПРИМЕРНОЕ СОДЕРЖА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СЛОВИЯ РЕАЛИЗАЦИИ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И ОЦЕНКА РЕЗУЛЬТАТОВ ОСВОЕНИЯ ПРАК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КОНТРОЛЬ И ОЦЕНКА РЕЗУЛЬТАТОВ ОСВОЕНИЯ</a:t>
            </a:r>
            <a:br>
              <a:rPr sz="30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 ПРОФЕССИОНАЛЬНОЙ ДЕЯТЕЛЬНОСТИ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2920" y="1714680"/>
          <a:ext cx="8786880" cy="4876560"/>
        </p:xfrm>
        <a:graphic>
          <a:graphicData uri="http://schemas.openxmlformats.org/drawingml/2006/table">
            <a:tbl>
              <a:tblPr/>
              <a:tblGrid>
                <a:gridCol w="612720"/>
                <a:gridCol w="2070000"/>
                <a:gridCol w="2616480"/>
                <a:gridCol w="348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д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Наименование результат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ПК и показатели сформирова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Формы и методы контроля и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пределять цели и задачи, план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Информацион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Проектировоч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проверка конспектов уроков на педагогической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защита, подобранных форм и методов обучения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роводи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рганизаторск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наблюдение и анализ проведения уроков в ходе педагогическо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ализ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 Анализ и самоанализ деятель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2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экспертная оценка представленного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одсистемы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профессиональной практик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рганиз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одическое обеспече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териально-техническое обеспечение прак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аз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четная документ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работы субъектов и объектов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ческий фактор профессиональной пра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Базовый набор контрольно-измерительных парамет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2928960"/>
          <a:ext cx="8229600" cy="3044880"/>
        </p:xfrm>
        <a:graphic>
          <a:graphicData uri="http://schemas.openxmlformats.org/drawingml/2006/table">
            <a:tbl>
              <a:tblPr/>
              <a:tblGrid>
                <a:gridCol w="542880"/>
                <a:gridCol w="6072120"/>
                <a:gridCol w="16146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нтролируемые элемен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Оценка экспер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ий план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о проведению профессиональной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индивидуальных заданий на практику и т.п..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428760" y="1860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 практи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 № _______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18:29Z</dcterms:created>
  <dc:creator>1</dc:creator>
  <dc:description/>
  <dc:language>en-US</dc:language>
  <cp:lastModifiedBy>ASUS</cp:lastModifiedBy>
  <dcterms:modified xsi:type="dcterms:W3CDTF">2011-12-01T10:20:20Z</dcterms:modified>
  <cp:revision>49</cp:revision>
  <dc:subject/>
  <dc:title>СОВЕРШЕНСТВОВАНИЕ КАЧЕСТВА ПОДГОТОВКИ СПЕЦИАЛИСТОВ  В ПРОЦЕССЕ ОРГАНИЗАЦИИ ПРОФЕССИОНАЛЬНОЙ ПРАКТИКИ</dc:title>
</cp:coreProperties>
</file>