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B4B-63C9-4AC3-9F75-F39AC8E1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5A7-F1A4-46EB-A954-254A905F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AA-0B7E-4FDA-8510-B9EC41F5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44E-108B-4981-A719-D7943FB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DFA-7532-491B-9396-BA3A87C2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6775-5266-4AA6-858C-FB2C2199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367-B695-45DE-9E66-C3600FB5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E83-73D6-4CAF-951E-24BAB54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76BF-81F6-4750-947B-4218472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4C2-FC67-41B7-A3F7-84D002A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620-DCFF-4880-A4B2-3106231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E79-C8F5-4959-81C7-85FA20AC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AAAF-A817-46B0-A63B-0E0048D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825D-D909-4DB8-A523-1011E73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B514-C191-44D5-9E5E-2583941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B61-EB20-4697-A5B4-E414DE93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53D1-61F8-4F87-AC43-AB5506F8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713-9904-4CB3-AD8C-053925C0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85E-B9DF-43E0-88E2-46B6DBDB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4AF-2C2C-4C64-9297-1051B80A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0AB-002B-4772-A821-59BDBEA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F8E-43D6-4824-A476-9EB84F4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B99-E2F0-4A66-9C3A-3A8C6CC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8B3-F21F-4D53-B67A-4AC8811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6CCF-56C4-4059-82F1-14119E6D24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5CF-F777-4925-AF89-F9C76CDBC76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ЕДАГОГИЧЕСКИЙ ИНСТРУМЕНТАРИЙ </a:t>
            </a:r>
            <a:br>
              <a:rPr sz="3000"/>
            </a:b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ФОРМИРОВАНИЯ И ДИАГНОСТИКИ ОБЩИХ КОМПЕТЕНЦИЙ: опыт и перспективы работы лицея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30481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уева Марина Лео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меститель директор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У НПО ЯО ПЛ №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.п.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56386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ГОУ НПО ЯО профессиональный лицей № 7 20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8AA8B6-7262-4554-BF70-501DD92E46ED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066680" y="251460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40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агностиров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нгов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4191120" y="3429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 –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– скорее нет, чем д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– не зна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– скорее да, чем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 – 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B81E96-6E38-462A-8AE7-885C29B06DE9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914400" y="22096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процеду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варительный инструкт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ависимость экспер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ограниченности по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перты при повторной диагностике те ж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одичность – не чаще 1 раза в год, период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BB54B-7233-48D1-81EA-F3B25D335F31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914400" y="24382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ализ собранных данных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дные таблиц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тистический критерий одноро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ый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9C1D8F-FA77-43FA-8355-054C4A783C05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838080" y="1665360"/>
          <a:ext cx="7077240" cy="51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65360"/>
                    <a:ext cx="7077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ческая карта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434340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у положено соотнесение типа педагогического процесса и образовательного результата (В.В.Юди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228600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ровни компетентности по В.В.Юд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аль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ормальное применение известных способов действий: методик, технологий, способов, алгоритмов (иногда по прямому на них указани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осознанные выбор и  применение  способов дей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ворческ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сознанные выбор, применение и адаптация способов действий в нестандартн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ъект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йствия основанные на возможности само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2590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ализация ОК ФГОС НПО по уровн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гнитивном и поведенческом аспект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ценностно-смысловом, мотивационном и эмоционально-волевом аспект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леживание эффективности педагогической системы О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статистических критериев для сравнения входных, промежуточных и итоговых результатов в формировании 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едагогические средства (педагогический инструментарий) 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вокупность компонентов, позволяющих управлять педагогическим процессом, воздействовать на образовательный результа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ы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методика, содержание дисциплины, методы, приемы обучения, формы организации познавательной деятельности, средства обучения (в узком смысле), задача, упражнение, пример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снование для выбора инструментария: направленность на активную субъектную деятельность учащихся, комплекс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ого обучения Е.Л.Мельник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КМЧ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рной работы и работы в малых групп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льная технология В.В.Гузе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ри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ы с понятиями, таблицами, задач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ципы выбора и использования педагогических средст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омпетентностной направл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истем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реализации педагогического инструмента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нцип вариативности и сопряж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69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аблица эффективности выбранных педагогических сред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руирование комплекса педагогических средств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й технологией в основ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одействие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зм реализации комплекса педагогически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Дополнительный курс «Учись учиться» в 1 семестре в рамках выбранны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Проведение внеаудиторных мероприятий в рамка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Системная реализация технологий в рамках ОД, СД, ПМ, внеаудиторной раб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мках ПМ, ЭК, Г(И)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Д, СД, внеаудиторных мероприят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8CEF77-571B-48E7-9BCB-35737CF3B2A9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066680" y="243828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кспертной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ценка надпрофессиональных компетен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ятельность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мастера и преподаватели группы (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</cp:lastModifiedBy>
  <dcterms:modified xsi:type="dcterms:W3CDTF">2011-11-30T18:34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