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DEB-3808-4008-B71C-D85408E6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7B1-8E0B-4767-B9F4-3B44E113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1EC-A355-418E-B575-F657E3E0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9A0-5EB4-491A-B65D-EAACC33B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EEFB-ED19-401D-81D0-95839BF4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A03F-18B5-46C4-B2AD-B7B217F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5EB-D423-43F4-A5FC-8BD65BD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3B1F-2A2A-4534-90CE-7BEABD7E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235-914F-41F7-9D4D-9F115BB6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6E38-BB38-4DC9-ADAE-93552BAD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4F9D-AABE-4899-8FE9-0E98675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74F-0101-4B55-842A-8578E89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A264-E70C-4D0A-B945-DDE3DEED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9C5F-BEB8-4426-B99D-3A934C0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C8E7-D2FD-4EF4-9615-19D68F0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C630-5874-47A9-83BF-40A71CDD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A7D1-B7DD-4D66-81B4-E7B3CD1B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569-2132-40CC-BAA6-B5859CB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424-FAFE-4318-AC1A-72D477AA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1A6-86B4-4DB4-9E30-8EDBA35A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2AC-E219-486C-850F-50287653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740-BD90-4ABF-AE94-9BE933A3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16A-6A27-4FD2-AA8B-AFE46200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9FB-CBBD-4906-8C88-AFEE608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49B1-72F8-496A-AAEC-64ECDF2F46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7FB-944D-416C-8A9F-2D89BD68A7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8;&#1077;&#1084;&#1072;%20&#1051;&#1077;&#1082;&#1089;&#1080;&#1082;&#1072;%2010%20&#1082;&#1083;&#1072;&#1089;&#1089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4;&#1073;&#1103;&#1079;&#1072;&#1090;&#1077;&#1083;&#1100;&#1085;&#1099;&#1077;%20&#1088;&#1077;&#1079;&#1091;&#1083;&#1100;&#1090;&#1072;&#1090;&#1099;%20&#1086;&#1073;&#1091;&#1095;&#1077;&#1085;&#1080;&#1103;%20&#1087;&#1086;%20&#1090;&#1077;&#1084;&#1077;.doc" TargetMode="External"/><Relationship Id="rId2" Type="http://schemas.openxmlformats.org/officeDocument/2006/relationships/hyperlink" Target="file:///&#1059;&#1088;&#1086;&#1082;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9;&#1072;&#1084;&#1086;&#1082;&#1086;&#1085;&#1090;&#1088;&#1086;&#1083;&#1103;%20&#1080;%20&#1089;&#1072;&#1084;&#1086;&#1086;&#1094;&#1077;&#1085;&#1082;&#1080;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846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ндивидуальная 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деятельность учащихся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на уроках русского язык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32000" y="2997360"/>
            <a:ext cx="378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У Великосельская средняя общеобразовательная школ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Учитель: Ильичева Е. 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Необходимые условия индивидуаль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бразовательный процесс – субъект-субъектное взаимодейств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своение знаний – средство развития способност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вобода выбора цели, содержания, способов уч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читель – организатор процесса учения, консультант, старший товари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редства учеб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2355840"/>
          <a:ext cx="7777080" cy="40971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адиционны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новационны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бник, дидактические материалы, справочник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грамма действий </a:t>
                      </a: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1"/>
                        </a:rPr>
                        <a:t>(технологическая карта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глядные пособ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редства субъективизации, антиципация, самоконтроль и самооценк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бная техник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формационные техноло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Учебные эле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Знакомство с темой (модулем), задачами темы,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ОР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Постановка индивидуальных целей и задач на каждом уро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Входной контроль знаний и умений, необходимых для освоения т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Целевая программа действ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ополнительный материал, альтернативные учебные действия, формы работы и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Рефлексия (оценка достигнутых результатов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ифференцированное домашнее зад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оказатели индивидуальной деятельности на уро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еятельность учащихся мотивированная, целенаправленна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Создание ситуации выбо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Это процесс саморазвития, самореализации учени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Поэтапная рефлекс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Активная и эффективная учебно-познавательная деятель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Индивидуализация контроля, самоконтроля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, коррекции, консультирования, степени самосто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Формирование познавательной самостоятельности шк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оказатели эффективности индивидуаль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сознанная постановка учебных целей, выбор пути освоения материала, домашнего зад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Умение работать с различными источниками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овышение мотивации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родвижение на более высокий уровень обучения (углублённое изуче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своение структуры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овышение уровня успеваем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22760" cy="589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4653000"/>
            <a:ext cx="71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Arial"/>
              </a:rPr>
              <a:t>С началом нового учебного года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05:54Z</dcterms:created>
  <dc:creator>1</dc:creator>
  <dc:description/>
  <dc:language>en-US</dc:language>
  <cp:lastModifiedBy>Елена</cp:lastModifiedBy>
  <dcterms:modified xsi:type="dcterms:W3CDTF">2010-08-24T15:40:29Z</dcterms:modified>
  <cp:revision>24</cp:revision>
  <dc:subject/>
  <dc:title>Средства индивидуальной  деятельности учащихся на различных этапах учебного занятия</dc:title>
</cp:coreProperties>
</file>