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B5B-631D-474F-B437-0C660350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6DC-82D8-4A86-A3E8-F757C837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3031-9CE0-43CE-895C-AAFB08A2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CAA-56A2-4CBE-B62E-A119F0C6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9C34-68BC-4D62-911B-E0A95DA8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472A-B9E7-42AE-8E2D-A0F5C73F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4F96-88FF-46FC-81D7-046D1B4B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76BF-B2D5-467C-B975-EDB13B3D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36AD-7684-42E7-AF42-499C31B8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31B9-82F6-456F-8BD4-DA8A47A3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5DA7-3F5B-4DCE-A66C-14E65EDB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962-D47B-4BB8-99B6-F37214C6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C302-8F6A-4562-89F8-ACADB779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3C56-3963-49E9-8AB0-543B4633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BC21-3EF0-46C2-A1F5-8922F5E9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F56E-11BB-47B0-9E4B-25637F36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D42C-7F90-490E-BFC0-30715247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001AE-02E0-4ED1-ADEE-4B26F59B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5263E-D086-47AC-A7BC-11494D07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063A9-056A-4081-BADC-EA77B409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ED801-D80E-4230-9697-795934CC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8671E-AB66-4371-808B-FF74756E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FC85-6DDB-4C04-ABE4-5AC9339D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145F8-3254-4DB2-9B7F-3126A38B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78A99-9429-486F-B4D1-39DA4488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CB7AD-FFA0-4684-BC8A-C3368676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4E963-6422-4E8E-8E20-FAC2758C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E3EDD-3090-413A-8D9B-A8D76CEA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89DC9-55CF-4329-B691-69AADA98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CD11F-BD76-45FB-9F00-684087E7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84399-6445-43FE-AEFF-7E47C31A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7DA5-EC9E-4B33-916B-7FC45FF5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76510-2300-4CEF-9662-F1878308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2B5-362F-4D4C-A229-00900EDD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2738D-F859-45F5-865C-A39EF2EC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EFEF-4188-4CE8-985A-1DB77430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31E89-1132-43E4-B9C1-734F4E34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58D55-5F56-4FA9-99CC-E2CF40F9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923BB-2B74-4A85-9922-99BA3B91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EEBCA-3F1E-4B85-81EE-DCA951D3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F4CDC-52BD-42CD-AAA2-A04DD26B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6E7EC-58DB-4A3C-A077-EC41BF0A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E2A36-AE8B-480C-8F78-08438AEF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E3C0A-12A9-4736-A717-4BB3D17D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C4A-654F-4E52-95F2-16EF66A5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55F6A-D42E-4C35-9123-032F16B6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255DF-D39C-4E38-A088-F4EB026A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C0CE5-EE5B-4A36-A1FF-B4CF67AD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592FE-F802-4AE0-8834-69FDF059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712C4-67D1-4BA7-82A1-49B51CAC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D9367-CE02-4D08-BF8F-AF20BC37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327A7-10F4-465C-B3FF-C3ECDE6F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23AFC-C978-4E37-A7F1-2F26426F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94061C-18F0-41F6-9077-CBC0485D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E8FD8-7DF5-4041-8499-71EF0B3A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230-2976-4EF4-A4B0-2367611D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8C260-5765-4305-A0EB-D2CC5233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E2D34A-C482-4522-8F9D-605E08E2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88C2B-9220-4CC3-B457-05DFF4BF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B15E8F-F553-43C9-B71D-BC374848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F7074-50E1-4038-B2DB-3C9C76EB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B463A-1624-4E65-92B1-5E926AB8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A4560-D71F-4570-AF4E-C3864583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E77161-D735-4E17-B0E1-60BACD71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39003-9108-4F15-8FDB-57DC1E05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E2318B-6DDB-463C-9ED5-6BBB8EF2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050-2310-4861-A645-C84563F7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5BF499-B432-42E0-A273-957EA3E1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2019AC-6433-4A81-A7F1-4F7A617D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649AB-F64F-4B68-92B4-F21397CB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F8AF16-9230-42A0-85A0-A2449723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9B570A-EC77-48ED-9085-6860FA5C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F256D-9C68-4D51-8C87-D41C9373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D9049-B631-4C26-9917-7F503AE6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C00029-DF1D-434F-B5E3-D72B10AD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92537B-A954-475A-AD64-621B788B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2E1FA-0514-4A7C-9B15-37134825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352-A4F1-496B-9EAC-6DD936BD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6DB126-9B5F-47BC-A55E-4C060452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9F4AA2-4F4B-4146-A9F6-60DC8094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E3CC98-B21F-451C-9E24-8A469CB0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E1D2DB-FD4D-4DBE-89F9-6FC7806F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544A5-B1D4-4FFA-977F-FFB05890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AFB-11B8-4F86-812A-A36F6F03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CBF4-FC52-4C90-B90C-7BA4A67825E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6A0C-F3AF-4513-B1FB-2C70A3F6312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4F91-9F58-4C71-BE69-F81E7E2406A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41DC-C27C-42CE-8285-D872CCF2E8E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49F8-7C96-49CE-B27E-F8FC0571FA2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1C30-7735-4B79-8CFF-EB3CDCAB290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7AE9-8EE6-4A9C-9AF6-F0008D15D88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48;&#1054;&#1052;%20&#1052;&#1072;&#1083;&#1086;&#1074;&#1086;&#1081;%20&#1070;&#1083;&#1080;.doc" TargetMode="External"/><Relationship Id="rId2" Type="http://schemas.openxmlformats.org/officeDocument/2006/relationships/hyperlink" Target="file:///&#1048;&#1054;&#1052;%20&#1052;&#1072;&#1083;&#1086;&#1074;&#1086;&#1081;%20&#1070;&#1083;&#1080;.doc" TargetMode="External"/><Relationship Id="rId3" Type="http://schemas.openxmlformats.org/officeDocument/2006/relationships/hyperlink" Target="file:///&#1048;&#1054;&#1052;%20&#1052;&#1072;&#1083;&#1086;&#1074;&#1086;&#1081;%20&#1070;&#1083;&#1080;.doc" TargetMode="External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3640" y="571680"/>
            <a:ext cx="482436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en-US" sz="2800" spc="-1" strike="noStrike">
                <a:solidFill>
                  <a:srgbClr val="5a160b"/>
                </a:solidFill>
                <a:latin typeface="Century Schoolbook"/>
              </a:rPr>
              <a:t>ИНДИВИДУАЛЬНАЯ ОБРАЗОВАТЕЛЬНАЯ ДЕЯТЕЛЬНОСТЬ УЧАЩИХСЯ СТАРШИХ КЛАССОВ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6920" y="4500360"/>
            <a:ext cx="6172200" cy="18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583"/>
                </a:solidFill>
                <a:latin typeface="Century Schoolbook"/>
              </a:rPr>
              <a:t>Автор – классный руководитель 11 класса Махаева Любовь Борисо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IMG_9087"/>
          <p:cNvPicPr/>
          <p:nvPr/>
        </p:nvPicPr>
        <p:blipFill>
          <a:blip r:embed="rId1"/>
          <a:srcRect l="3643" t="9709" r="0" b="0"/>
          <a:stretch/>
        </p:blipFill>
        <p:spPr>
          <a:xfrm>
            <a:off x="5000760" y="714240"/>
            <a:ext cx="3781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62110"/>
                </a:solidFill>
                <a:latin typeface="Century Schoolbook"/>
              </a:rPr>
              <a:t>СПАСИБО </a:t>
            </a:r>
            <a:br>
              <a:rPr sz="4800"/>
            </a:br>
            <a:r>
              <a:rPr b="1" lang="en-US" sz="4800" spc="-1" strike="noStrike">
                <a:solidFill>
                  <a:srgbClr val="862110"/>
                </a:solidFill>
                <a:latin typeface="Century Schoolbook"/>
              </a:rPr>
              <a:t>ЗА ВНИМАНИЕ!</a:t>
            </a:r>
            <a:br>
              <a:rPr sz="48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ДИАГНОСТИЧЕСКАЯ ФУНКЦ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Учет интересов и склонностей обучающегос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Анализ сильных и слабых сторон личн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Анализ учебных достижений и возможносте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Готовность к профессиональному самоопределению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Определение заказа родителе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000080"/>
            <a:ext cx="746748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ФУНКЦИЯ </a:t>
            </a:r>
            <a:br>
              <a:rPr sz="4300"/>
            </a:br>
            <a:r>
              <a:rPr b="1" lang="en-US" sz="43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ПРОГНОЗИРОВАНИЯ</a:t>
            </a:r>
            <a:br>
              <a:rPr sz="4300"/>
            </a:br>
            <a:r>
              <a:rPr b="1" lang="en-US" sz="43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 И </a:t>
            </a:r>
            <a:br>
              <a:rPr sz="4300"/>
            </a:br>
            <a:r>
              <a:rPr b="1" lang="en-US" sz="43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ПРОЕКТИРОВАНИЯ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Овал 3"/>
          <p:cNvSpPr/>
          <p:nvPr/>
        </p:nvSpPr>
        <p:spPr>
          <a:xfrm>
            <a:off x="285840" y="285840"/>
            <a:ext cx="3429000" cy="171432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Определение последовательности сроков и средств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4"/>
          <p:cNvSpPr/>
          <p:nvPr/>
        </p:nvSpPr>
        <p:spPr>
          <a:xfrm>
            <a:off x="285840" y="2286000"/>
            <a:ext cx="3714840" cy="171468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Составление программы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5"/>
          <p:cNvSpPr/>
          <p:nvPr/>
        </p:nvSpPr>
        <p:spPr>
          <a:xfrm>
            <a:off x="500040" y="4429080"/>
            <a:ext cx="3500640" cy="200016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Выбор предметов для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6"/>
          <p:cNvSpPr/>
          <p:nvPr/>
        </p:nvSpPr>
        <p:spPr>
          <a:xfrm>
            <a:off x="5357880" y="285840"/>
            <a:ext cx="2928960" cy="1428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Индивидуальный образовательный маршр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7"/>
          <p:cNvSpPr/>
          <p:nvPr/>
        </p:nvSpPr>
        <p:spPr>
          <a:xfrm>
            <a:off x="5357880" y="2357280"/>
            <a:ext cx="2857320" cy="15004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Индивидуальная образователь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5429160" y="4500720"/>
            <a:ext cx="2714760" cy="15001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Индивидуальный учебный 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трелка вверх 9"/>
          <p:cNvSpPr/>
          <p:nvPr/>
        </p:nvSpPr>
        <p:spPr>
          <a:xfrm>
            <a:off x="2071800" y="3857760"/>
            <a:ext cx="412560" cy="64296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86211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трелка вверх 10"/>
          <p:cNvSpPr/>
          <p:nvPr/>
        </p:nvSpPr>
        <p:spPr>
          <a:xfrm>
            <a:off x="2000160" y="1928880"/>
            <a:ext cx="412920" cy="64296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86211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трелка вправо 11"/>
          <p:cNvSpPr/>
          <p:nvPr/>
        </p:nvSpPr>
        <p:spPr>
          <a:xfrm>
            <a:off x="3571920" y="642960"/>
            <a:ext cx="1928880" cy="6984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86211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констру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трелка вправо 13"/>
          <p:cNvSpPr/>
          <p:nvPr/>
        </p:nvSpPr>
        <p:spPr>
          <a:xfrm>
            <a:off x="3500280" y="4929120"/>
            <a:ext cx="2143440" cy="7858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86211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прогноз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трелка вправо 14"/>
          <p:cNvSpPr/>
          <p:nvPr/>
        </p:nvSpPr>
        <p:spPr>
          <a:xfrm>
            <a:off x="3500280" y="2786040"/>
            <a:ext cx="2071800" cy="627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86211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проект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7758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/>
              </a:rPr>
              <a:t>ИНДИВИДУАЛЬНЫЙ ОБРАЗОВАТЕЛЬНЫЙ</a:t>
            </a:r>
            <a:r>
              <a:rPr b="0" lang="en-US" sz="4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2"/>
              </a:rPr>
              <a:t> маршрут</a:t>
            </a:r>
            <a:r>
              <a:rPr b="0" lang="en-US" sz="4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3"/>
              </a:rPr>
              <a:t> ОБУЧАЮЩЕГОСЯ 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6211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862110"/>
                </a:solidFill>
                <a:latin typeface="Century Schoolbook"/>
              </a:rPr>
              <a:t>РОДИТЕЛИ -</a:t>
            </a:r>
            <a:r>
              <a:rPr b="1" lang="en-US" sz="36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862110"/>
                </a:solidFill>
                <a:latin typeface="Century Schoolbook"/>
              </a:rPr>
              <a:t>УЧАСТНИКИ ПРОГРАММ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928520"/>
            <a:ext cx="74674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точнение будущей профессии, учебного заведения(ВУЗ, СУЗ, П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Знакомство с  рынком профессий Ярославской об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точнение предметов, требующих углуб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Знакомство с уровнем возможностей и уровнем обученности по каждому предмету, с рекомендациями для успешности достижения це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онсультирование по составлению индивидуальной 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2110"/>
                </a:solidFill>
                <a:latin typeface="Century Schoolbook"/>
              </a:rPr>
              <a:t>РАЗВИВАЮЩАЯ ФУНКЦ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Оказывать помощь и поддержку ученику 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физическом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психическом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социально-личностном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духовно-нравственном воспитании и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трудовом воспитании и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IMG_7916"/>
          <p:cNvPicPr/>
          <p:nvPr/>
        </p:nvPicPr>
        <p:blipFill>
          <a:blip r:embed="rId1"/>
          <a:stretch/>
        </p:blipFill>
        <p:spPr>
          <a:xfrm>
            <a:off x="755640" y="141300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374" name="Заголовок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2110"/>
                </a:solidFill>
                <a:latin typeface="Arial"/>
              </a:rPr>
              <a:t>Победители конкурсов и олимпи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862110"/>
                </a:solidFill>
                <a:latin typeface="Century Schoolbook"/>
              </a:rPr>
              <a:t>КООРДИНАЦИОННАЯ</a:t>
            </a:r>
            <a:r>
              <a:rPr b="0" lang="en-US" sz="40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1" lang="en-US" sz="4000" spc="-1" strike="noStrike">
                <a:solidFill>
                  <a:srgbClr val="862110"/>
                </a:solidFill>
                <a:latin typeface="Century Schoolbook"/>
              </a:rPr>
              <a:t>ФУНКЦ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928520"/>
            <a:ext cx="74674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Классный руководитель организует встречи с учителями-предметниками, психологом школы, социальными партнёрами, специалистами в системе дополнительного образования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7:35:57Z</dcterms:created>
  <dc:creator>UserN</dc:creator>
  <dc:description/>
  <dc:language>en-US</dc:language>
  <cp:lastModifiedBy>usv</cp:lastModifiedBy>
  <dcterms:modified xsi:type="dcterms:W3CDTF">2010-09-01T07:28:34Z</dcterms:modified>
  <cp:revision>16</cp:revision>
  <dc:subject/>
  <dc:title>         Роль классного руководителя  в психолого-педагогическом сопровождении учащихся старших  классов  </dc:title>
</cp:coreProperties>
</file>