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D9DC1-FCC6-44A8-996F-99CF0A98A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2297E-9D0A-4DCA-924A-2C395FD68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8BE1C-9AFD-4A9E-8FD5-5E1E32760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78BC5-DDA3-43FD-B8D7-A58439E7F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2CC69-6AC7-4FDC-A867-C32670208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C3C59-15C5-4FD2-B5FD-AD700F1A3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99D87-FD74-45EF-AE39-A005B1F74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8B78A-7AA6-4112-BE75-A42E672AB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CE419-B7F8-4E0D-9C91-08C02DE64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E342B-63C5-4DB7-A500-6134A3D06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44D00-06AE-42F5-83A4-EB1C9F9B0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76A38-2789-470C-9C7F-08F6F9B5D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0803D-D6A3-4442-A2BF-BD4D017AA4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4.xml"/><Relationship Id="rId3" Type="http://schemas.openxmlformats.org/officeDocument/2006/relationships/slide" Target="slide4.xm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/&#1055;&#1086;&#1083;&#1086;&#1078;&#1077;&#1085;&#1080;&#1077;%20&#1086;%20&#1090;&#1074;&#1086;&#1088;&#1095;&#1077;&#1089;&#1082;&#1086;&#1081;%20&#1075;&#1088;&#1091;&#1087;&#1087;&#1077;-&#1086;&#1088;&#1080;&#1075;&#1080;&#1085;&#1072;&#1083;.doc" TargetMode="External"/><Relationship Id="rId2" Type="http://schemas.openxmlformats.org/officeDocument/2006/relationships/slide" Target="slide11.xml"/><Relationship Id="rId3" Type="http://schemas.openxmlformats.org/officeDocument/2006/relationships/slide" Target="slide12.xm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О реализации муниципального проекта «Внедрение ИКТ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в учебный процесс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09120" y="4648320"/>
            <a:ext cx="80773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амута С.А., заведующая районным методическим кабинетом Управления образования Любимского М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5.08.2010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80880" y="457200"/>
            <a:ext cx="8382240" cy="5486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419720" y="304920"/>
            <a:ext cx="2971800" cy="5410080"/>
          </a:xfrm>
          <a:prstGeom prst="downArrow">
            <a:avLst>
              <a:gd name="adj1" fmla="val 50000"/>
              <a:gd name="adj2" fmla="val 45512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962520" y="533520"/>
            <a:ext cx="1600200" cy="609480"/>
          </a:xfrm>
          <a:prstGeom prst="rect">
            <a:avLst/>
          </a:prstGeom>
          <a:solidFill>
            <a:srgbClr val="66d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физ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24480" y="533520"/>
            <a:ext cx="1600200" cy="533160"/>
          </a:xfrm>
          <a:prstGeom prst="rect">
            <a:avLst/>
          </a:prstGeom>
          <a:solidFill>
            <a:srgbClr val="66d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географ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57600" y="1371600"/>
            <a:ext cx="2209680" cy="990720"/>
          </a:xfrm>
          <a:prstGeom prst="rect">
            <a:avLst/>
          </a:prstGeom>
          <a:solidFill>
            <a:srgbClr val="66d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Группа педагог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 челове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в рамках М.О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886200" y="2971800"/>
            <a:ext cx="1371600" cy="609480"/>
          </a:xfrm>
          <a:prstGeom prst="rect">
            <a:avLst/>
          </a:prstGeom>
          <a:solidFill>
            <a:srgbClr val="66d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 клас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172200" y="1371600"/>
            <a:ext cx="2057400" cy="1143000"/>
          </a:xfrm>
          <a:prstGeom prst="rect">
            <a:avLst/>
          </a:prstGeom>
          <a:solidFill>
            <a:srgbClr val="66d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Группа педагог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 челове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в рамках М.О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2743200"/>
            <a:ext cx="1828800" cy="990720"/>
          </a:xfrm>
          <a:prstGeom prst="rect">
            <a:avLst/>
          </a:prstGeom>
          <a:solidFill>
            <a:srgbClr val="66d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Тем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«Гидросфер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-9 класс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82680" y="457200"/>
            <a:ext cx="251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 Выбор предме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3400" y="1523880"/>
            <a:ext cx="307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 Формирование групп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514600" y="4648320"/>
            <a:ext cx="6324480" cy="1600200"/>
          </a:xfrm>
          <a:prstGeom prst="rect">
            <a:avLst/>
          </a:prstGeom>
          <a:solidFill>
            <a:srgbClr val="66d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Муниципальный банк дан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83760" y="2895480"/>
            <a:ext cx="271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 Выбор темы/клас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5200" y="4648320"/>
            <a:ext cx="178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 Результа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4572000"/>
            <a:ext cx="5334120" cy="1066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Единое  учебно-тематическое планиро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и технологические карты уро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33520" y="6095880"/>
            <a:ext cx="533160" cy="304920"/>
          </a:xfrm>
          <a:custGeom>
            <a:avLst/>
            <a:gdLst>
              <a:gd name="textAreaLeft" fmla="*/ 19440 w 533160"/>
              <a:gd name="textAreaRight" fmla="*/ 513720 w 5331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7749" h="21600">
                <a:moveTo>
                  <a:pt x="0" y="0"/>
                </a:moveTo>
                <a:lnTo>
                  <a:pt x="37749" y="0"/>
                </a:lnTo>
                <a:lnTo>
                  <a:pt x="37749" y="21600"/>
                </a:lnTo>
                <a:lnTo>
                  <a:pt x="0" y="21600"/>
                </a:lnTo>
                <a:close/>
              </a:path>
              <a:path fill="lightenLess" w="37749" h="21600">
                <a:moveTo>
                  <a:pt x="0" y="0"/>
                </a:moveTo>
                <a:lnTo>
                  <a:pt x="37749" y="0"/>
                </a:lnTo>
                <a:lnTo>
                  <a:pt x="36349" y="1400"/>
                </a:lnTo>
                <a:lnTo>
                  <a:pt x="1400" y="1400"/>
                </a:lnTo>
                <a:close/>
              </a:path>
              <a:path fill="darken" w="37749" h="21600">
                <a:moveTo>
                  <a:pt x="37749" y="0"/>
                </a:moveTo>
                <a:lnTo>
                  <a:pt x="37749" y="21600"/>
                </a:lnTo>
                <a:lnTo>
                  <a:pt x="36349" y="20200"/>
                </a:lnTo>
                <a:lnTo>
                  <a:pt x="36349" y="1400"/>
                </a:lnTo>
                <a:close/>
              </a:path>
              <a:path fill="darkenLess" w="37749" h="21600">
                <a:moveTo>
                  <a:pt x="377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49" y="20200"/>
                </a:lnTo>
                <a:close/>
              </a:path>
              <a:path fill="lighten" w="377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49" h="21600">
                <a:moveTo>
                  <a:pt x="11868" y="10800"/>
                </a:moveTo>
                <a:lnTo>
                  <a:pt x="25881" y="3794"/>
                </a:lnTo>
                <a:lnTo>
                  <a:pt x="2588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685440"/>
            <a:ext cx="82296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Тематический пла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380880" y="1371600"/>
          <a:ext cx="8382240" cy="2208240"/>
        </p:xfrm>
        <a:graphic>
          <a:graphicData uri="http://schemas.openxmlformats.org/drawingml/2006/table">
            <a:tbl>
              <a:tblPr/>
              <a:tblGrid>
                <a:gridCol w="1067040"/>
                <a:gridCol w="990360"/>
                <a:gridCol w="1828800"/>
                <a:gridCol w="1752840"/>
                <a:gridCol w="1523880"/>
                <a:gridCol w="1219320"/>
              </a:tblGrid>
              <a:tr h="168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№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рока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d0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ма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d0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ультиме-дийные 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МК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d0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тернет- 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сурсы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d0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гиона-льное храни-лище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d0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вои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те-риалы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7" name=""/>
          <p:cNvSpPr/>
          <p:nvPr/>
        </p:nvSpPr>
        <p:spPr>
          <a:xfrm>
            <a:off x="685440" y="3809880"/>
            <a:ext cx="232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Физика 7 кла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737520" y="4876920"/>
            <a:ext cx="390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еография «Гидросфер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8305920" y="5638680"/>
            <a:ext cx="304560" cy="30492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26">
                <a:moveTo>
                  <a:pt x="0" y="0"/>
                </a:moveTo>
                <a:lnTo>
                  <a:pt x="21600" y="0"/>
                </a:lnTo>
                <a:lnTo>
                  <a:pt x="21600" y="21626"/>
                </a:lnTo>
                <a:lnTo>
                  <a:pt x="0" y="21626"/>
                </a:lnTo>
                <a:close/>
              </a:path>
              <a:path fill="lightenLess" w="21600" h="2162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6">
                <a:moveTo>
                  <a:pt x="21600" y="0"/>
                </a:moveTo>
                <a:lnTo>
                  <a:pt x="21600" y="21626"/>
                </a:lnTo>
                <a:lnTo>
                  <a:pt x="20200" y="20226"/>
                </a:lnTo>
                <a:lnTo>
                  <a:pt x="20200" y="1400"/>
                </a:lnTo>
                <a:close/>
              </a:path>
              <a:path fill="darkenLess" w="21600" h="21626">
                <a:moveTo>
                  <a:pt x="21600" y="21626"/>
                </a:moveTo>
                <a:lnTo>
                  <a:pt x="0" y="21626"/>
                </a:lnTo>
                <a:lnTo>
                  <a:pt x="1400" y="20226"/>
                </a:lnTo>
                <a:lnTo>
                  <a:pt x="20200" y="20226"/>
                </a:lnTo>
                <a:close/>
              </a:path>
              <a:path fill="lighten" w="21600" h="21626">
                <a:moveTo>
                  <a:pt x="0" y="2162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6"/>
                </a:lnTo>
                <a:close/>
              </a:path>
              <a:path fill="darken" w="21600" h="21626">
                <a:moveTo>
                  <a:pt x="3794" y="10813"/>
                </a:moveTo>
                <a:lnTo>
                  <a:pt x="17806" y="3806"/>
                </a:lnTo>
                <a:lnTo>
                  <a:pt x="17806" y="17819"/>
                </a:lnTo>
                <a:close/>
              </a:path>
            </a:pathLst>
          </a:custGeom>
          <a:solidFill>
            <a:srgbClr val="66d0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Модель расчета эффективно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153280" cy="426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(научность, наглядность, доступность …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500" spc="-1" strike="noStrike">
                <a:solidFill>
                  <a:srgbClr val="cc0000"/>
                </a:solidFill>
                <a:latin typeface="Arial"/>
              </a:rPr>
              <a:t>Результа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cc0000"/>
                </a:solidFill>
                <a:latin typeface="Arial"/>
              </a:rPr>
              <a:t>____________________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500" spc="-1" strike="noStrike">
                <a:solidFill>
                  <a:srgbClr val="cc0000"/>
                </a:solidFill>
                <a:latin typeface="Arial"/>
              </a:rPr>
              <a:t>затраты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(временные, физические, материальные, …)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(планы уроков, дидактический материал и т.п.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О реализации муниципального проекта «Внедрение ИКТ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в учебный процесс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609120" y="4648320"/>
            <a:ext cx="80773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амута С.А., заведующая районным методическим кабинетом Управления образования Любимского М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5.08.2010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26600"/>
            <a:ext cx="822960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Структура деятельно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581280" y="1219320"/>
            <a:ext cx="1828800" cy="838080"/>
          </a:xfrm>
          <a:prstGeom prst="rect">
            <a:avLst/>
          </a:prstGeom>
          <a:solidFill>
            <a:srgbClr val="66d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Результа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581280" y="2819520"/>
            <a:ext cx="1828800" cy="990360"/>
          </a:xfrm>
          <a:prstGeom prst="rect">
            <a:avLst/>
          </a:prstGeom>
          <a:solidFill>
            <a:srgbClr val="66d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Учеб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деятель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581280" y="4648320"/>
            <a:ext cx="1828800" cy="914400"/>
          </a:xfrm>
          <a:prstGeom prst="rect">
            <a:avLst/>
          </a:prstGeom>
          <a:solidFill>
            <a:srgbClr val="66d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редств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обуч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495680" y="2057400"/>
            <a:ext cx="0" cy="762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95680" y="38098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304920" y="304920"/>
          <a:ext cx="8534160" cy="6275160"/>
        </p:xfrm>
        <a:graphic>
          <a:graphicData uri="http://schemas.openxmlformats.org/drawingml/2006/table">
            <a:tbl>
              <a:tblPr/>
              <a:tblGrid>
                <a:gridCol w="3200400"/>
                <a:gridCol w="1828800"/>
                <a:gridCol w="2181240"/>
                <a:gridCol w="1323720"/>
              </a:tblGrid>
              <a:tr h="67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дров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d0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териально-техническ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d0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формационно-методическ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d0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рганиза-ционн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d0f6"/>
                    </a:solidFill>
                  </a:tcPr>
                </a:tc>
              </a:tr>
              <a:tr h="560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ьюторов – 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дагогов – 1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179280" indent="3240"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ект ИСО (36 чел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179280" indent="3240"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учение для будущего    (67 чел)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179280" indent="3240"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артнерство в образовании (10 чел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179280" indent="3240"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" action="ppaction://hlinksldjump"/>
                        </a:rPr>
                        <a:t>«Современные </a:t>
                      </a:r>
                      <a:r>
                        <a:rPr b="0" lang="ru-RU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" action="ppaction://hlinksldjump"/>
                        </a:rPr>
                        <a:t>образо-вательные</a:t>
                      </a:r>
                      <a:r>
                        <a:rPr b="0" lang="ru-RU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" action="ppaction://hlinksldjump"/>
                        </a:rPr>
                        <a:t> технолог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179280" indent="324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179280" indent="324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Постоянно действующие семина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Использование ИК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Муниципальный проект по СОТ (9 школ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ентр И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МЦ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 комп., 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проектора, принтер-сканер, 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ноутбука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колы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дключение к Интернет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величение кол-ва компьютеров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зультаты по проекту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Современные образовательные технолог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тернет, коллекция цифровых образовательных ресурсов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лан меро-прият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51" name=""/>
          <p:cNvSpPr/>
          <p:nvPr/>
        </p:nvSpPr>
        <p:spPr>
          <a:xfrm>
            <a:off x="1676520" y="3886200"/>
            <a:ext cx="304560" cy="304920"/>
          </a:xfrm>
          <a:prstGeom prst="downArrow">
            <a:avLst>
              <a:gd name="adj1" fmla="val 50000"/>
              <a:gd name="adj2" fmla="val 25030"/>
            </a:avLst>
          </a:prstGeom>
          <a:solidFill>
            <a:srgbClr val="66d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овышение квалификац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995400" y="1771560"/>
          <a:ext cx="7307280" cy="4354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5400" y="1771560"/>
                    <a:ext cx="7307280" cy="435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8305920" y="5638680"/>
            <a:ext cx="304560" cy="30492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26">
                <a:moveTo>
                  <a:pt x="0" y="0"/>
                </a:moveTo>
                <a:lnTo>
                  <a:pt x="21600" y="0"/>
                </a:lnTo>
                <a:lnTo>
                  <a:pt x="21600" y="21626"/>
                </a:lnTo>
                <a:lnTo>
                  <a:pt x="0" y="21626"/>
                </a:lnTo>
                <a:close/>
              </a:path>
              <a:path fill="lightenLess" w="21600" h="2162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6">
                <a:moveTo>
                  <a:pt x="21600" y="0"/>
                </a:moveTo>
                <a:lnTo>
                  <a:pt x="21600" y="21626"/>
                </a:lnTo>
                <a:lnTo>
                  <a:pt x="20200" y="20226"/>
                </a:lnTo>
                <a:lnTo>
                  <a:pt x="20200" y="1400"/>
                </a:lnTo>
                <a:close/>
              </a:path>
              <a:path fill="darkenLess" w="21600" h="21626">
                <a:moveTo>
                  <a:pt x="21600" y="21626"/>
                </a:moveTo>
                <a:lnTo>
                  <a:pt x="0" y="21626"/>
                </a:lnTo>
                <a:lnTo>
                  <a:pt x="1400" y="20226"/>
                </a:lnTo>
                <a:lnTo>
                  <a:pt x="20200" y="20226"/>
                </a:lnTo>
                <a:close/>
              </a:path>
              <a:path fill="lighten" w="21600" h="21626">
                <a:moveTo>
                  <a:pt x="0" y="2162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6"/>
                </a:lnTo>
                <a:close/>
              </a:path>
              <a:path fill="darken" w="21600" h="21626">
                <a:moveTo>
                  <a:pt x="3794" y="10813"/>
                </a:moveTo>
                <a:lnTo>
                  <a:pt x="17806" y="3806"/>
                </a:lnTo>
                <a:lnTo>
                  <a:pt x="17806" y="17819"/>
                </a:lnTo>
                <a:close/>
              </a:path>
            </a:pathLst>
          </a:custGeom>
          <a:solidFill>
            <a:srgbClr val="66d0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380880" y="457200"/>
          <a:ext cx="8382240" cy="5562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457200"/>
                    <a:ext cx="8382240" cy="556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9" name="" descr=""/>
          <p:cNvPicPr/>
          <p:nvPr/>
        </p:nvPicPr>
        <p:blipFill>
          <a:blip r:embed="rId3"/>
          <a:srcRect l="46875" t="63543" r="25003" b="29168"/>
          <a:stretch/>
        </p:blipFill>
        <p:spPr>
          <a:xfrm>
            <a:off x="3505320" y="1676520"/>
            <a:ext cx="2743200" cy="3999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8153280" y="548640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66d0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457200" y="838080"/>
            <a:ext cx="8305920" cy="495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-22860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680040" y="1177920"/>
            <a:ext cx="8082720" cy="5055480"/>
            <a:chOff x="680040" y="1177920"/>
            <a:chExt cx="8082720" cy="5055480"/>
          </a:xfrm>
        </p:grpSpPr>
        <p:sp>
          <p:nvSpPr>
            <p:cNvPr id="64" name=""/>
            <p:cNvSpPr/>
            <p:nvPr/>
          </p:nvSpPr>
          <p:spPr>
            <a:xfrm>
              <a:off x="3674160" y="2675520"/>
              <a:ext cx="2294640" cy="561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Проектное обучение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(в т.ч. на основе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Intel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877760" y="2301480"/>
              <a:ext cx="1098000" cy="28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Дебат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767640" y="2675520"/>
              <a:ext cx="1595880" cy="46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РКЧМП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0040" y="2769480"/>
              <a:ext cx="1595880" cy="46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Разновозрастное обучени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777680" y="4172760"/>
              <a:ext cx="2294640" cy="56088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Бедаревская ООШ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802520" y="4964400"/>
              <a:ext cx="2294280" cy="5612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Булаковская ООШ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801080" y="5671080"/>
              <a:ext cx="2293200" cy="56232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Чёрновская ООШ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869080" y="4641840"/>
              <a:ext cx="2294280" cy="56088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Филипповская ООШ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170320" y="3518280"/>
              <a:ext cx="2294280" cy="5612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Любимская ООШ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468480" y="1458720"/>
              <a:ext cx="2294280" cy="5612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Закобякинская СОШ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973680" y="1365480"/>
              <a:ext cx="2294280" cy="56088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Ермаковская СОШ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378440" y="1177920"/>
              <a:ext cx="2294640" cy="561240"/>
            </a:xfrm>
            <a:prstGeom prst="ellipse">
              <a:avLst/>
            </a:prstGeom>
            <a:solidFill>
              <a:srgbClr val="ff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Любимская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СОШ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777680" y="3423960"/>
              <a:ext cx="2294640" cy="5630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Бармановская  ООШ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971240" y="1926720"/>
              <a:ext cx="720" cy="7488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274920" y="1645920"/>
              <a:ext cx="897480" cy="10292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975760" y="1739520"/>
              <a:ext cx="897120" cy="93600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476440" y="1739520"/>
              <a:ext cx="720" cy="56412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176920" y="1739520"/>
              <a:ext cx="1080" cy="56412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flipH="1">
              <a:off x="1378080" y="1645920"/>
              <a:ext cx="399240" cy="112320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076840" y="3237480"/>
              <a:ext cx="189720" cy="23796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478880" y="3237480"/>
              <a:ext cx="498960" cy="1050840"/>
            </a:xfrm>
            <a:prstGeom prst="line">
              <a:avLst/>
            </a:prstGeom>
            <a:ln w="381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179360" y="3237480"/>
              <a:ext cx="698400" cy="1892520"/>
            </a:xfrm>
            <a:prstGeom prst="line">
              <a:avLst/>
            </a:prstGeom>
            <a:ln w="381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80200" y="3237480"/>
              <a:ext cx="942840" cy="2652120"/>
            </a:xfrm>
            <a:prstGeom prst="line">
              <a:avLst/>
            </a:prstGeom>
            <a:ln w="381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>
              <a:off x="3763080" y="3237480"/>
              <a:ext cx="110160" cy="2804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>
              <a:off x="3896640" y="3237480"/>
              <a:ext cx="375840" cy="10508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>
              <a:off x="3929040" y="3237480"/>
              <a:ext cx="642600" cy="18720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 flipV="1">
              <a:off x="5569560" y="1977840"/>
              <a:ext cx="1488960" cy="6976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5469120" y="3237120"/>
              <a:ext cx="399240" cy="2804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 flipV="1">
              <a:off x="7066800" y="3143520"/>
              <a:ext cx="399240" cy="46800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665120" y="3143520"/>
              <a:ext cx="720" cy="152964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672080" y="3237480"/>
              <a:ext cx="1196640" cy="16844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665120" y="2019960"/>
              <a:ext cx="0" cy="65520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>
              <a:off x="3996360" y="3237480"/>
              <a:ext cx="675000" cy="26312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373920" y="1645920"/>
              <a:ext cx="3592440" cy="102924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хема реализации проек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394240" y="5638680"/>
            <a:ext cx="2149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504680" y="5791320"/>
            <a:ext cx="369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- - банк методических разработо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305920" y="6248520"/>
            <a:ext cx="304560" cy="30456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66d0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379600" y="716040"/>
            <a:ext cx="4230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Результа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19080" y="1771200"/>
            <a:ext cx="7537680" cy="421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Реализовано 15 проектов    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Издана брошюра с опытом работы Бармановской школы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Разработаны учебно-тематические планы и конспекты уроков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Выпуск диска «Образование в Любимском районе: опыт и перспективы развития» </a:t>
            </a: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(№ 53 от 11.08.2008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Цел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" y="1552320"/>
            <a:ext cx="8686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Стратегическая: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овышение эффективност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использования ИКТ в учебном процесс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28600" y="3809880"/>
            <a:ext cx="89154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Конкретная: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формирование информационно 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бразовательных ресурсов для учителе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географии и физ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лан работы на 2008, 2009 г. г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380880" y="1143000"/>
          <a:ext cx="8305920" cy="4876920"/>
        </p:xfrm>
        <a:graphic>
          <a:graphicData uri="http://schemas.openxmlformats.org/drawingml/2006/table">
            <a:tbl>
              <a:tblPr/>
              <a:tblGrid>
                <a:gridCol w="3505320"/>
                <a:gridCol w="4800600"/>
              </a:tblGrid>
              <a:tr h="419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роприятия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d0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жидаемые результаты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d0f6"/>
                    </a:solidFill>
                  </a:tcPr>
                </a:tc>
              </a:tr>
              <a:tr h="80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здание  творческих групп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"/>
                        </a:rPr>
                        <a:t>Положение</a:t>
                      </a:r>
                      <a:r>
                        <a:rPr b="0" lang="en-US" sz="21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о творческой группе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ворческие группы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1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седание рабочей группы, консультация научных руководителей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" action="ppaction://hlinksldjump"/>
                        </a:rPr>
                        <a:t>Учебно-тематический план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хнологическая карта урока:</a:t>
                      </a:r>
                      <a:r>
                        <a:rPr b="0" lang="en-US" sz="21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физика, география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" action="ppaction://hlinksldjump"/>
                        </a:rPr>
                        <a:t>Модель расчета эффективности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9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еминары-практикумы </a:t>
                      </a:r>
                      <a:br>
                        <a:rPr sz="2100"/>
                      </a:b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по предметам)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деофрагменты уроков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тодические рекомендации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акет документов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4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йонный и областной конкурс учебных проектов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ебные проекты (муниципальный банк данных)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Самута С.А.</cp:lastModifiedBy>
  <dcterms:modified xsi:type="dcterms:W3CDTF">2010-08-23T05:55:12Z</dcterms:modified>
  <cp:revision>10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