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FD6-95C6-4FA3-A33F-B4FDC258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D8D-38D3-4543-81A9-17963A0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76F-896F-47DB-BBA0-96FE2E14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4D7-7203-4431-8591-AEF17060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4D6F-CBE7-4111-BEC9-0A924FA6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49C0-501F-48E4-9E19-A4C877E4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2186-D9E0-4F1F-90BD-0CCB4BCB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F6ED-E3C5-4F31-9A33-603ABC3F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03D3-27CB-42B1-9BE2-176DF8BD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D159-11D0-4600-B1CD-895DDF3D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07CC-C2C2-4B45-92FF-4156FEFB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DC2-1C59-4069-93F9-C56B3809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16B4-916C-4027-8EBC-F5D678D4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4E8E-5B42-4080-A789-3665130C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6B29-FFB0-46AF-9F19-FFC9CBE0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6C4D-FBDC-48CF-AEEE-AF378C51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052A-985C-4FE3-9961-1D44F9A2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67F-A234-46DE-84E3-23DF41B5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D39-C85A-47A2-BB81-1FE5FF97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137-D429-4F83-821B-BD673AAF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DCD-BEF5-4FF1-AF76-BC75E14F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63A-873C-4820-A662-B7F02E54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266-1ED7-4301-B922-D52D7454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814-A8BB-4F2B-A174-72129FAF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3A09-E932-4CA5-8E12-CCE107B68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7493-FDBB-4D36-8857-29E200F242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0280"/>
            <a:ext cx="914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2592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Мастерская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по повести</a:t>
            </a: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Н.С. Лескова </a:t>
            </a:r>
            <a:br>
              <a:rPr sz="4200"/>
            </a:b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«Леди Макбет Мценского уезда»</a:t>
            </a:r>
            <a:endParaRPr b="0" lang="en-US" sz="4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45716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ahoma"/>
              </a:rPr>
              <a:t>Драма любви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3962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помните предпосланный повести эпигра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чём, по-вашему, его смыс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ца нет жертвам, и они не впрок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м больше их, тем более трев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.Шекспир «Макбе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1229-88b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Воспоминание Н.С. Лескова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е становилось временами  невыносимо жутко, волос поднимался дыбом, я застывал при малейшем шорохе, который производил сам движением ноги или поворотом шеи. Это были тяжёлые минуты, которых мне не забыть никогда. С тех пор избегаю описания таких ужа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4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авните поведение Катерины Львовны и Серге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цене убийства Зиновия Измайлова (главы 7- 8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цене убийства мальчика Феди Лямина (главы 9-11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допросах (глава 12 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каторге (главы 13-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9734" descr=""/>
          <p:cNvPicPr/>
          <p:nvPr/>
        </p:nvPicPr>
        <p:blipFill>
          <a:blip r:embed="rId2"/>
          <a:stretch/>
        </p:blipFill>
        <p:spPr>
          <a:xfrm>
            <a:off x="2286000" y="152280"/>
            <a:ext cx="44355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5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чему повесть заканчивается ещё одним преступлением Катерины Измайлово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Задание 6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общего и чем отличаются Катерина Измайлов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 Катерина Кабанов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Художник русской души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был спасателем – всегда рядом с Достоевским и Толстым, чуть, правда, в стороне (то как бы отставая от них, то забегая вперёд), неоценённый и непризнанный до конца дней, поскольку на тяжкой дороге любви мешал ему  собственный темперамент: во всём «аффектация и пересол», торопливость и горячность самовыражения, во всём и всему – противоборство. На небосводе же русской литературы одинокая звезда его, наверное, ближе всего сошлась к звезде А.Н.Остров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.Басм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Творческая судьба повести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32 г. – композитор Д.Шостакович создал на материале повести оперу «Катерина Измайло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1 г. – польский режиссёр А.Вайда снял фильм «Сибирская леди Макб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6 г. – режиссёр М.Шапиро снял фильм-оперу с Г.Вишневской в главной парт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79 г. – постановка А.Гончарова в Московском театре им. Вл. Маяковского «Леди Макбет Мценского уез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89 г. – режиссёр Р.Балаян создал фильм «Леди Макбет Мценского уез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94 г. – режиссёр В.Тодоровский снял фильм «Подмосковные вечера», в котором история страсти Катерины Измайловой была перенесена в наше 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Домашнее задани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52480"/>
                <a:tab algn="l" pos="952560"/>
                <a:tab algn="l" pos="1136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исьменно ответить на один из вопрос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276720"/>
            <a:ext cx="7238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Преступница или жер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терина Измай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Можно ли оправдать     преступление, совершён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-за любв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cc"/>
                </a:solidFill>
                <a:latin typeface="Tahoma"/>
              </a:rPr>
              <a:t>Хроника жизни Н.С. Лескова</a:t>
            </a:r>
            <a:endParaRPr b="0" lang="en-US" sz="4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952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Родился 4 февраля 1831 г. в с.Горохове, Орловской губернии. Отец был заседателем Орловской уголовной палаты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В 1847-1849 гг. служил в Орловской палате уголовного суда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С 1849 по 1856 г. занимал различные должности в Киевской казённой палате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57 г. – поступление на службу в хозяйственно-коммерческую компанию. «Изъездил всю Россию в самых разнообразных направлениях», «собрал «большое обилие впечатлений и запас бытовых сведений»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61 г. – переезд в Петербург. Публикация первых рассказов, в основе которых лежат реальные события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95 г. – кончина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leskov_1" descr=""/>
          <p:cNvPicPr/>
          <p:nvPr/>
        </p:nvPicPr>
        <p:blipFill>
          <a:blip r:embed="rId2"/>
          <a:stretch/>
        </p:blipFill>
        <p:spPr>
          <a:xfrm>
            <a:off x="203040" y="2057400"/>
            <a:ext cx="3530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История создания повести </a:t>
            </a:r>
            <a:br>
              <a:rPr sz="3600"/>
            </a:b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«Леди Макбет Мценского уезда»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95680" y="13712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на в 1864 г. в Киеве в начале творческого пути Н.С.Лескова. Впервые напечатана в 1865 году в журнале «Эпоха», издаваемом братьями Ф. и М. Достоевскими, под названием «Леди Макбет нашего уезда». Имеет подзаголовок – «очерк». Писатель всегда настаивал на особом значении для его творчества факта, реального происшествия, от которого могло бы оттолкнуться воображение: «Я всегда люблю основывать дело на живом событии, а не на вымысл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8915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Чуть жизни ты подашь пример кровавы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Она тебе такой же даст ур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Ты в кубок яду льёшь, а справедлив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односит этот яд к твоим губ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У. Шекспир «Макбет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Цели и задачи Мастерской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ать русскую драму, созревшую на почве косного, неподвижного б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ть крестный путь лесковской героин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ить сложность, неоднозначность народной души, непостижимость поведения простого человека с точки зрения разу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авнить судьбы Катерины Кабановой и Катерины Измайлов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едиться в том, что за любым преступлением неизбежно следует наказ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1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 чем ассоциируется у вас жизнь Катерины Львов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купеческом «тереме»? (глава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_15-ledi_makb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2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 зарождается любов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 изображено автором захватившее героиню чувство? (глава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08-03-12T09:10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