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BFF-3BFE-46B9-A335-603714AC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071-7A60-4237-86DD-8E2AB6B3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FDA-2D71-44F2-804A-DB61174C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337-C2FC-452B-AE43-76C0805F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1649-8902-4064-8227-BBA7E402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7331-A506-481A-8269-B548B08C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9F81-EC7E-4AD7-B27D-7113B47B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2D42-F47B-467B-90D9-E33686D2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4C28-EC29-4F07-9ED1-F4D04239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3F10-3AC4-4D80-A044-597EF6BD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71A1-E4AE-4527-81AA-317685D4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48E-D334-4ACB-9E9C-F58EE97B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874C-955B-4F65-B7DF-10C3E476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690F-C88C-43B2-B3BC-7C2CA64F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8FE3-8C20-4FC0-93EF-68E35999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0882-55B6-45DE-B1BA-16822ADD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DC78-00B2-43B4-959A-9AAEC503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F34-C938-4B98-9F5E-C7FB0CD2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716-3EC1-4DCF-88F6-6D7BA4D6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E3F-46FF-4462-ADA2-EDBA019F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E06-9BC7-4F44-BBA1-12F044FD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2AB-B07E-4E88-9292-D0754258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4C2-0379-46F5-ADD8-07E4A96D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8200-1EE9-44C0-8C5D-DDDFBD01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8AC9-3ECB-4DFB-A895-E515655C9A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2C41-920B-4CC0-BA35-4266EC8563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едагогическая технология «Школа социализации»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астер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«Афиширование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вешивание произведений работ учащихся (текстов, рисунков, схем, проектов) в классе и ознакомление с ними. Представление результатов работы групп. Постановка вопросов друг другу по поводу выполненных заданий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«Разрыв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утреннее осознание участников Мастерской неполноты или несоответствия своего прежнего знания новому. Фиксация внимания участников на возникших познавательных противоречиях. Организация работы учащихся в группах с источниками информации, позволяющими разрешить возникшие противореч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«Рефлексия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ициация и активизация рефлексии учащихся по поводу индивидуальной и совместной деятельн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Литература по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Ерёмина Т.Я. Мастерские по литературе. 10-й класс. Метод. пособие. СПб.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Ерёмина Т.Я. Мастерские по литературе. 11-й класс. Метод. пособие. СПб.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тель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казать разрушительный процесс, который происходит в душе главной героини пове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вторить понятия : «лейтмотив», «натуральная школа», «контрас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наружить ряд сюжетных параллелей в драме А.Н.Островского «Гроза» и в повести Н.С.Лескова «Леди Макбет Мценского уезда» и на основе их сравнить характеры двух героинь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ратить внимание на своеобразие развязки сюж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оказать актуальность пов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и задач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и задач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формировать готовность к социальному взаимодейств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развивать устную речь, творческие возмож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чить представлять и цивилизованно отстаивать свою точку зрения и мнение групп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пособствовать умению анализировать нестандартные ситуации и соотносить их с устремлениями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и задач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тметить актуальность повести (отказ от новорождённого младенца; превращение свободы, не знающей нравственных ограничений, в свою противоположность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скрыть нравственную непросветвлённость чувства Катерины Измайловой, толкающего её на страшные преступ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ература по повести Н.С.Лескова «Леди Макбет Мценского уез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ишневская И. Великое инакомыслие. // Комсомольская правда. - 16 февраля 199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Лебедев Ю.В.Николай Семёнович Лесков // Литература в школе. – 2000. -№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Столярова И.В. В поисках идеала (Творчество Н.С.Лескова). Л.,197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Учамбрина Н.С.Лесков. «Леди Макбет Мценского уезда».10 класс. // Литература в школе. – 2008. - №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Чередникова М.П. Открытие Лескова // Литература в школе.  1991. – №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тория Мастерски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«мастерская» появилось в отечественной педагогике в начале 90-х годов 20 в. как термин французской группы «Новое образование». У истоков этой системы обучения стояли знаменитые психологи  Поль Ланжеван, Анри Валлон, Жан Пиаж. Слово это обозначает новый тип занятия, основанный на гуманистической философ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следние годы технологию называют не «французскими», а  «петербургскими педагогическими мастерски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пределение и цели Мастерско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ская - педагогическая технология, которая по своей специфике основывается на тех целях, использует те средства образования и воспитания, которые стратегией модернизации образования отмечаются как важнейш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 : ученик должен действовать автономно и рефлексивно; использовать различные средства интерактивно; входить в социально-гетерогенные группы и функционировать в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целевая ориентация заключается в том, чтобы предоставить обучающимся средства, позволяющие им личностно саморазвиваться, осознавать самих себя и свое место в мире, понимать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ипы Мастерски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построения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творческого пис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ценностных ориент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по самопозн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собенност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текстом на мастерских позволяет школьный анализ произведения представить как лично и общественно (для группы или класса) значим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стерская включает в себя ряд заданий для учащихся, которые способствуют определенному движению в предметном плане. Внутри каждого задания школьники свободны в выборе способов выполнения. Позиция учителя состоит в консультировании учащихся, помощи им в организации учебной работы и осмыслении осваиваемых способов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«Индукция»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здание эмоционального настроя, включение чувств ученика, создание личного отношения к предмету обсуждения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«Самоконструкция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ндивидуальное создание гипотезы, решения, текста, рисунка,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140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«Социоконструк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 учащихся в группа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«Социализ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дъявление созданного продукта всем участникам, соединение индивидуальных результа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1:27:42Z</dcterms:created>
  <dc:creator>777</dc:creator>
  <dc:description/>
  <dc:language>en-US</dc:language>
  <cp:lastModifiedBy>777</cp:lastModifiedBy>
  <dcterms:modified xsi:type="dcterms:W3CDTF">2010-08-24T05:18:38Z</dcterms:modified>
  <cp:revision>11</cp:revision>
  <dc:subject/>
  <dc:title>Технология «Школа социализации»</dc:title>
</cp:coreProperties>
</file>