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8B0-BA80-4E31-A4A6-381CE4F1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0BF-88B4-4845-8AA4-16853C8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A6A-AECB-4FB2-90BF-E1A2CE0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2B6-A2F2-42C2-A290-082D688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B28-CD40-437B-ACDB-C6C2730C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F4A6-8851-49BB-8AAE-ECB797EC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016-0E17-455B-B492-8745BEDE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6A94-4130-421B-9F91-97B9CA4C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F61-E551-4AA9-AD74-38A8CC39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0A0-7523-4D8B-8E5B-032A71BA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A478-0ACC-4C1B-BCE6-5854F91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060-437B-4C36-8C0F-76C489A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739A-7EDF-4741-A6C4-69BA14B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FE8-9B70-4E1D-B485-D980EF6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4EE6-A10E-4D3B-A8F0-3F550FFB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841-E07E-4DE4-8BB9-F87979D0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864D-385D-41F4-90B8-A687F6BC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62A-D4CB-409D-86EF-82C85A9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CC0-39D7-4620-9FBB-078F1F8C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E92-8914-4C6F-BF3A-B4DF16CF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A9-3A63-48CF-8992-2F49EAB0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C26-268D-4D91-8BCB-A2F203D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03E-7CFF-413D-9589-9F80A2E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C19-D3B1-478F-95E3-DE44F53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42E-C5D2-4684-8206-2ED3B1267F9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0180-D891-4380-8D03-E9DCAEC2988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083;&#1086;&#1078;&#1077;&#1085;&#1080;&#1077;%20&#1086;%20&#1084;&#1077;&#1090;&#1086;&#1076;&#1080;&#1095;&#1077;&#1089;&#1082;&#1086;&#1084;%20&#1072;&#1091;&#1076;&#1080;&#1090;&#1077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103;&#1089;&#1085;&#1077;&#1085;&#1080;&#1077;_&#1082;_&#1072;&#1091;&#1076;&#1080;&#1090;&#1091;_&#1087;&#1086;_&#1080;&#1085;&#1092;&#1086;&#1088;&#1084;&#1072;&#1090;&#1080;&#1079;&#1072;&#1094;&#1080;&#1080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47;&#1072;&#1103;&#1074;&#1082;&#1072;%20&#1085;&#1072;%20&#1087;&#1088;&#1086;&#1074;&#1077;&#1076;&#1077;&#1085;&#1080;&#1077;%20&#1084;&#1077;&#1090;&#1086;&#1076;&#1080;&#1095;&#1077;&#1089;&#1082;&#1086;&#1075;&#1086;%20&#1072;&#1091;&#1076;&#1080;&#1090;&#1072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74;&#1086;&#1087;&#1088;&#1086;&#1089;&#1099;_&#1076;&#1083;&#1103;_&#1054;&#1059;.doc" TargetMode="External"/><Relationship Id="rId7" Type="http://schemas.openxmlformats.org/officeDocument/2006/relationships/hyperlink" Target="file:///&#1074;&#1086;&#1087;&#1088;&#1086;&#1089;&#1099;_&#1076;&#1083;&#1103;_&#1054;&#1059;.doc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&#1048;&#1085;&#1092;&#1086;&#1088;&#1084;&#1072;&#1094;&#1080;&#1086;&#1085;&#1085;&#1072;&#1103;%20&#1082;&#1072;&#1088;&#1090;&#1072;%20&#1087;&#1086;%20&#1080;&#1085;&#1092;&#1086;&#1088;&#1084;&#1072;&#1090;&#1080;&#1079;&#1072;&#1094;&#1080;&#1080;%20&#1086;&#1073;&#1088;&#1072;&#1079;&#1086;&#1074;&#1072;&#1090;&#1077;&#1083;&#1100;&#1085;&#1086;&#1075;&#1086;%20&#1091;&#1095;&#1088;&#1077;&#1078;&#1076;&#1077;&#1085;&#1080;&#1103;.docx" TargetMode="External"/><Relationship Id="rId10" Type="http://schemas.openxmlformats.org/officeDocument/2006/relationships/image" Target="../media/image1.png"/><Relationship Id="rId11" Type="http://schemas.openxmlformats.org/officeDocument/2006/relationships/hyperlink" Target="file:///&#1072;&#1085;&#1082;&#1077;&#1090;&#1072;_&#1076;&#1083;&#1103;_&#1096;&#1082;&#1086;&#1083;&#1100;&#1085;&#1080;&#1082;&#1086;&#1074;_2010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&#1072;&#1085;&#1082;&#1077;&#1090;&#1072;_&#1048;&#1050;&#1058;_2010.doc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C6F-2332-4004-A33A-615E2F44D91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2971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ический аудит как способ поддержки педагогов в освоении новых образовательных технологий</a:t>
            </a:r>
            <a:br>
              <a:rPr sz="3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Picture 3" descr="emblem"/>
          <p:cNvPicPr/>
          <p:nvPr/>
        </p:nvPicPr>
        <p:blipFill>
          <a:blip r:embed="rId1"/>
          <a:stretch/>
        </p:blipFill>
        <p:spPr>
          <a:xfrm>
            <a:off x="685800" y="7621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000680" y="53578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©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Шувалова Светлана Олего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3286080" y="9288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Муниципальное образовательное учреждение дополнительного профессионального образования (повышения квалификации) специалистов «Информационно-образовательный Центр»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9C74-F35C-459E-BA78-D9E642B9ECC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42920" y="642960"/>
            <a:ext cx="8507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2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16002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здание условий для оказания услуги (разработка методических рекомендаций, экспертных листов, подготовка информационного письм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ханизм продвижения услуги (выбор темы в соответствии с ранее осуществлённым методическим обеспечением нововведением, мотивация на освоение новых практик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D794-FC35-470F-B690-7A62BE0C8A9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285840" y="571680"/>
            <a:ext cx="84358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3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клама услуги (предварительное ИМС, приглашение к расширению круга субъектов ауди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ализация услуги (конкретная практика методических аудитов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ониторинг процесса обслуживания (качество исполнения услуги, удовлетворённость, выполнение программы аудит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нципы взаимодейств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Целенаправлен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ъектив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брово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верите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фиденциа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ность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86D-D39F-45EF-A9E7-D10CB9B4868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Условия успешно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инициативной позици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ость  (готовность к критике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сокий уровень профессионализма ауди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855-FB31-4C78-92FC-07A8D05C64E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F1D7-A0C9-4C9E-AFBC-A4659172DAA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428760" y="57168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Организация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Содержимое 2"/>
          <p:cNvSpPr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ложение о методическом аудите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Заявка (заказ-заявка, заказ-план) на методический ауди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е рекомендации по проведению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ый лист ауди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ое письмо о проведе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тоговая справ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«Последействие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3AC-667A-43A1-B6FC-4C26AD69AE2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а заявки на проведение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57120" y="1500120"/>
            <a:ext cx="842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Заказчик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полнитель (служб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ема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мет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ограмма аудита (</a:t>
            </a:r>
            <a:r>
              <a:rPr b="0" i="1" lang="ru-RU" sz="2400" spc="-1" strike="noStrike">
                <a:solidFill>
                  <a:srgbClr val="404176"/>
                </a:solidFill>
                <a:latin typeface="Arial"/>
              </a:rPr>
              <a:t>в том числе возможно указать  критерии оценки качества её исполнения</a:t>
            </a: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одействия, лица для контакт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беспечение доступа к материалам и процесса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ребования к итоговому результату (продукту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Необходимый набор качеств эксперта-аудито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почтительный список экспертов-аудитор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ной ответствен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Желаемый срок проведения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D13-9C9C-42E7-BCC8-6590FE7A158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142920" y="35712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р. Методический аудит теме «Освоение и внедрение в практику работы информационно-коммуникационных технологий»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428760" y="1714680"/>
            <a:ext cx="84722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Информационное письмо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Заяв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Экспертный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лис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Информационная карта по информатизации образовательного учрежд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Вопросы для школьник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Анкета для педагог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«Последействие»: справка по итогам аудита, информационно-методическое совещание, конкретная методическая помощ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AFF-4CD7-421B-B002-4B68AE2215B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нение  итогов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Диагностика запросов на методические услуг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атики семинаров (выявленный опыт, выявленные дефицит)  в будущем плане работы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Выявление уровня освоения и применения знаний и умений по итогам методического обслуживани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 наиболее востребованных консультаций по выявленным проблемам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Разработка образовательных программ для педагог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Создание методических продуктов (рекомендаций, инструкций, методических пособий и т.п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Требования к профессиональной компетенции современного  учителя</a:t>
            </a:r>
            <a:br>
              <a:rPr sz="2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(Из стандарта высшего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                                                 педагогического образования)</a:t>
            </a:r>
            <a:br>
              <a:rPr sz="24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специалист должен обладать системой фундаментальных знаний    о проектировании образовательных систе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владеть технологией конструирования учебного процес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0BC-2F2D-4610-9355-9B694097272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ы дополнительного образования педагогов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Тради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рупповая дискусс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астер-класс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руг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Иннова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й ауди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сследовательское интервью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митационные иг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83C-4AEE-4D85-AB0D-394E2E34571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E80C-37BE-4BFB-83D2-06A345ECC17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едагогический ауди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28760" y="18223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форма экспертирования, которая является процессом исследования деятельности образовательного учреждения научно-общественным сообщество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Термин «педагогический аудит»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ввел профессор  М. Богуславск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Методический аудит </a:t>
            </a:r>
            <a:r>
              <a:rPr b="0" lang="ru-RU" sz="2800" spc="-1" strike="noStrike">
                <a:solidFill>
                  <a:srgbClr val="40417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 разновидность педагогического аудита, как особая форма экспертизы, являющаяся исследованием проблем методической деятельности образовательного учреждения и осуществляемая совместно с представителями образовательного учреждения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F2F-952F-4ABF-96FD-DF4F0B5535A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Характеристики методического аудит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цесс исследования методической составляющей в деятельности педагог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вместная рефлексия образовательных событий на основе заказ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несение оценочных суждений и прогноза изменений практ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казание методического сервиса по совершенствованию профессиональной квалификации педаго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3B2-1CD2-4D30-8B69-86C27F537DB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ункции методического аудита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о-аналитическ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уча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иру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ектировочная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еск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рректиру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азвива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3B05-566A-4A86-9808-7AD95F29E64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6B3-C67B-4AB3-842C-E5B30B09DE0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713880" y="571680"/>
            <a:ext cx="8001360" cy="6000120"/>
            <a:chOff x="713880" y="571680"/>
            <a:chExt cx="8001360" cy="6000120"/>
          </a:xfrm>
        </p:grpSpPr>
        <p:sp>
          <p:nvSpPr>
            <p:cNvPr id="407" name="Rectangle 3"/>
            <p:cNvSpPr/>
            <p:nvPr/>
          </p:nvSpPr>
          <p:spPr>
            <a:xfrm>
              <a:off x="2409480" y="571680"/>
              <a:ext cx="4221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Методический аудит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52480" y="1707480"/>
              <a:ext cx="33300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утрен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4848840" y="1707480"/>
              <a:ext cx="38664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еш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17791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1779120" y="361008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8"/>
            <p:cNvSpPr/>
            <p:nvPr/>
          </p:nvSpPr>
          <p:spPr>
            <a:xfrm>
              <a:off x="63115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9"/>
            <p:cNvSpPr/>
            <p:nvPr/>
          </p:nvSpPr>
          <p:spPr>
            <a:xfrm>
              <a:off x="6311520" y="367380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6286320" y="4857480"/>
              <a:ext cx="2403360" cy="638280"/>
            </a:xfrm>
            <a:prstGeom prst="rect">
              <a:avLst/>
            </a:prstGeom>
            <a:solidFill>
              <a:srgbClr val="c5c5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методист ММС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311520" y="593352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автор технологии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16" name="AutoShape 12"/>
            <p:cNvCxnSpPr/>
            <p:nvPr/>
          </p:nvCxnSpPr>
          <p:spPr>
            <a:xfrm flipH="1">
              <a:off x="2668680" y="1209240"/>
              <a:ext cx="151416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AutoShape 13"/>
            <p:cNvCxnSpPr/>
            <p:nvPr/>
          </p:nvCxnSpPr>
          <p:spPr>
            <a:xfrm>
              <a:off x="4632480" y="1209240"/>
              <a:ext cx="128088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14"/>
            <p:cNvCxnSpPr/>
            <p:nvPr/>
          </p:nvCxnSpPr>
          <p:spPr>
            <a:xfrm flipH="1">
              <a:off x="713880" y="2077560"/>
              <a:ext cx="13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AutoShape 15"/>
            <p:cNvCxnSpPr/>
            <p:nvPr/>
          </p:nvCxnSpPr>
          <p:spPr>
            <a:xfrm>
              <a:off x="713880" y="2077560"/>
              <a:ext cx="1080" cy="18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16"/>
            <p:cNvCxnSpPr/>
            <p:nvPr/>
          </p:nvCxnSpPr>
          <p:spPr>
            <a:xfrm>
              <a:off x="714240" y="295848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17"/>
            <p:cNvCxnSpPr/>
            <p:nvPr/>
          </p:nvCxnSpPr>
          <p:spPr>
            <a:xfrm>
              <a:off x="714240" y="395424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18"/>
            <p:cNvCxnSpPr/>
            <p:nvPr/>
          </p:nvCxnSpPr>
          <p:spPr>
            <a:xfrm>
              <a:off x="4727880" y="1988640"/>
              <a:ext cx="12168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19"/>
            <p:cNvCxnSpPr/>
            <p:nvPr/>
          </p:nvCxnSpPr>
          <p:spPr>
            <a:xfrm>
              <a:off x="4727520" y="2001600"/>
              <a:ext cx="52200" cy="42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0"/>
            <p:cNvCxnSpPr/>
            <p:nvPr/>
          </p:nvCxnSpPr>
          <p:spPr>
            <a:xfrm>
              <a:off x="4779360" y="295848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1"/>
            <p:cNvCxnSpPr/>
            <p:nvPr/>
          </p:nvCxnSpPr>
          <p:spPr>
            <a:xfrm>
              <a:off x="4727520" y="3954240"/>
              <a:ext cx="158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6" name="AutoShape 22"/>
            <p:cNvCxnSpPr/>
            <p:nvPr/>
          </p:nvCxnSpPr>
          <p:spPr>
            <a:xfrm>
              <a:off x="4779360" y="51163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23"/>
            <p:cNvCxnSpPr/>
            <p:nvPr/>
          </p:nvCxnSpPr>
          <p:spPr>
            <a:xfrm>
              <a:off x="4779360" y="62017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5E93-5BAB-481C-BF97-1AF5D87A1E7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85840" y="42876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1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з перечня востребованных тем методического аудита (инициатива специалиста МОУ ДПО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зучение запроса (реестр предложений, заказ-заявка от ОУ, заказ-план от департамен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концепции услуги (глоссарий, описание процедуры, локальный ак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Пользователь</cp:lastModifiedBy>
  <dcterms:modified xsi:type="dcterms:W3CDTF">2010-08-25T05:52:18Z</dcterms:modified>
  <cp:revision>242</cp:revision>
  <dc:subject/>
  <dc:title>Слайд 1</dc:title>
</cp:coreProperties>
</file>