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42F-2C0E-4FAC-8079-2614488C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008-66D9-4F9E-AC8A-47318A11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748-415B-4866-82D0-0D5D5059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3AD-8FEB-4A18-847D-8E4C525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2F4-051C-46FE-BBCC-12311CEE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2C5-DAF7-4DD5-8EFD-8444032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1F7-B482-43A6-A4B1-536493A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FD2-4DC5-4612-80D1-99666DF2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3EE-6FAC-4A3E-BF3E-157BE206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342-D075-4978-8B6B-358B36C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09A-AAEF-4EF5-B6BB-8AC7DA5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E3C-DD88-46DF-90D1-6838223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FC2-EA46-4BA1-8076-E6A0FE3EE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penclass.ru/communities/24197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class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От А до Я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тех, кому не безразлична начальная школа. Н.В. Зайц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детский сад Руководящие и педагогические кадры ДОУ. Е.В. Коточи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при обучении математике Проектирование, организация и руководство исследовательскими работами учащихся. С.В. Караст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Т в преподавании предметов естественного цикла  Учителя биологии, химии, физики, естествознания. Т.В. Немцева, Т.А. Яков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вождение приёмных, опекунских семей  Специалисты ведомств и организаций, сопровождающие приёмные, опекунские семьи. И Г Наза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ьюторы по профилактике аддиктивного поведения несовершеннолетних Педагогическое сопровождение профилактической деятельности в ОУ. А.Н. Лог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свой путь Профильное обучение, предпрофильная подготовка. О. Ю. 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тьюторы Ярославской области. Предмет деятельности: инициативные (инновационные) муниципальные проекты. К.В. Сапе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и здоровье  Социальные педагоги, классные руководители, воспитатели, учителя физической культуры и ОБЖ. О В. Чирк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3232" r="1352" b="5499"/>
          <a:stretch/>
        </p:blipFill>
        <p:spPr>
          <a:xfrm>
            <a:off x="0" y="728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79640" y="20808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penclass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9855" r="18940" b="8687"/>
          <a:stretch/>
        </p:blipFill>
        <p:spPr>
          <a:xfrm>
            <a:off x="0" y="87480"/>
            <a:ext cx="887400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952" t="13232" r="1954" b="5499"/>
          <a:stretch/>
        </p:blipFill>
        <p:spPr>
          <a:xfrm>
            <a:off x="0" y="33336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070" t="14167" r="20859" b="323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22:00Z</dcterms:created>
  <dc:creator>ans</dc:creator>
  <dc:description/>
  <dc:language>en-US</dc:language>
  <cp:lastModifiedBy>User</cp:lastModifiedBy>
  <dcterms:modified xsi:type="dcterms:W3CDTF">2001-12-31T21:53:39Z</dcterms:modified>
  <cp:revision>4</cp:revision>
  <dc:subject/>
  <dc:title>Слайд 1</dc:title>
</cp:coreProperties>
</file>