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B073-EA65-470A-8D47-05D09746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58CB-4B98-4E3E-BFF9-7A7AC212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0BB9-3FEB-4607-AC35-04828313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6EA4-467D-48FE-A9AF-B0F64D95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7A5C-225F-4B09-8A55-726C326E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C3D3-4C75-4312-BCA1-D05C89E0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1034-37B1-48CE-8A67-9D7C448D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A6A4B-5499-4A1C-B605-38F8D029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9A65-997E-42F9-B38A-1E3C1391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F88A-3DF5-4CD7-8F47-685EFBC4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D5D4-9F8C-4261-9B47-BF4B7D63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22E2-BD8A-4D11-BCE7-E6DDB605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4B0A-29BF-45C9-A753-0B665AB0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5511-E0D5-42EE-8330-99C1A67F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163FB-5222-47BC-A480-C2FBF419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97CE-D1D7-4511-A107-F049EF4C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D91C-4A31-4A49-9EEF-1CC4032F2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00673-F2D1-4FFA-8D23-FB5A925C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13D95-FD27-4639-932B-B1767BF1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EB90C-8D51-49BE-9873-8DBFE4D7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A4B72-2582-4896-807C-CC31C8BE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B6FAC-9D24-4A00-98BF-C3AD9249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3F99-47BD-417E-AD38-8E289183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B81B8-957E-477C-BF2B-D42F35796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E1807-4826-486F-918D-52CF25D7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B90B3-E117-4E93-82F6-880B613F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A334E-90B8-42C2-AC0C-D6550820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3A6C1-5A3F-48FC-A3A3-C99268E3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B44C7-2D5C-4159-851D-DD371520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4F5FC-26A0-41AA-95A0-A3248B5C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8B452-798A-42E5-A71C-71F0E313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F4CA7-E9AE-4D04-ABD1-DEC44E83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21B8C-8A2A-484D-942B-74A73781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FBBF-7A84-4241-A286-0228981D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7A8C2-CB03-471C-BDD5-284A77CE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8F17D-1679-4D11-BC5F-AB272AF99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AD640-2DAA-4C8A-A2B6-92F23E60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E72B8-CD1F-43F7-883A-87EED1B6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C0429-211E-41B5-9AEF-50EA0A39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2C1C6-2BE3-4989-A3AC-2C9A5E68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8FE71-6DF3-4EC9-B6E0-81D1E365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E8F27-A93A-4807-84C7-D90AC7D03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CC656-561F-4F6E-9EAE-A9526E56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14B5E-C7E7-4708-88EA-52CE444B5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DE0-48AC-4E27-AB86-80FD2222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6381E-5FD5-45EB-96A2-308027C2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19F82-6694-4B59-A933-BE6AB817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70F92-5C2A-4077-A354-46951DAD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1CC9B-B92B-459F-8775-C5CDBF74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A9671-F6B7-4C54-B0A8-0BA37BA3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B0679-349C-4C40-89B0-25B0C2B0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562D2-FBF3-4240-A068-7DA191A8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DF4A3-34AC-491D-B0BE-2A233DD8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B7D77-AFBB-4D68-A8F6-6E77A7E4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3E52B-4939-423A-BDAB-368C18DA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707C-3F8D-46F2-ADF2-529089D0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47EDB-C80D-4BBD-A724-43295F217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9EC30-ED8D-4F31-ACE7-F9E21A060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5C1710-A844-4AE9-93A7-FCDD17E0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9E5AD-CB3A-41F8-B4AA-7933E818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2A5DD-B194-477E-A7E5-24C498DE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F9106B-7829-4738-81F6-D233FD66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7408D-7444-4C4C-8E1F-69FA18A3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94D69-4332-4520-B2FD-0191C340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86640-BA5B-4173-BB8F-C6232110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DDA2E-C7E8-460A-BFE0-2C41C296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907-359A-4DA0-8966-B7A712AA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D1514-4630-404B-9EC8-AFCAB880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3B0FF-CD17-4A3C-840A-696048D8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8A3D5-FC5C-4E79-B530-BDBBA2A8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673-476B-4A7B-BD7A-C0AD0110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682-830A-481B-AFDB-7278C24F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5A4F-6748-4BC6-8D9E-4956E9A499B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D1DD-4A01-49AF-953A-313494A19E0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3182-56AD-4D00-A526-A6B8D035901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3406-7807-4AD5-9273-CC9427C7DFAE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DD257-5678-4146-B75F-1BEB6912276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7298280" y="6353640"/>
            <a:ext cx="1347480" cy="323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A3E3-7A53-4B24-B55E-B690006E4B8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1096920"/>
            <a:ext cx="8364600" cy="1432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ПОДГОТОВКА ДОУ К УЧАСТИЮ В КОНКУРСЕ НА «ЛУЧШЕЕ ОУ» 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94920" y="5157360"/>
            <a:ext cx="7543800" cy="107964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  <a:ea typeface="Tunga"/>
              </a:rPr>
              <a:t>17</a:t>
            </a: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unga"/>
              </a:rPr>
              <a:t>.09.2012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  <a:ea typeface="Tunga"/>
              </a:rPr>
              <a:t>КУПРИЯНОВА Г.В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4" descr="C:\Program Files\Common Files\Microsoft Shared\Clipart\cagcat50\BD06663_.WMF"/>
          <p:cNvPicPr/>
          <p:nvPr/>
        </p:nvPicPr>
        <p:blipFill>
          <a:blip r:embed="rId1"/>
          <a:stretch/>
        </p:blipFill>
        <p:spPr>
          <a:xfrm>
            <a:off x="6400800" y="3124080"/>
            <a:ext cx="19288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ИНСТРУМЕНТЫ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Самооценка</a:t>
            </a: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Swot-analiz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Анализ документов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Анализ результатов и достижений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Анализ сильных и слабых сторон 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Методы изучения общественного мнения, удовлетворенности участников образовательного процесса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……</a:t>
            </a: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5" name="Picture 4" descr="C:\Program Files\Common Files\Microsoft Shared\Clipart\cagcat50\PE03254_.wmf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213372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6"/>
          <p:cNvSpPr/>
          <p:nvPr/>
        </p:nvSpPr>
        <p:spPr>
          <a:xfrm>
            <a:off x="5940360" y="240048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1932" h="21600">
                <a:moveTo>
                  <a:pt x="28960" y="3794"/>
                </a:moveTo>
                <a:lnTo>
                  <a:pt x="42973" y="10800"/>
                </a:lnTo>
                <a:lnTo>
                  <a:pt x="28960" y="1780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8229600" y="335268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3794"/>
                </a:moveTo>
                <a:lnTo>
                  <a:pt x="35773" y="10800"/>
                </a:lnTo>
                <a:lnTo>
                  <a:pt x="21760" y="1780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AutoShape 9"/>
          <p:cNvSpPr/>
          <p:nvPr/>
        </p:nvSpPr>
        <p:spPr>
          <a:xfrm>
            <a:off x="7772400" y="38862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32190" y="10800"/>
                </a:lnTo>
                <a:lnTo>
                  <a:pt x="18177" y="17806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68120"/>
            <a:ext cx="843588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ЦЕЛЬ ПРОВЕДЕНИЯ САМООЦЕНКИ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230120" y="1700280"/>
            <a:ext cx="779292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Получить представление о результатах и процессах в образовательном учреждении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Определить точки приложения усилий коллектива (меры по улучшению ситуации)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САМООЦЕНКА В ДО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Адаптированная школьная модель самооценки 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Самооценка по Европейской модели качества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(лидерство, персонал, политика и стратегия, партнерство и ресурсы, процессы, результаты, результаты потребителей,  результаты общества и результаты  основной деятельности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амооценка на основе анализа сильных и слабых сторон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Упрощенная методика самооценки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ШКОЛЬНАЯ МОДЕЛЬ САМООЦЕНК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11 вопросов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Внутри каждого вопроса – 4 части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Оценка в баллах от 1 до 4 (система показателей)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Почему Вы так считаете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Что наиболее улучшилось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Franklin Gothic Book"/>
              </a:rPr>
              <a:t>Что необходимо улучшать и какие действия для этого надо предпринять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AutoShape 4"/>
          <p:cNvSpPr/>
          <p:nvPr/>
        </p:nvSpPr>
        <p:spPr>
          <a:xfrm>
            <a:off x="7380360" y="2205000"/>
            <a:ext cx="1143000" cy="380880"/>
          </a:xfrm>
          <a:custGeom>
            <a:avLst/>
            <a:gdLst>
              <a:gd name="textAreaLeft" fmla="*/ 24480 w 1143000"/>
              <a:gd name="textAreaRight" fmla="*/ 1118520 w 1143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4780" h="21600">
                <a:moveTo>
                  <a:pt x="0" y="0"/>
                </a:moveTo>
                <a:lnTo>
                  <a:pt x="64780" y="0"/>
                </a:lnTo>
                <a:lnTo>
                  <a:pt x="64780" y="21600"/>
                </a:lnTo>
                <a:lnTo>
                  <a:pt x="0" y="21600"/>
                </a:lnTo>
                <a:close/>
              </a:path>
              <a:path fill="lightenLess" w="64780" h="21600">
                <a:moveTo>
                  <a:pt x="0" y="0"/>
                </a:moveTo>
                <a:lnTo>
                  <a:pt x="64780" y="0"/>
                </a:lnTo>
                <a:lnTo>
                  <a:pt x="63380" y="1400"/>
                </a:lnTo>
                <a:lnTo>
                  <a:pt x="1400" y="1400"/>
                </a:lnTo>
                <a:close/>
              </a:path>
              <a:path fill="darken" w="64780" h="21600">
                <a:moveTo>
                  <a:pt x="64780" y="0"/>
                </a:moveTo>
                <a:lnTo>
                  <a:pt x="64780" y="21600"/>
                </a:lnTo>
                <a:lnTo>
                  <a:pt x="63380" y="20200"/>
                </a:lnTo>
                <a:lnTo>
                  <a:pt x="63380" y="1400"/>
                </a:lnTo>
                <a:close/>
              </a:path>
              <a:path fill="darkenLess" w="64780" h="21600">
                <a:moveTo>
                  <a:pt x="64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80" y="20200"/>
                </a:lnTo>
                <a:close/>
              </a:path>
              <a:path fill="lighten" w="64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80" h="21600">
                <a:moveTo>
                  <a:pt x="25383" y="3794"/>
                </a:moveTo>
                <a:lnTo>
                  <a:pt x="39396" y="10800"/>
                </a:lnTo>
                <a:lnTo>
                  <a:pt x="25383" y="17806"/>
                </a:lnTo>
                <a:close/>
              </a:path>
            </a:pathLst>
          </a:cu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СНОВНЫЕ ТРЕБОВАН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30120" y="1052280"/>
            <a:ext cx="77929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9696"/>
                </a:solidFill>
                <a:latin typeface="Franklin Gothic Book"/>
              </a:rPr>
              <a:t>Выводы необходимо доказательно обоснова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69696"/>
                </a:solidFill>
                <a:latin typeface="Franklin Gothic Book"/>
              </a:rPr>
              <a:t>Фокус описания и оценивания – как это влияет на результаты учеников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раткость (объем 10 стр.; не включать очевидно доступные данные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Шкала самооценки от 1 (очень мало) до 4 (превосходно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Franklin Gothic Medium"/>
              </a:rPr>
              <a:t>СПРАВКА-ИНФОРМАЦ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09120" y="981000"/>
            <a:ext cx="80773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Название ОУ, адрес и особенности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Миссия, цели, приоритеты и механизмы их реализации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Характеристика образовательной среды ОУ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Менеджмент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рофессионализм педколлектива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Взаимодействие ОУ с соцпартнерами, родителями, органами власти, СМИ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езультаты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онкурентные преимущества (2-3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ногонациональный состав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ложный социальный контекст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Традиции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Характеристика контингента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Характеристика состава семей, окружения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Фотоматериалы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тчет по самооценке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НАЗВАНИЕ ОУ, АДРЕС, ОСОБЕННОСТ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3780000" y="328464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684360" y="1752120"/>
            <a:ext cx="3200400" cy="371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Миссия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Цель деятельности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риоритетные направления в деятельности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еречень программ, проектов, планов, обеспечивающих их реализацию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148360" y="1700280"/>
            <a:ext cx="3200400" cy="3757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Выписка из Устава, Программа развития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Проекты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Программы 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Планы 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Фотоматериалы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…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Franklin Gothic Book"/>
              </a:rPr>
              <a:t>Описание реализации программы развития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71200" y="312840"/>
            <a:ext cx="81630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МИССИЯ, ЦЕЛИ, ПРИОРИТЕТЫ И МЕХАНИЗМЫ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3890880" y="24922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бразовательная модел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инципы деятельности и ценност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Обеспечение образовательного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043240" y="1904760"/>
            <a:ext cx="3871800" cy="4647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писание ОМ, схема, рисунок; фрагмент ООП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окументы, фиксирующие (фрагмент Устава, ООП …, рабочая программа, программа воспитания)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Используемые технологии, характеристика условий обучения, данные о психологическом климате в ОУ, фотоматериалы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тчет о самооценке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БРАЗОВАТЕЛЬНАЯ СРЕДА О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1" name="AutoShape 6"/>
          <p:cNvSpPr/>
          <p:nvPr/>
        </p:nvSpPr>
        <p:spPr>
          <a:xfrm>
            <a:off x="4343400" y="1752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истема управления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риоритеты в управлении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Делегирование полномочий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Эффективность управления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723920" y="1052280"/>
            <a:ext cx="4100760" cy="3816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хема, регламент, «Положение об УС»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Управленческие проекты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Документы наделяющие полномочиями в принятии управленческих решений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Отчет о самооценке, данные опроса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МЕНЕДЖМЕН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3809880" y="400536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ЭКСПЕРТИЗА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2" name="Object 7" descr=""/>
          <p:cNvPicPr/>
          <p:nvPr/>
        </p:nvPicPr>
        <p:blipFill>
          <a:blip r:embed="rId1"/>
          <a:stretch/>
        </p:blipFill>
        <p:spPr>
          <a:xfrm>
            <a:off x="249120" y="0"/>
            <a:ext cx="3462480" cy="2895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43240" y="1904760"/>
            <a:ext cx="3979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37644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Picture 8" descr="C:\Program Files\Common Files\Microsoft Shared\Clipart\cagcat50\PE03254_.wmf"/>
          <p:cNvPicPr/>
          <p:nvPr/>
        </p:nvPicPr>
        <p:blipFill>
          <a:blip r:embed="rId2"/>
          <a:stretch/>
        </p:blipFill>
        <p:spPr>
          <a:xfrm>
            <a:off x="5486400" y="2133720"/>
            <a:ext cx="3429000" cy="39621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9"/>
          <p:cNvSpPr/>
          <p:nvPr/>
        </p:nvSpPr>
        <p:spPr>
          <a:xfrm>
            <a:off x="304920" y="3048120"/>
            <a:ext cx="4495680" cy="350496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зультативность и эффективн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чество ОП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крытость О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ффективность управления О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лияние на развитие МСО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8374a"/>
                </a:solidFill>
                <a:latin typeface="Verdana"/>
              </a:rPr>
              <a:t>Практическая значимос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8374a"/>
                </a:solidFill>
                <a:latin typeface="Verdana"/>
              </a:rPr>
              <a:t>/Качество презентаци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адровый потенциал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истема работы с кадрам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Результативность и эффективность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Характеристика кадров (таблицы…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адровая политика, программа (план) развития кадров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тчет о самооценке, динамика роста профессионализма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ПРОФЕССИОНАЛИЗМ КОЛЛЕКТИВА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564000" y="2895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Особенности взаимодействия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истема работы (приоритеты, формы …)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Результативность и эффективность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Структура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Договора, планы. Программы, проекты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Отчет о самооценке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Данные изучения отношения к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Рейтинг ОУ в МСО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Franklin Gothic Book"/>
              </a:rPr>
              <a:t>Публикации в СМИ, отзывы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ВЗАИМОДЕЙСТВИ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3708360" y="2895480"/>
            <a:ext cx="914400" cy="381240"/>
          </a:xfrm>
          <a:prstGeom prst="rightArrow">
            <a:avLst>
              <a:gd name="adj1" fmla="val 50000"/>
              <a:gd name="adj2" fmla="val 5996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Учебные достижения в разных сферах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Психическое, физическое состояние, здоровье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Уровень толерантности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Отчет о самооценке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Данные мониторинга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Таблицы, графики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Фотоматериалы, грамоты, дипломы и т.п.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РЕЗУЛЬТАТЫ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7" name="AutoShape 5"/>
          <p:cNvSpPr/>
          <p:nvPr/>
        </p:nvSpPr>
        <p:spPr>
          <a:xfrm>
            <a:off x="4343400" y="251460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Medium"/>
              </a:rPr>
              <a:t>ПРИЛОЖЕНИЯ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21284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Franklin Gothic Book"/>
              <a:ea typeface="Tung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1. ПРОГРАММА РАЗВИТИЯ О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Механизм целостного развития ОУ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Управленческий инструментарий, направленный на разработку и реализации стратегических целей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Нормативная модель деятельности субъектов по переводу ОУ в новое качественное состояние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Документ, направленный на решение стратегических задач, социального заказа на образование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БЩИЕ ТРЕБОВАН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итерии оценки стратегических документов (А.М. Моисеев)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исьмо ДО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етодические рекомендации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3564000" y="155736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7"/>
          <p:cNvSpPr/>
          <p:nvPr/>
        </p:nvSpPr>
        <p:spPr>
          <a:xfrm>
            <a:off x="5003640" y="2921040"/>
            <a:ext cx="792360" cy="288720"/>
          </a:xfrm>
          <a:custGeom>
            <a:avLst/>
            <a:gdLst>
              <a:gd name="textAreaLeft" fmla="*/ 18720 w 792360"/>
              <a:gd name="textAreaRight" fmla="*/ 773640 w 792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59232" h="21600">
                <a:moveTo>
                  <a:pt x="0" y="0"/>
                </a:moveTo>
                <a:lnTo>
                  <a:pt x="59232" y="0"/>
                </a:lnTo>
                <a:lnTo>
                  <a:pt x="59232" y="21600"/>
                </a:lnTo>
                <a:lnTo>
                  <a:pt x="0" y="21600"/>
                </a:lnTo>
                <a:close/>
              </a:path>
              <a:path fill="lightenLess" w="59232" h="21600">
                <a:moveTo>
                  <a:pt x="0" y="0"/>
                </a:moveTo>
                <a:lnTo>
                  <a:pt x="59232" y="0"/>
                </a:lnTo>
                <a:lnTo>
                  <a:pt x="57832" y="1400"/>
                </a:lnTo>
                <a:lnTo>
                  <a:pt x="1400" y="1400"/>
                </a:lnTo>
                <a:close/>
              </a:path>
              <a:path fill="darken" w="59232" h="21600">
                <a:moveTo>
                  <a:pt x="59232" y="0"/>
                </a:moveTo>
                <a:lnTo>
                  <a:pt x="59232" y="21600"/>
                </a:lnTo>
                <a:lnTo>
                  <a:pt x="57832" y="20200"/>
                </a:lnTo>
                <a:lnTo>
                  <a:pt x="57832" y="1400"/>
                </a:lnTo>
                <a:close/>
              </a:path>
              <a:path fill="darkenLess" w="59232" h="21600">
                <a:moveTo>
                  <a:pt x="59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832" y="20200"/>
                </a:lnTo>
                <a:close/>
              </a:path>
              <a:path fill="lighten" w="59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232" h="21600">
                <a:moveTo>
                  <a:pt x="22609" y="3794"/>
                </a:moveTo>
                <a:lnTo>
                  <a:pt x="36622" y="10800"/>
                </a:lnTo>
                <a:lnTo>
                  <a:pt x="22609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AutoShape 8"/>
          <p:cNvSpPr/>
          <p:nvPr/>
        </p:nvSpPr>
        <p:spPr>
          <a:xfrm>
            <a:off x="5724360" y="3860640"/>
            <a:ext cx="719280" cy="289080"/>
          </a:xfrm>
          <a:custGeom>
            <a:avLst/>
            <a:gdLst>
              <a:gd name="textAreaLeft" fmla="*/ 18720 w 719280"/>
              <a:gd name="textAreaRight" fmla="*/ 700560 w 71928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3704" h="21600">
                <a:moveTo>
                  <a:pt x="0" y="0"/>
                </a:moveTo>
                <a:lnTo>
                  <a:pt x="53704" y="0"/>
                </a:lnTo>
                <a:lnTo>
                  <a:pt x="53704" y="21600"/>
                </a:lnTo>
                <a:lnTo>
                  <a:pt x="0" y="21600"/>
                </a:lnTo>
                <a:close/>
              </a:path>
              <a:path fill="lightenLess" w="53704" h="21600">
                <a:moveTo>
                  <a:pt x="0" y="0"/>
                </a:moveTo>
                <a:lnTo>
                  <a:pt x="53704" y="0"/>
                </a:lnTo>
                <a:lnTo>
                  <a:pt x="52304" y="1400"/>
                </a:lnTo>
                <a:lnTo>
                  <a:pt x="1400" y="1400"/>
                </a:lnTo>
                <a:close/>
              </a:path>
              <a:path fill="darken" w="53704" h="21600">
                <a:moveTo>
                  <a:pt x="53704" y="0"/>
                </a:moveTo>
                <a:lnTo>
                  <a:pt x="53704" y="21600"/>
                </a:lnTo>
                <a:lnTo>
                  <a:pt x="52304" y="20200"/>
                </a:lnTo>
                <a:lnTo>
                  <a:pt x="52304" y="1400"/>
                </a:lnTo>
                <a:close/>
              </a:path>
              <a:path fill="darkenLess" w="53704" h="21600">
                <a:moveTo>
                  <a:pt x="53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304" y="20200"/>
                </a:lnTo>
                <a:close/>
              </a:path>
              <a:path fill="lighten" w="53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704" h="21600">
                <a:moveTo>
                  <a:pt x="19846" y="3794"/>
                </a:moveTo>
                <a:lnTo>
                  <a:pt x="33859" y="10800"/>
                </a:lnTo>
                <a:lnTo>
                  <a:pt x="19846" y="17806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ТРЕБОВАНИЯ К ПРОГРАММАМ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ктуаль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Методическая разработан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Прогностичность, реалистич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ациональность, направленность на достижение максимального результата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онтролируемость, чувствительность к сбоям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Целост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Результатив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Franklin Gothic Medium"/>
              </a:rPr>
              <a:t>ПР ОТВЕЧАЕТ НА ТРИ ГЛАВНЫХ ВОПРОСА 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23640" y="1981080"/>
            <a:ext cx="8591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Чего достигла наше ОУ сегодня, каковы его сильные и слабые стороны, достижения и проблемы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акой мы хотим видеть наше ОУ и его выпускников через два-три года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Что и как мы сделаем, чтобы ОУ успешно перешло от своего сегодняшнего состояния к желаемому будущему?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ПРОГРАММА РАЗВИТИЯ – ПРОГРАММА ИЗМЕНЕНИЙ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мысл изменений: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достижение нового, востребованного временем качества образования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создание условий для достижения нового качества образования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упрочение позиции ОУ в образовательном пространстве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др.  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2. ОПИСАНИЕ РЕАЛИЗАЦИИ ПРОГРАММЫ РАЗВИТ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822240" y="1267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Целевая направленность программы и критерии успеха (планируемые целевые показатели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Результаты (промежуточные, итоговые) и свидетельства их достижения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Выводы и перспективы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822240" y="1600200"/>
            <a:ext cx="3200400" cy="32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Эксперт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700520" y="1628280"/>
            <a:ext cx="3200400" cy="31813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оллектив ДОУ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0" name="Picture 4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3492360" y="40464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C:\Program Files\Common Files\Microsoft Shared\Clipart\cagcat50\PE01460_.wmf"/>
          <p:cNvPicPr/>
          <p:nvPr/>
        </p:nvPicPr>
        <p:blipFill>
          <a:blip r:embed="rId2"/>
          <a:stretch/>
        </p:blipFill>
        <p:spPr>
          <a:xfrm>
            <a:off x="533520" y="2514600"/>
            <a:ext cx="2790720" cy="3087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C:\Program Files\Common Files\Microsoft Shared\Clipart\cagcat50\PE01561_.wmf"/>
          <p:cNvPicPr/>
          <p:nvPr/>
        </p:nvPicPr>
        <p:blipFill>
          <a:blip r:embed="rId3"/>
          <a:stretch/>
        </p:blipFill>
        <p:spPr>
          <a:xfrm>
            <a:off x="5334120" y="2895480"/>
            <a:ext cx="3809880" cy="243864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9"/>
          <p:cNvSpPr/>
          <p:nvPr/>
        </p:nvSpPr>
        <p:spPr>
          <a:xfrm>
            <a:off x="1066680" y="5943600"/>
            <a:ext cx="3581640" cy="53352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ожидает увидеть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5257800" y="5943600"/>
            <a:ext cx="3581280" cy="53352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хотят показать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ПИСАНИЕ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Franklin Gothic Book"/>
              </a:rPr>
              <a:t>Стратегическая цель: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Franklin Gothic Book"/>
              </a:rPr>
              <a:t>Выводы: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0" y="2362320"/>
          <a:ext cx="8610480" cy="3581280"/>
        </p:xfrm>
        <a:graphic>
          <a:graphicData uri="http://schemas.openxmlformats.org/drawingml/2006/table">
            <a:tbl>
              <a:tblPr/>
              <a:tblGrid>
                <a:gridCol w="1371600"/>
                <a:gridCol w="1752480"/>
                <a:gridCol w="1524240"/>
                <a:gridCol w="1828800"/>
                <a:gridCol w="2133360"/>
              </a:tblGrid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У /Ц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зульта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идетельств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80640" y="304920"/>
            <a:ext cx="8163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59" name="Object 5"/>
          <p:cNvGraphicFramePr/>
          <p:nvPr/>
        </p:nvGraphicFramePr>
        <p:xfrm>
          <a:off x="357120" y="990720"/>
          <a:ext cx="2712960" cy="220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990720"/>
                    <a:ext cx="271296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1" name="Picture 2" descr=""/>
          <p:cNvPicPr/>
          <p:nvPr/>
        </p:nvPicPr>
        <p:blipFill>
          <a:blip r:embed="rId3"/>
          <a:stretch/>
        </p:blipFill>
        <p:spPr>
          <a:xfrm>
            <a:off x="4191120" y="762120"/>
            <a:ext cx="495288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6" descr=""/>
          <p:cNvPicPr/>
          <p:nvPr/>
        </p:nvPicPr>
        <p:blipFill>
          <a:blip r:embed="rId4"/>
          <a:srcRect l="0" t="17204" r="0" b="0"/>
          <a:stretch/>
        </p:blipFill>
        <p:spPr>
          <a:xfrm>
            <a:off x="304920" y="3886200"/>
            <a:ext cx="7921440" cy="273204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8"/>
          <p:cNvSpPr/>
          <p:nvPr/>
        </p:nvSpPr>
        <p:spPr>
          <a:xfrm>
            <a:off x="533520" y="3429000"/>
            <a:ext cx="8229600" cy="30492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Verdana"/>
              </a:rPr>
              <a:t>Количество обучающихся (%),</a:t>
            </a:r>
            <a:r>
              <a:rPr b="1" lang="ru-RU" sz="2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Verdana"/>
              </a:rPr>
              <a:t>не подтвердивших освоение программ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4716000" y="1052280"/>
            <a:ext cx="39783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Команда ОУ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15 минут</a:t>
            </a: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37720" y="2492280"/>
            <a:ext cx="80010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редставление деятельности образовательного учреждения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информирование о реализации программы развития</a:t>
            </a:r>
            <a:r>
              <a:rPr b="1" lang="ru-RU" sz="2200" spc="-1" strike="noStrike">
                <a:solidFill>
                  <a:srgbClr val="000000"/>
                </a:solidFill>
                <a:latin typeface="Times New Roman CYR"/>
              </a:rPr>
              <a:t>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редставление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зультатов деятельности ОУ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ор образовательных программ и достижений детей и педагогического коллектива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ы на вопросы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ПРЕЗЕНТАЦИЯ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СЦЕНАРИЙ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едставление ОУ и команды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Наши достижения    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ак мы их достигли   (образовательные программы, технологии …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ерспективы (стратегия. Ее реализация и планы на будущее…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КАЧЕСТВО ПРЕЗЕНТАЦИИ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андный дух образовательного учреждения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публичной презентаци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ь ОУ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едительность выступления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дерский потенциал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 презентации представленным материалам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СПАСИБО!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72" name="Picture 3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2971800" y="27432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82224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Как можно больше материалов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Используем старые заготовки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Акцент на 1 вопросе (успех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700520" y="1096920"/>
            <a:ext cx="3200400" cy="3713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Избыточность материалов, дублирование («корзина»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Игнорирование правил, отсутствие согласованности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Многое остается за кадром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ОУ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564000" y="620640"/>
            <a:ext cx="1371600" cy="381240"/>
          </a:xfrm>
          <a:prstGeom prst="rightArrow">
            <a:avLst>
              <a:gd name="adj1" fmla="val 50000"/>
              <a:gd name="adj2" fmla="val 89943"/>
            </a:avLst>
          </a:prstGeom>
          <a:solidFill>
            <a:srgbClr val="5f5f5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ЭКСПЕРТ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822240" y="1099800"/>
            <a:ext cx="752184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Четкость, конкретность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Структурированность (удобно работать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Конструктивная целостность описания опыта (согласованность частей, обоснованность включения)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Представленность материалов по всем позициям (критериям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Достаточность материалов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1" name="Picture 4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168880" y="0"/>
            <a:ext cx="3975120" cy="14479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5"/>
          <p:cNvSpPr/>
          <p:nvPr/>
        </p:nvSpPr>
        <p:spPr>
          <a:xfrm>
            <a:off x="755640" y="5516640"/>
            <a:ext cx="8001000" cy="609480"/>
          </a:xfrm>
          <a:prstGeom prst="rect">
            <a:avLst/>
          </a:pr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уждение о том, что ОУ лучше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Что значит лучшее образовательное учреждение?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5" name="Picture 4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7543800" y="228600"/>
            <a:ext cx="13716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ЛУЧШЕЕ ОУ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125000"/>
            <a:ext cx="86868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Лучше других справляется с заданием (имеет высокие результаты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Созданы условия для самореализации субъектов (насыщенная среда для жизнедеятельности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Комфортная обстановка, сотрудничество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Руководитель – лидер, высокий профуровень педколлектива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Высокий рейтинг ОУ в МСО (имидж «лучшее ОУ»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Открытость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* …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КОНКУРСНАЯ ДОКУМЕНТАЦИЯ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981000"/>
            <a:ext cx="8337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заявк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на участие в конкурсе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тчёт о самооценке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ОУ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справк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-информаци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</a:rPr>
              <a:t>я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о результатах и опыте работы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- приложения и дополнительные материалы к справке-информации: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*программ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развит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 ОУ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писание реализации программы развит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ОУ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*материалы, раскрывающие инновационный опыт работ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ОУ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*под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борк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а</a:t>
            </a: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убликаций о деятельност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ОУ, ф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тограф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диаграммы, графики, схем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4" descr="C:\Program Files\Common Files\Microsoft Shared\Clipart\cagcat50\BD00028_.WMF"/>
          <p:cNvPicPr/>
          <p:nvPr/>
        </p:nvPicPr>
        <p:blipFill>
          <a:blip r:embed="rId1"/>
          <a:stretch/>
        </p:blipFill>
        <p:spPr>
          <a:xfrm>
            <a:off x="4303800" y="365040"/>
            <a:ext cx="558720" cy="5493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821880" y="1100160"/>
            <a:ext cx="778212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Шаги: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Изучение положения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тбор материалов и их оценка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Определение дефицитов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89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Franklin Gothic Book"/>
              </a:rPr>
              <a:t>Подготовка конкурсной документации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AutoShape 5"/>
          <p:cNvSpPr/>
          <p:nvPr/>
        </p:nvSpPr>
        <p:spPr>
          <a:xfrm>
            <a:off x="77724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797b7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16:43:21Z</dcterms:created>
  <dc:creator>Аноним</dc:creator>
  <dc:description/>
  <dc:language>en-US</dc:language>
  <cp:lastModifiedBy>Галина Валентиновна Куприянова</cp:lastModifiedBy>
  <dcterms:modified xsi:type="dcterms:W3CDTF">2014-09-17T07:36:53Z</dcterms:modified>
  <cp:revision>18</cp:revision>
  <dc:subject/>
  <dc:title>Подготовка ОУ к участию в конкурсе на «Лучшее ОУ» </dc:title>
</cp:coreProperties>
</file>