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912-8B91-44F7-B9F7-AF3D25C4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8CF-995B-4C63-B857-263EE14A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132-4A24-48A6-82A1-107141AB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594-F065-42D6-9365-B3E79D28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B6DC1-BF32-48DF-8BFB-31C0C3A4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31536-080D-4FD3-A17E-B4FEE2D4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3A7A-6033-47E8-AF1E-000463FE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AD91-8987-4E0F-BB23-DF28271E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CCF4-011B-46D8-B6B5-14E7CA2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9C46C-2DBB-4138-B4E2-7BF0504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47407-8BD0-41BB-B0C7-99B9636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034-5563-4839-BA60-A6BA887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6260-E233-4CA7-BE79-DA42E50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7253F-0939-4EA9-ADCE-879E2D5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F1B2D-3FFF-4A57-B2E2-91F42E9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7EC87-5803-4CF5-803C-A5B1C34C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4FF07-4535-4854-AB56-F1DF0015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B83-965B-4B11-93F9-3A7AD572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05F-F581-4349-85F7-5D559EB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CA0-6D8A-4FDA-9ABE-D110328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EBA-2251-4483-8BC7-5E567CF3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F23-B5CC-4031-A592-7F83D8D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4F8-FAD0-41AA-BC10-3900120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2D7-B9E6-46C5-B351-948E5014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D41-DD45-4267-875E-EBC2F199945E}" type="slidenum">
              <a:rPr b="0" lang="ru-RU" sz="9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1854-9660-423B-9678-6103ADEB0400}" type="slidenum">
              <a:rPr b="0" lang="ru-RU" sz="9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9280" y="98064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452a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3600" spc="-1" strike="noStrike">
                <a:solidFill>
                  <a:srgbClr val="0452a0"/>
                </a:solidFill>
                <a:latin typeface="Arial"/>
              </a:rPr>
              <a:t>Урок по физической культуре на тему:</a:t>
            </a:r>
            <a:br>
              <a:rPr sz="3600"/>
            </a:br>
            <a:r>
              <a:rPr b="1" lang="ru-RU" sz="3600" spc="-1" strike="noStrike">
                <a:solidFill>
                  <a:srgbClr val="0452a0"/>
                </a:solidFill>
                <a:latin typeface="Arial"/>
              </a:rPr>
              <a:t> «Ритмическая гимнастика. ОФП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92360" y="4436640"/>
            <a:ext cx="4499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810"/>
                </a:solidFill>
                <a:latin typeface="Arial"/>
              </a:rPr>
              <a:t>Автор: Гаршина А.С., 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810"/>
                </a:solidFill>
                <a:latin typeface="Arial"/>
              </a:rPr>
              <a:t>МОУ Красноткацкая СШ ЯМ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452a0"/>
                </a:solidFill>
                <a:uFillTx/>
                <a:latin typeface="Arial"/>
              </a:rPr>
              <a:t>Методические указания по выполнению упражнений круговой тренировки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1557360"/>
            <a:ext cx="6823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пражнения прыжки в скакалку и для мышц жив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 выполнять с максимальной скор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робатические 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зко не выполнять, не забывать про группировку при выполнении кувыр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 упражнении в лазании и перелез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ть ранее изученные способ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пражнение для мышц ру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ть с наибольшей амплитудой движ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пражнение в равновес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раться максимально держать равновес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пражнение в преодолении препят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именить наиболее удобный способ, не касаясь частями тела матов, которые лежат под снаря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 u="sng">
                <a:solidFill>
                  <a:srgbClr val="0452a0"/>
                </a:solidFill>
                <a:uFillTx/>
                <a:latin typeface="Arial"/>
              </a:rPr>
              <a:t>Пора расслабиться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65600" y="1541520"/>
            <a:ext cx="4478400" cy="5316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4427640" cy="441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479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7222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868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a85400"/>
                </a:solidFill>
                <a:latin typeface="Arial"/>
              </a:rPr>
              <a:t>Нужно, чтобы к физическим упражнениям приобщился каждый человек. Без этого немыслимы никакие разговоры о здоровом образе жизни.</a:t>
            </a:r>
            <a:br>
              <a:rPr sz="1800"/>
            </a:br>
            <a:r>
              <a:rPr b="1" lang="en-US" sz="1800" spc="-1" strike="noStrike">
                <a:solidFill>
                  <a:srgbClr val="a85400"/>
                </a:solidFill>
                <a:latin typeface="Arial"/>
              </a:rPr>
              <a:t>Николай Амосов</a:t>
            </a:r>
            <a:r>
              <a:rPr b="0" lang="en-US" sz="29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35280" y="1825200"/>
            <a:ext cx="5976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0452a0"/>
                </a:solidFill>
                <a:uFillTx/>
                <a:latin typeface="Arial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вторить упражнения ритмической   гимнаст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вторить правильное проведение общеразвивающих упражнений с предметам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4000" y="259920"/>
            <a:ext cx="755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a85400"/>
                </a:solidFill>
                <a:latin typeface="Arial"/>
                <a:ea typeface="Arial"/>
              </a:rPr>
              <a:t>«Ходьба и движение способствует игре мозга и работе мысли»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63640" y="836640"/>
            <a:ext cx="67341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0452a0"/>
                </a:solidFill>
                <a:uFillTx/>
                <a:latin typeface="Arial"/>
              </a:rPr>
              <a:t>Цель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ствовать развитию физических качеств обучающихся с применением ритмической гимнастики и круговой трениров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 u="sng">
                <a:solidFill>
                  <a:srgbClr val="0452a0"/>
                </a:solidFill>
                <a:uFillTx/>
                <a:latin typeface="Arial"/>
              </a:rPr>
              <a:t>Задачи:</a:t>
            </a:r>
            <a:r>
              <a:rPr b="0" lang="ru-RU" sz="2000" spc="-1" strike="noStrike" u="sng">
                <a:solidFill>
                  <a:srgbClr val="0452a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знакомление с комплексом общеразвивающих   упражнений под музыку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зучивание упражнений ритмической гимнастики.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роведение круговой тренировки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95640" y="4508640"/>
            <a:ext cx="2124000" cy="191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216072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452a0"/>
                </a:solidFill>
                <a:latin typeface="Arial"/>
              </a:rPr>
              <a:t>С чего должен начинаться урок физической культуры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203640" y="26028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1" name="Picture 11" descr="razminka1-19"/>
          <p:cNvPicPr/>
          <p:nvPr/>
        </p:nvPicPr>
        <p:blipFill>
          <a:blip r:embed="rId2"/>
          <a:stretch/>
        </p:blipFill>
        <p:spPr>
          <a:xfrm>
            <a:off x="2843280" y="1773360"/>
            <a:ext cx="4464000" cy="300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16360" y="54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С РАЗМИНК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63640" y="1484280"/>
            <a:ext cx="669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452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452a0"/>
                </a:solidFill>
                <a:latin typeface="Arial"/>
              </a:rPr>
              <a:t>Общеразвивающие упражнения с гимнастической палко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т практически все двигательные качества – гибкость, ловкость, координацию, вынослив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формированию и исправлению осанки, а регулярные занятия с гимнастической палкой способствуют предупреждению дефектов осан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ствуют лучшей проработке отдельных мышцы и связо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зывают положительный эффект при проблемах с позвоночником, плоскостопии и косолап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050920" y="0"/>
            <a:ext cx="684216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a854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«Физические упражнения могут заменить множество лекарств, но ни одно лекарство в мире не может заменить физические упражнения».</a:t>
            </a:r>
            <a:br>
              <a:rPr sz="1800"/>
            </a:br>
            <a:r>
              <a:rPr b="0" lang="ru-RU" sz="1800" spc="-1" strike="noStrike">
                <a:solidFill>
                  <a:srgbClr val="a85400"/>
                </a:solidFill>
                <a:latin typeface="Arial"/>
              </a:rPr>
              <a:t>Анджело Моссо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692000" y="90936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452a0"/>
                </a:solidFill>
                <a:latin typeface="Arial"/>
              </a:rPr>
              <a:t>Правильное выполнение основных  команд с гимнастической палк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«Палка к плечу»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ку держат за один конец правой кистью (указательным и большим пальцами) у правого плеч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«С палкой «вольно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имнастическая стойка «вольно», левый конец палки касается пола около носка левой н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619280" y="115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«Гимнастика удлиняет молодость человека».</a:t>
            </a:r>
            <a:br>
              <a:rPr sz="1800"/>
            </a:b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Джон Локк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4437000"/>
            <a:ext cx="3313080" cy="178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156360" y="436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31261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700280"/>
            <a:ext cx="71280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5260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452a0"/>
                </a:solidFill>
                <a:latin typeface="Arial"/>
              </a:rPr>
              <a:t>                     </a:t>
            </a:r>
            <a:r>
              <a:rPr b="1" lang="ru-RU" sz="2400" spc="-1" strike="noStrike" u="sng">
                <a:solidFill>
                  <a:srgbClr val="0452a0"/>
                </a:solidFill>
                <a:uFillTx/>
                <a:latin typeface="Arial"/>
              </a:rPr>
              <a:t>Ритмическая гимнастика</a:t>
            </a:r>
            <a:br>
              <a:rPr sz="2400"/>
            </a:br>
            <a:r>
              <a:rPr b="0" lang="ru-RU" sz="2400" spc="-1" strike="noStrike">
                <a:solidFill>
                  <a:srgbClr val="0452a0"/>
                </a:solidFill>
                <a:latin typeface="Arial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0452a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 упражнений оздоровительной направленности, исполняемый под музыку с заданным ритмом и темпом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1640" y="189000"/>
            <a:ext cx="63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Надо непременно встряхивать себя физически, чтобы быть здоровым нравственно.</a:t>
            </a:r>
            <a:br>
              <a:rPr sz="1800"/>
            </a:b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Лев Толстой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357720"/>
            <a:ext cx="6624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52a0"/>
                </a:solidFill>
                <a:latin typeface="Arial"/>
              </a:rPr>
              <a:t>Польза ритмической гимнастики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пособствует развитию основных физических качеств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овершенствует чувство ритма и музыкальности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пособствует формированию правильной осанки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вышает эмоциональный настрой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овышает физическую работоспособность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Формирует двигательную культуру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5640" y="189000"/>
            <a:ext cx="48261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a85400"/>
                </a:solidFill>
                <a:latin typeface="Arial"/>
              </a:rPr>
              <a:t>Нужно поддерживать крепость тела, чтобы сохранить крепость духа.</a:t>
            </a:r>
            <a:br>
              <a:rPr sz="1600"/>
            </a:br>
            <a:r>
              <a:rPr b="1" lang="en-US" sz="1600" spc="-1" strike="noStrike">
                <a:solidFill>
                  <a:srgbClr val="a85400"/>
                </a:solidFill>
                <a:latin typeface="Arial"/>
              </a:rPr>
              <a:t>Виктор Гюго</a:t>
            </a:r>
            <a:r>
              <a:rPr b="0" lang="en-US" sz="29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63640" y="1196640"/>
            <a:ext cx="6680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452a0"/>
                </a:solidFill>
                <a:uFillTx/>
                <a:latin typeface="Arial"/>
              </a:rPr>
              <a:t>Упражнения ритмической гимнаст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клоны – поворо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ывки ру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пражнения для н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ыж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452a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452a0"/>
                </a:solidFill>
                <a:latin typeface="Arial"/>
              </a:rPr>
              <a:t>Методические указ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Четко выполнять упражнения под музык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Контролировать темп и амплитуду во время упражнени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Своевременно начинать упражнение.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2133720"/>
            <a:ext cx="803160" cy="15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86728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31261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886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«При помощи физических упражнений большая часть людей может обойтись без медицины».</a:t>
            </a:r>
            <a:br>
              <a:rPr sz="1800"/>
            </a:br>
            <a:r>
              <a:rPr b="1" lang="ru-RU" sz="1800" spc="-1" strike="noStrike">
                <a:solidFill>
                  <a:srgbClr val="a85400"/>
                </a:solidFill>
                <a:latin typeface="Arial"/>
              </a:rPr>
              <a:t>Аддисон Джозеф</a:t>
            </a: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79280" y="1825200"/>
            <a:ext cx="6535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0452a0"/>
                </a:solidFill>
                <a:uFillTx/>
                <a:latin typeface="Arial"/>
              </a:rPr>
              <a:t>Этапы круговой трениров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ыжки в скакал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робатические упражн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в лазании и перелез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е для мышц живо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е для мышц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ащение обруч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е в равнове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одоление препят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954000"/>
            <a:ext cx="7886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ыжковое упражнение для различных групп мыш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ыжки в скакал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ажнения, которые могут являться элементами акробатической комбин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кробатические упражнения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этом упражнении применяем одноименный и разноименный способ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пражнения в лазании и перелез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упражнение из положения лежа на спине, руки у виско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пражнение для мышц живо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я с сопротивле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пражнение для мышц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е для тал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ращение обруч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я в ходьбе выполняются на небольшой возвышеннос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пражнение в равновесии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е выполняется на жердях, которые параллельны друг другу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одоление препят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404640"/>
            <a:ext cx="734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Проверь себя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21:19:03Z</dcterms:created>
  <dc:creator>Любимая</dc:creator>
  <dc:description/>
  <dc:language>en-US</dc:language>
  <cp:lastModifiedBy>Любимая</cp:lastModifiedBy>
  <dcterms:modified xsi:type="dcterms:W3CDTF">2020-04-13T17:27:50Z</dcterms:modified>
  <cp:revision>92</cp:revision>
  <dc:subject/>
  <dc:title>«Здоровьесберегающие технологии на уроках физической культуры»</dc:title>
</cp:coreProperties>
</file>