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640007"/>
                </a:solidFill>
                <a:latin typeface="Arial Black"/>
              </a:rPr>
              <a:t>Click to move the slide</a:t>
            </a:r>
            <a:endParaRPr b="1" lang="en-US" sz="3600" spc="-1" strike="noStrike">
              <a:solidFill>
                <a:srgbClr val="640007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8CF29-5D04-4300-B0A5-E0DF0BF58B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71CAC-679F-4793-9E9A-B9DA0C7BA8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EBFAB-05CA-49A0-8AB6-9B50B91FCC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64EE8-7622-4F75-8BD2-A1DE1C7DA6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D7595-90AA-4151-B2F9-CF2B994BFA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1E836-CF00-4D46-B5A9-0FC4605FC9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942AA-741B-43FD-9801-3A8BF0EF0A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5BF06-3324-44E3-8535-797D685A0A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F1393-C5E6-4803-83CA-83986D78B2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3E8E8-2D9B-4164-A590-038F8AA62A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DDD94-8B66-436D-8947-66E11C7AD1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44BD7-84F8-4B2C-8078-FCD9780ED6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175EA-3869-4452-A713-CBAF4683D0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13F2B-BD63-4135-A57A-21EEAE964A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560" y="374400"/>
            <a:ext cx="8567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64000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0560" y="374400"/>
            <a:ext cx="8567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64000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560" y="374400"/>
            <a:ext cx="8567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64000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04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69320" y="159984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04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69320" y="3965760"/>
            <a:ext cx="2502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0560" y="374400"/>
            <a:ext cx="8567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64000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560" y="374400"/>
            <a:ext cx="8567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64000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560" y="374400"/>
            <a:ext cx="8567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64000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560" y="374400"/>
            <a:ext cx="8567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640007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0560" y="374400"/>
            <a:ext cx="85676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560" y="374400"/>
            <a:ext cx="8567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64000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560" y="374400"/>
            <a:ext cx="8567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64000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6360" y="396576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0560" y="374400"/>
            <a:ext cx="8567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64000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6360" y="1599840"/>
            <a:ext cx="37918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965760"/>
            <a:ext cx="77709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6400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4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6400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DejaVu Sans"/>
              </a:rPr>
              <a:t>Публичный отчет за 2018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09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250560" y="374400"/>
            <a:ext cx="8567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640007"/>
                </a:solidFill>
                <a:latin typeface="Arial Black"/>
              </a:rPr>
              <a:t>Click to edit the title text format</a:t>
            </a:r>
            <a:endParaRPr b="1" lang="en-US" sz="3600" spc="-1" strike="noStrike">
              <a:solidFill>
                <a:srgbClr val="640007"/>
              </a:solidFill>
              <a:latin typeface="Arial Black"/>
            </a:endParaRPr>
          </a:p>
        </p:txBody>
      </p:sp>
      <p:sp>
        <p:nvSpPr>
          <p:cNvPr id="4" name="TextBox 6"/>
          <p:cNvSpPr/>
          <p:nvPr/>
        </p:nvSpPr>
        <p:spPr>
          <a:xfrm>
            <a:off x="0" y="4284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ОУ ЯО «Ярославская школа-интернат  № 9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3840" y="1714320"/>
            <a:ext cx="857268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640007"/>
                </a:solidFill>
                <a:latin typeface="Arial Black"/>
              </a:rPr>
              <a:t>Конспект </a:t>
            </a:r>
            <a:br>
              <a:rPr sz="3200"/>
            </a:br>
            <a:r>
              <a:rPr b="1" lang="ru-RU" sz="3200" spc="-1" strike="noStrike">
                <a:solidFill>
                  <a:srgbClr val="640007"/>
                </a:solidFill>
                <a:latin typeface="Arial Black"/>
              </a:rPr>
              <a:t>занятия-развлечения </a:t>
            </a:r>
            <a:r>
              <a:rPr b="1" i="1" lang="ru-RU" sz="3200" spc="-1" strike="noStrike">
                <a:solidFill>
                  <a:srgbClr val="640007"/>
                </a:solidFill>
                <a:latin typeface="Arial Black"/>
              </a:rPr>
              <a:t>«Путешествие в страну Здоровья»</a:t>
            </a:r>
            <a:br>
              <a:rPr sz="3200"/>
            </a:b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640007"/>
              </a:solidFill>
              <a:latin typeface="Arial Black"/>
            </a:endParaRPr>
          </a:p>
        </p:txBody>
      </p:sp>
      <p:sp>
        <p:nvSpPr>
          <p:cNvPr id="49" name="Прямоугольник 1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285840" y="4572000"/>
            <a:ext cx="871524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 Black"/>
              </a:rPr>
              <a:t>Авторы:</a:t>
            </a:r>
            <a:r>
              <a:rPr b="1" lang="ru-RU" sz="2400" spc="-1" strike="noStrike">
                <a:solidFill>
                  <a:srgbClr val="640007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640007"/>
                </a:solidFill>
                <a:latin typeface="Arial Black"/>
              </a:rPr>
              <a:t>воспитатель высшей кв.к. Мухарева Е.Г.</a:t>
            </a:r>
            <a:br>
              <a:rPr sz="2400"/>
            </a:br>
            <a:r>
              <a:rPr b="1" lang="ru-RU" sz="2400" spc="-1" strike="noStrike">
                <a:solidFill>
                  <a:srgbClr val="640007"/>
                </a:solidFill>
                <a:latin typeface="Arial Black"/>
              </a:rPr>
              <a:t>воспитатель </a:t>
            </a:r>
            <a:r>
              <a:rPr b="1" lang="en-US" sz="2400" spc="-1" strike="noStrike">
                <a:solidFill>
                  <a:srgbClr val="640007"/>
                </a:solidFill>
                <a:latin typeface="Arial Black"/>
              </a:rPr>
              <a:t>I</a:t>
            </a:r>
            <a:r>
              <a:rPr b="1" lang="ru-RU" sz="2400" spc="-1" strike="noStrike">
                <a:solidFill>
                  <a:srgbClr val="640007"/>
                </a:solidFill>
                <a:latin typeface="Arial Black"/>
              </a:rPr>
              <a:t> кв.к. Калугина А.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00040"/>
            <a:ext cx="91440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640007"/>
                </a:solidFill>
                <a:latin typeface="Arial Black"/>
              </a:rPr>
              <a:t>Ход занятия</a:t>
            </a:r>
            <a:endParaRPr b="1" lang="en-US" sz="2400" spc="-1" strike="noStrike">
              <a:solidFill>
                <a:srgbClr val="640007"/>
              </a:solidFill>
              <a:latin typeface="Arial Black"/>
            </a:endParaRPr>
          </a:p>
        </p:txBody>
      </p:sp>
      <p:sp>
        <p:nvSpPr>
          <p:cNvPr id="86" name="Прямоугольник 3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214200" y="928800"/>
            <a:ext cx="8643960" cy="714240"/>
          </a:xfrm>
          <a:prstGeom prst="rect">
            <a:avLst/>
          </a:pr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2. Основная часть: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формирование и развитие представлений об основных компонентах здорового образа жиз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285840" y="2786040"/>
            <a:ext cx="864396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оспитатель: «А теперь давайте попробуем с закрытыми глазами определить на ощупь предметы для игры и занятий спортом». (</a:t>
            </a: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Примерный набор предметов: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мяч, скакалка, ролики, клюшка, шайба, ракетка и т.д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Несколько учеников с закрытыми глазами по очереди пытаются определить на ощупь предмет для занятия спор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оспитатель: «Запомните, двигательная активность и физическая нагрузка способствуют сохранению и укреплению здоровья! Нельзя лениться! Ребята, а вы помогаете родителям наводить порядок дома? Умеете убирать свои игрушки? Давайте проверим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214200" y="1857240"/>
            <a:ext cx="8643960" cy="857520"/>
          </a:xfrm>
          <a:prstGeom prst="rect">
            <a:avLst/>
          </a:pr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2.7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Bookman Old Style"/>
              </a:rPr>
              <a:t>Дидактическая игра «Определи на ощупь», направленная на развитие тактильных ощущ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00040"/>
            <a:ext cx="91440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640007"/>
                </a:solidFill>
                <a:latin typeface="Arial Black"/>
              </a:rPr>
              <a:t>Ход занятия</a:t>
            </a:r>
            <a:endParaRPr b="1" lang="en-US" sz="2400" spc="-1" strike="noStrike">
              <a:solidFill>
                <a:srgbClr val="640007"/>
              </a:solidFill>
              <a:latin typeface="Arial Black"/>
            </a:endParaRPr>
          </a:p>
        </p:txBody>
      </p:sp>
      <p:sp>
        <p:nvSpPr>
          <p:cNvPr id="91" name="Прямоугольник 3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214200" y="928800"/>
            <a:ext cx="8643960" cy="714240"/>
          </a:xfrm>
          <a:prstGeom prst="rect">
            <a:avLst/>
          </a:pr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2. Основная часть: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формирование и развитие представлений об основных компонентах здорового образа жиз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214200" y="3071880"/>
            <a:ext cx="864396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На полу в разных местах разложены мягкие игрушки. Дети передвигаются по комнате, стараясь не задевать игрушки. По определенному сигналу (хлопок, звон колокольчика, удар в бубен) каждый ребенок берет одну игрушку, а  затем кладет ее на мест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14200" y="1857240"/>
            <a:ext cx="8643960" cy="857520"/>
          </a:xfrm>
          <a:prstGeom prst="rect">
            <a:avLst/>
          </a:pr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2.8. </a:t>
            </a:r>
            <a:r>
              <a:rPr b="1" lang="ru-RU" sz="1800" spc="-1" strike="noStrike">
                <a:solidFill>
                  <a:srgbClr val="000066"/>
                </a:solidFill>
                <a:latin typeface="Bookman Old Style"/>
              </a:rPr>
              <a:t>Динамическая пауза - подвижная игра «Собираем игруш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500040"/>
            <a:ext cx="91440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640007"/>
                </a:solidFill>
                <a:latin typeface="Arial Black"/>
              </a:rPr>
              <a:t>Ход занятия</a:t>
            </a:r>
            <a:endParaRPr b="1" lang="en-US" sz="2400" spc="-1" strike="noStrike">
              <a:solidFill>
                <a:srgbClr val="640007"/>
              </a:solidFill>
              <a:latin typeface="Arial Black"/>
            </a:endParaRPr>
          </a:p>
        </p:txBody>
      </p:sp>
      <p:sp>
        <p:nvSpPr>
          <p:cNvPr id="96" name="Прямоугольник 3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214200" y="928800"/>
            <a:ext cx="8643960" cy="928440"/>
          </a:xfrm>
          <a:prstGeom prst="rect">
            <a:avLst/>
          </a:pr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3. Заключительная часть: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подведение итогов занятия, стимулирование осознания обучающимся значимости полученных результатов совместн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214200" y="2357280"/>
            <a:ext cx="8715600" cy="30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оспитатель: «Молодцы! Как весело и дружно вы собрали все игрушки! Ребята, вот вам еще одна загадка - а чем мы можем поделиться друг с другом, не отдавая этого? </a:t>
            </a: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(Улыбко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оспитатель: «Обычный смех способен избавить человека от многих проблем со здоровьем. Смех помогает нам снять напряжение, укрепляет наш иммунитет. Давайте все вместе потанцуем и споем песню «Улыб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оспитатель: «Вы молодцы, я рада, что мы поделились друг с другом своим хорошим настроением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428760"/>
            <a:ext cx="91440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640007"/>
                </a:solidFill>
                <a:latin typeface="Arial Black"/>
              </a:rPr>
              <a:t>Ход занятия</a:t>
            </a:r>
            <a:endParaRPr b="1" lang="en-US" sz="2400" spc="-1" strike="noStrike">
              <a:solidFill>
                <a:srgbClr val="640007"/>
              </a:solidFill>
              <a:latin typeface="Arial Black"/>
            </a:endParaRPr>
          </a:p>
        </p:txBody>
      </p:sp>
      <p:sp>
        <p:nvSpPr>
          <p:cNvPr id="100" name="Прямоугольник 3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142920" y="857160"/>
            <a:ext cx="8643960" cy="928800"/>
          </a:xfrm>
          <a:prstGeom prst="rect">
            <a:avLst/>
          </a:pr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3. Заключительная часть: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подведение итогов занятия, стимулирование осознания обучающимся значимости полученных результатов совместн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142920" y="1857240"/>
            <a:ext cx="864396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оспитатель: «Ребята, давайте вспомним, о чем мы сегодня говорили?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Педагог совместно с воспитанниками формирует список основных факторов, положительно влияющих на здоровье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Для того чтобы быть здоровым, нуж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умыва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чистить зу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делать заряд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заниматься спор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есть полезную пищ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быть добрым и приветливым к люд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гулять и играть на свежем воздух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Детям раздаются памятки с правилами здорового образа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Воспитатель: «Эти простые правила помогут нам быть здоровыми, активными и добрыми! Спасибо за занятие!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60280" y="965160"/>
            <a:ext cx="8704440" cy="4371480"/>
          </a:xfrm>
          <a:prstGeom prst="rect">
            <a:avLst/>
          </a:prstGeom>
          <a:solidFill>
            <a:srgbClr val="ffffff"/>
          </a:solidFill>
          <a:ln w="316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Целевая группа:</a:t>
            </a:r>
            <a:r>
              <a:rPr b="1" lang="ru-RU" sz="1800" spc="-1" strike="noStrike">
                <a:solidFill>
                  <a:srgbClr val="8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обучающиеся 2 класса, имеющие нарушения интеллектуального разви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Оборудование и материалы: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1)демонстрационный наглядный материал; 2)тексты для разыгрывания ситуаций; 3)подборка тематических загадок; 4)набор предметов для спорта; 5)набор продуктов и ароматические баночки с запахами продуктов; 6)набор игрушек; 7)музыкальное сопровождение (для динамических пауз и пения) 8)памятки для детей, содержащие основные правила здорового образа жиз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Цель:</a:t>
            </a:r>
            <a:r>
              <a:rPr b="1" lang="ru-RU" sz="1800" spc="-1" strike="noStrike">
                <a:solidFill>
                  <a:srgbClr val="8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развитие у воспитанников представлений об основных компонентах культуры здоровья и здорового образа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3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3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500040" y="950400"/>
            <a:ext cx="8215200" cy="4757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пособствовать формированию у обучающихся заинтересованного отношения к собственному здоровью и готовности самостоятельно поддерживать свое здоровь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формировать установку на использование здорового питания, соблюдение правил личной гигиены, занятия физической культурой и спортом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оздать условия для формирования у воспитанников коммуникативных компетенций через развитие их речевых функций и умения взаимодействовать с партнером в рамках различных видов совместной деятельност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пособствовать коррекции и развитию тактильно-двигательного восприятия, слухомоторной координации, восприятия вкуса и запаха предме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создать условия для развития творческих способностей детей, формирования навыков публичных выступл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500040"/>
            <a:ext cx="91440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640007"/>
                </a:solidFill>
                <a:latin typeface="Arial Black"/>
              </a:rPr>
              <a:t>Ход занятия</a:t>
            </a:r>
            <a:endParaRPr b="1" lang="en-US" sz="2800" spc="-1" strike="noStrike">
              <a:solidFill>
                <a:srgbClr val="640007"/>
              </a:solidFill>
              <a:latin typeface="Arial Black"/>
            </a:endParaRPr>
          </a:p>
        </p:txBody>
      </p:sp>
      <p:sp>
        <p:nvSpPr>
          <p:cNvPr id="56" name="Прямоугольник 3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142920" y="1071720"/>
            <a:ext cx="8643960" cy="857160"/>
          </a:xfrm>
          <a:prstGeom prst="rect">
            <a:avLst/>
          </a:pr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1. Вводная часть: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приветствие, активизация психической готовности детей к образовательной деятельности, актуализация знаний воспитанников о пользе здорового образа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142920" y="2357280"/>
            <a:ext cx="871524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оспитатель:  «Здравствуете, дети! Сегодня мы поговорим о том, что такое здоровье и как его сохранить. Как вы думаете, что значит быть здоровым человеком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(Ответы детей фиксируютс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оспитатель: «Здоровый человек не болеет, он всегда веселый, подвижный, жизнерадостный. Здоровым быть здорово! А почему же люди болеют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(Ответы детей фиксируютс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500040"/>
            <a:ext cx="91440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640007"/>
                </a:solidFill>
                <a:latin typeface="Arial Black"/>
              </a:rPr>
              <a:t>Ход занятия</a:t>
            </a:r>
            <a:endParaRPr b="1" lang="en-US" sz="2400" spc="-1" strike="noStrike">
              <a:solidFill>
                <a:srgbClr val="640007"/>
              </a:solidFill>
              <a:latin typeface="Arial Black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214200" y="928800"/>
            <a:ext cx="8643960" cy="714240"/>
          </a:xfrm>
          <a:prstGeom prst="rect">
            <a:avLst/>
          </a:pr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2. Основная часть: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формирование и развитие представлений об основных компонентах здорового образа жиз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214200" y="2786040"/>
            <a:ext cx="864396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Воспитатель: «Ребята, давайте вместе узнаем, какая история приключилась с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Кристиной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Bookman Old Style"/>
              </a:rPr>
              <a:t>Дети  разыгрывают ситуацию, описанную в стихотворении Агнии Барто «Девочка чумазая» </a:t>
            </a:r>
            <a:r>
              <a:rPr b="1" i="1" lang="ru-RU" sz="1600" spc="-1" strike="noStrike">
                <a:solidFill>
                  <a:srgbClr val="000000"/>
                </a:solidFill>
                <a:latin typeface="Bookman Old Style"/>
              </a:rPr>
              <a:t>(Приложение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Воспитатель: «Как вы думаете, почему нужно мыть руки? Как и когда нужно мыть руки?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Bookman Old Style"/>
              </a:rPr>
              <a:t>(Основные правила фиксируютс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Воспитатель: «К сожалению, не всегда дети выполняют эти правила, поэтому работают больницы. Давайте посмотрим на следующую ситуацию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Bookman Old Style"/>
              </a:rPr>
              <a:t>Дети разыгрывают ситуацию, описанную в тематическом тексте «Больной зуб» </a:t>
            </a:r>
            <a:r>
              <a:rPr b="1" i="1" lang="ru-RU" sz="1600" spc="-1" strike="noStrike">
                <a:solidFill>
                  <a:srgbClr val="000000"/>
                </a:solidFill>
                <a:latin typeface="Bookman Old Style"/>
              </a:rPr>
              <a:t>(Приложение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Воспитатель: «Почему могут болеть зубы? Какая еда полезна для зубов? А какая еда наносит вред?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ru-RU" sz="1600" spc="-1" strike="noStrike">
                <a:solidFill>
                  <a:srgbClr val="000000"/>
                </a:solidFill>
                <a:latin typeface="Bookman Old Style"/>
              </a:rPr>
              <a:t>Основные правила фиксируютс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214200" y="1857240"/>
            <a:ext cx="8643960" cy="857520"/>
          </a:xfrm>
          <a:prstGeom prst="rect">
            <a:avLst/>
          </a:pr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2.1.</a:t>
            </a:r>
            <a:r>
              <a:rPr b="1" lang="ru-RU" sz="1800" spc="-1" strike="noStrike">
                <a:solidFill>
                  <a:srgbClr val="000066"/>
                </a:solidFill>
                <a:latin typeface="Bookman Old Style"/>
              </a:rPr>
              <a:t> Демонстрация тематических сценок, групповое обсуждение увиденного и закрепление представлений о правилах личной гигие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500040"/>
            <a:ext cx="91440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640007"/>
                </a:solidFill>
                <a:latin typeface="Arial Black"/>
              </a:rPr>
              <a:t>Ход занятия</a:t>
            </a:r>
            <a:endParaRPr b="1" lang="en-US" sz="2400" spc="-1" strike="noStrike">
              <a:solidFill>
                <a:srgbClr val="640007"/>
              </a:solidFill>
              <a:latin typeface="Arial Black"/>
            </a:endParaRPr>
          </a:p>
        </p:txBody>
      </p:sp>
      <p:sp>
        <p:nvSpPr>
          <p:cNvPr id="65" name="Прямоугольник 3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214200" y="928800"/>
            <a:ext cx="8643960" cy="714240"/>
          </a:xfrm>
          <a:prstGeom prst="rect">
            <a:avLst/>
          </a:pr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2. Основная часть: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формирование и развитие представлений об основных компонентах здорового образа жиз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42920" y="3000240"/>
            <a:ext cx="871524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оспитатель: «У меня для вас есть сюрприз. Сейчас мы все вместе попробуем определить на вкус полезные продукты, которые помогают нам быть здоровым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Несколько учеников с закрытыми глазами по очереди пытаются определить на вкус, какой полезный продукт они попробова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оспитатель: «Молодцы! А сможем ли мы определить полезные продукты по запаху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Дети работают в подгруппах, их задача – определить запахи каких продуктов «спрятались» в ароматических баноч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214200" y="1857240"/>
            <a:ext cx="8643960" cy="785880"/>
          </a:xfrm>
          <a:prstGeom prst="rect">
            <a:avLst/>
          </a:pr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2.2.</a:t>
            </a:r>
            <a:r>
              <a:rPr b="1" lang="ru-RU" sz="1800" spc="-1" strike="noStrike">
                <a:solidFill>
                  <a:srgbClr val="000066"/>
                </a:solidFill>
                <a:latin typeface="Bookman Old Style"/>
              </a:rPr>
              <a:t>Дидактические игры «Определи на вкус, угадай запах», направленные на развитие и пополнение ощущений дет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500040"/>
            <a:ext cx="91440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640007"/>
                </a:solidFill>
                <a:latin typeface="Arial Black"/>
              </a:rPr>
              <a:t>Ход занятия</a:t>
            </a:r>
            <a:endParaRPr b="1" lang="en-US" sz="2400" spc="-1" strike="noStrike">
              <a:solidFill>
                <a:srgbClr val="640007"/>
              </a:solidFill>
              <a:latin typeface="Arial Black"/>
            </a:endParaRPr>
          </a:p>
        </p:txBody>
      </p:sp>
      <p:sp>
        <p:nvSpPr>
          <p:cNvPr id="70" name="Прямоугольник 3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214200" y="928800"/>
            <a:ext cx="8643960" cy="714240"/>
          </a:xfrm>
          <a:prstGeom prst="rect">
            <a:avLst/>
          </a:pr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2. Основная часть: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формирование и развитие представлений об основных компонентах здорового образа жиз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214200" y="3214800"/>
            <a:ext cx="86439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оспитатель: «Ребята приготовили для нас еще одну сценку, давайте внимательно посмотрим на ситуацию, а затем обсудим е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Дети разыгрывают ситуацию, описанную в тематическом тексте «Заболели уши» 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(Приложение 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оспитатель: «Зачем нужно мыть уши? Какие части тела и лица необходимо мыть каждый день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(Основные правила фиксируютс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214200" y="1857240"/>
            <a:ext cx="8643960" cy="1071720"/>
          </a:xfrm>
          <a:prstGeom prst="rect">
            <a:avLst/>
          </a:pr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2.3. </a:t>
            </a:r>
            <a:r>
              <a:rPr b="1" lang="ru-RU" sz="1800" spc="-1" strike="noStrike">
                <a:solidFill>
                  <a:srgbClr val="000066"/>
                </a:solidFill>
                <a:latin typeface="Bookman Old Style"/>
              </a:rPr>
              <a:t>Продолжение работы над темой занятия – разыгрывание  тематических сценок, групповое обсуждение увиденного и закрепление представлений о правилах личной гигие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500040"/>
            <a:ext cx="91440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640007"/>
                </a:solidFill>
                <a:latin typeface="Arial Black"/>
              </a:rPr>
              <a:t>Ход занятия</a:t>
            </a:r>
            <a:endParaRPr b="1" lang="en-US" sz="2400" spc="-1" strike="noStrike">
              <a:solidFill>
                <a:srgbClr val="640007"/>
              </a:solidFill>
              <a:latin typeface="Arial Black"/>
            </a:endParaRPr>
          </a:p>
        </p:txBody>
      </p:sp>
      <p:sp>
        <p:nvSpPr>
          <p:cNvPr id="75" name="Прямоугольник 3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214200" y="928800"/>
            <a:ext cx="8643960" cy="714240"/>
          </a:xfrm>
          <a:prstGeom prst="rect">
            <a:avLst/>
          </a:pr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2. Основная часть: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формирование и развитие представлений об основных компонентах здорового образа жиз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214200" y="2714760"/>
            <a:ext cx="8643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оспитатель: «А теперь давайте отгадаем загадки о ваших главных помощниках в соблюдении чистоты!» 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(Приложение 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214200" y="1857240"/>
            <a:ext cx="8643960" cy="500040"/>
          </a:xfrm>
          <a:prstGeom prst="rect">
            <a:avLst/>
          </a:pr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2.4. </a:t>
            </a:r>
            <a:r>
              <a:rPr b="1" lang="ru-RU" sz="1800" spc="-1" strike="noStrike">
                <a:solidFill>
                  <a:srgbClr val="000066"/>
                </a:solidFill>
                <a:latin typeface="Bookman Old Style"/>
              </a:rPr>
              <a:t>Работа с тематическими загад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285840" y="3857760"/>
            <a:ext cx="8643960" cy="714240"/>
          </a:xfrm>
          <a:prstGeom prst="rect">
            <a:avLst/>
          </a:pr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2.5.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Bookman Old Style"/>
              </a:rPr>
              <a:t>Динамическая пауза – двигательная разминка с речевым и музыкальным сопровождением 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(Приложение 5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500040"/>
            <a:ext cx="91440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640007"/>
                </a:solidFill>
                <a:latin typeface="Arial Black"/>
              </a:rPr>
              <a:t>Ход занятия</a:t>
            </a:r>
            <a:endParaRPr b="1" lang="en-US" sz="2400" spc="-1" strike="noStrike">
              <a:solidFill>
                <a:srgbClr val="640007"/>
              </a:solidFill>
              <a:latin typeface="Arial Black"/>
            </a:endParaRPr>
          </a:p>
        </p:txBody>
      </p:sp>
      <p:sp>
        <p:nvSpPr>
          <p:cNvPr id="81" name="Прямоугольник 3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214200" y="928800"/>
            <a:ext cx="8643960" cy="714240"/>
          </a:xfrm>
          <a:prstGeom prst="rect">
            <a:avLst/>
          </a:pr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2. Основная часть: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формирование и развитие представлений об основных компонентах здорового образа жиз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285840" y="2928960"/>
            <a:ext cx="864396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оспитатель: «Ребята готовы показать нам следующую ситуацию из жизни. Давайте посмотри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okman Old Style"/>
              </a:rPr>
              <a:t>Дети разыгрывают ситуацию, описанную в тематическом тексте «Нет аппетита» 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(Приложение 6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Воспитатель: «Почему у девочки нет аппетит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Действительно, для того, чтобы появился аппетит, нужны спорт, закалка и тренировки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214200" y="1857240"/>
            <a:ext cx="8643960" cy="857520"/>
          </a:xfrm>
          <a:prstGeom prst="rect">
            <a:avLst/>
          </a:pr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Bookman Old Style"/>
              </a:rPr>
              <a:t>2.6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Bookman Old Style"/>
              </a:rPr>
              <a:t>Продолжение работы над темой занятия – разыгрывание  тематических сценок, групповое обсуждение увиденного и закрепление представлений о правилах личной гигие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6T11:00:35Z</dcterms:created>
  <dc:creator>home</dc:creator>
  <dc:description/>
  <dc:language>en-US</dc:language>
  <cp:lastModifiedBy>user123</cp:lastModifiedBy>
  <dcterms:modified xsi:type="dcterms:W3CDTF">2020-04-16T07:49:11Z</dcterms:modified>
  <cp:revision>242</cp:revision>
  <dc:subject/>
  <dc:title>Слайд 1</dc:title>
</cp:coreProperties>
</file>