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F38-41C7-4C63-8053-1B552FDA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6B8-8C57-4B3B-A91D-7DBA5264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929-CA64-4EC1-8178-E151E9EF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D6B-E896-41D4-B1B8-BF53AE94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4B67-B435-4AD6-B04D-6D5A0A7C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E1AD-36B4-4905-8769-25C2D88E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DE61-F7D3-4FC9-8B40-C56915C7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4F48-B187-424C-829A-742B930F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D2F7-F95F-42AA-A647-F9CA2270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009B-450E-47E7-9D4E-FA633CE7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B728-1A80-4247-A3C0-F4171075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536-3D7E-45C7-9A9B-2B08D1E6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5904-9B93-40C1-864F-2383DB0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7C92-9496-4E5B-871F-BAF9B0C7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4E00-3BE3-40A0-918A-C95B28F7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4616-0243-42FF-AF15-B2204D53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9088-3C80-48AE-8733-41D20EF6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FF5-D59B-46F3-B931-3638B0C7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DA9-547D-45FE-9EE3-A50A21C4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680-B1E8-41F4-96B3-FB868529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26B-F020-43D8-963D-E745C079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5E3-88EE-40A3-8A59-5AEDBDC4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9AF-8D4A-4AC4-87B3-82005BB7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4C8-A21D-4911-AEAD-2D1A129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2603-791E-4CF1-8BD2-57D0BCFE78F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D21E-68F9-413E-B679-540C0BA50F5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Тема программы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10440" cy="14734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277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нтаж РЭА и прибор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й слож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8" descr="phone_1120"/>
          <p:cNvPicPr/>
          <p:nvPr/>
        </p:nvPicPr>
        <p:blipFill>
          <a:blip r:embed="rId2"/>
          <a:stretch/>
        </p:blipFill>
        <p:spPr>
          <a:xfrm>
            <a:off x="0" y="3645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bekas"/>
          <p:cNvPicPr/>
          <p:nvPr/>
        </p:nvPicPr>
        <p:blipFill>
          <a:blip r:embed="rId3"/>
          <a:stretch/>
        </p:blipFill>
        <p:spPr>
          <a:xfrm>
            <a:off x="313200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duet2"/>
          <p:cNvPicPr/>
          <p:nvPr/>
        </p:nvPicPr>
        <p:blipFill>
          <a:blip r:embed="rId4"/>
          <a:stretch/>
        </p:blipFill>
        <p:spPr>
          <a:xfrm>
            <a:off x="6516720" y="3573360"/>
            <a:ext cx="2143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189000"/>
          <a:ext cx="9180360" cy="665460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Выводы элементов обрезать вручную бокорезам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нтажн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ри работе с полупроводниковыми приборами пользоваться антиэлектростатическим браслетом для защиты элементов от статического электричества. Сопротивление  между антиэлектростатическим браслетом и корпусом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мегоом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 пайке полупроводниковых приборов использовать паяльник мощностью не более 25 Вт напряжением 36В, заземление жала паяльник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больше или равно 5 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0" y="189000"/>
          <a:ext cx="9180360" cy="638172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При пайке не допускать попадания припоя на корпус ЭРЭ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Наносить флюс, на поверхность подлежащую пайке, без каплеобразования, не допускается затекания флюса в негерметичный подстроечный резистор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разъёмы, колодки, тактовую кнопку. Запрещается использовать активный флюс, паять, избегая излишнего перегре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0" y="189000"/>
          <a:ext cx="9180360" cy="579600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мывка и уклад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Протереть поверхность платы, деталей, пайки, элементы от загрязнений тампоном из миткаля, смоченным в спирте (спирто –бензиновая смесь 1: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Исключить затекание промывочной жидкости во внутрь негерметичных приборов, уз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ные материал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ир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бензиновая смесь 1: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Митк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-36360" y="115920"/>
          <a:ext cx="9180360" cy="771192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2920"/>
                <a:gridCol w="221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нтроль монтаж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Проверить качество монтажа на соответствие схемы электрической и перечня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Проверить качество пайки. Пайка монтажных соединений должна быть скелетной, обеспечивать надёжность электрического контакта и необходимою механическую прочность. Поверхность галтелей припоя по всему периметру паяного шва должна быть вогнутой, непрерывной, гладкой, глянцевой без тёмных пятен и посторонних включений. Высота паяных соединений над печатной платой не должна превышать 2 мм. для всех электрорадиоэлемент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-36360" y="115920"/>
          <a:ext cx="9180360" cy="710244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2920"/>
                <a:gridCol w="2214720"/>
              </a:tblGrid>
              <a:tr h="71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зоры между токонесущими элементами и корпусом должны быть не менее 1,0 м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аркировка деталей должна быть чёткой и ясн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Пайки должны быть чистыми, ровными без раковин и подтё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Выводы радиоэлементов не должны лежать на острых кромках дета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Детали не должны иметь вмятин, царапин и других повреждений лакокрасочного покр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Не допускается наличие брызг припоя и посторонних предметов на деталях и элементов монт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Щу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верка домашнего задания №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Составить эскиз с вариантами формовки радиоэлемент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Примеры монтажа радиоэлементов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219320" y="2286000"/>
            <a:ext cx="6172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838080" y="99072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зист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19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022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1905120" y="1295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447920" y="3808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зис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023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762120" y="1143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2860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оды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209680" y="13716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659400" y="380880"/>
            <a:ext cx="13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оды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05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Тема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205740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лексные работы по теме «Монтаж РЭА и приборов средней сложност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2052" descr="Video1"/>
          <p:cNvPicPr/>
          <p:nvPr/>
        </p:nvPicPr>
        <p:blipFill>
          <a:blip r:embed="rId1"/>
          <a:stretch/>
        </p:blipFill>
        <p:spPr>
          <a:xfrm>
            <a:off x="0" y="350028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53" descr="r_002"/>
          <p:cNvPicPr/>
          <p:nvPr/>
        </p:nvPicPr>
        <p:blipFill>
          <a:blip r:embed="rId2"/>
          <a:stretch/>
        </p:blipFill>
        <p:spPr>
          <a:xfrm>
            <a:off x="5076720" y="3860640"/>
            <a:ext cx="32911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533520" y="990720"/>
            <a:ext cx="63244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денсатор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314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457200" y="11430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80880" y="1905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4, МТ, МЛТ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44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19920" y="1905120"/>
            <a:ext cx="12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3-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9920" y="1295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828800" y="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ист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4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2914560" cy="3279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33256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440" y="1843560"/>
            <a:ext cx="903456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Что произойдет если радиоэлементы не правильно установить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660240"/>
            <a:ext cx="5724360" cy="6197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cff33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мейте в виду, что на поиск ошибочно установленного элемента потребуется много времени при последующей 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наладке электронного усройства.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81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132640"/>
            <a:ext cx="903456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авайте повторим требования к пайке. </a:t>
            </a:r>
            <a:br>
              <a:rPr sz="4400"/>
            </a:b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Какая должна быть пайка?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955880"/>
            <a:ext cx="9144000" cy="2781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Verdana"/>
              </a:rPr>
              <a:t>Недопустим перегрев ножек электрорадиоэлементов и контактных площадок печатной пла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6" name="Picture 3" descr="сканирование0055"/>
          <p:cNvPicPr/>
          <p:nvPr/>
        </p:nvPicPr>
        <p:blipFill>
          <a:blip r:embed="rId1"/>
          <a:stretch/>
        </p:blipFill>
        <p:spPr>
          <a:xfrm>
            <a:off x="2590920" y="4930920"/>
            <a:ext cx="38862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834120"/>
            <a:ext cx="9144000" cy="4784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Verdana"/>
              </a:rPr>
              <a:t>Признаком качественной пайки является равномерно растекшийся припой, который при застывании приобретает гладкую блестящую поверхность без пор и острых выпуклостей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684000"/>
            <a:ext cx="7772400" cy="34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омните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Качество пайки не зависит от количества залитого припоя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658880"/>
            <a:ext cx="9036000" cy="27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омните!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Признаком плохой пайки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является матовая шероховатая поверхность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47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рещается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При монтаже радиоэлектронной аппаратуры и приборов пользоваться флюсом с содержанием кислоты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45600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1.Выполнить монтаж электронного устройства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Verdana"/>
              </a:rPr>
              <a:t>2.Проверить качество монтажа электронного устрой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1233360"/>
            <a:ext cx="7772400" cy="27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a0000"/>
                </a:solidFill>
                <a:latin typeface="Verdana"/>
              </a:rPr>
              <a:t>Повторим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Если пайка будет некачественной, то какие могут быть последствия?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859320"/>
            <a:ext cx="9034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Техника безопасно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льзоваться исправным инструмент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ботать в спец. одежд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оверить исправность оборудования,  приборов и соблюдать правила работы  с ни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57200" y="0"/>
            <a:ext cx="8001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А ВЗАИМОКОНТРОЛЯ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: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л: _____________                                                                      Проверил: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107"/>
          <p:cNvGrpSpPr/>
          <p:nvPr/>
        </p:nvGrpSpPr>
        <p:grpSpPr>
          <a:xfrm>
            <a:off x="685800" y="1066680"/>
            <a:ext cx="7314840" cy="5410440"/>
            <a:chOff x="685800" y="1066680"/>
            <a:chExt cx="7314840" cy="5410440"/>
          </a:xfrm>
        </p:grpSpPr>
        <p:grpSp>
          <p:nvGrpSpPr>
            <p:cNvPr id="276" name="Group 105"/>
            <p:cNvGrpSpPr/>
            <p:nvPr/>
          </p:nvGrpSpPr>
          <p:grpSpPr>
            <a:xfrm>
              <a:off x="691560" y="1069560"/>
              <a:ext cx="7302600" cy="5404680"/>
              <a:chOff x="691560" y="1069560"/>
              <a:chExt cx="7302600" cy="5404680"/>
            </a:xfrm>
          </p:grpSpPr>
          <p:grpSp>
            <p:nvGrpSpPr>
              <p:cNvPr id="277" name="Group 38"/>
              <p:cNvGrpSpPr/>
              <p:nvPr/>
            </p:nvGrpSpPr>
            <p:grpSpPr>
              <a:xfrm>
                <a:off x="691560" y="1069560"/>
                <a:ext cx="649800" cy="429120"/>
                <a:chOff x="691560" y="1069560"/>
                <a:chExt cx="649800" cy="429120"/>
              </a:xfrm>
            </p:grpSpPr>
            <p:sp>
              <p:nvSpPr>
                <p:cNvPr id="278" name="Rectangle 3"/>
                <p:cNvSpPr/>
                <p:nvPr/>
              </p:nvSpPr>
              <p:spPr>
                <a:xfrm>
                  <a:off x="777240" y="1069560"/>
                  <a:ext cx="4780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№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Rectangle 37"/>
                <p:cNvSpPr/>
                <p:nvPr/>
              </p:nvSpPr>
              <p:spPr>
                <a:xfrm>
                  <a:off x="691560" y="1069560"/>
                  <a:ext cx="64980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0" name="Group 40"/>
              <p:cNvGrpSpPr/>
              <p:nvPr/>
            </p:nvGrpSpPr>
            <p:grpSpPr>
              <a:xfrm>
                <a:off x="1341720" y="1069560"/>
                <a:ext cx="4088520" cy="429120"/>
                <a:chOff x="1341720" y="1069560"/>
                <a:chExt cx="4088520" cy="429120"/>
              </a:xfrm>
            </p:grpSpPr>
            <p:sp>
              <p:nvSpPr>
                <p:cNvPr id="281" name="Rectangle 4"/>
                <p:cNvSpPr/>
                <p:nvPr/>
              </p:nvSpPr>
              <p:spPr>
                <a:xfrm>
                  <a:off x="1427040" y="1069560"/>
                  <a:ext cx="39171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аименование  критериев оцен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Rectangle 39"/>
                <p:cNvSpPr/>
                <p:nvPr/>
              </p:nvSpPr>
              <p:spPr>
                <a:xfrm>
                  <a:off x="1341720" y="1069560"/>
                  <a:ext cx="408852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3" name="Group 42"/>
              <p:cNvGrpSpPr/>
              <p:nvPr/>
            </p:nvGrpSpPr>
            <p:grpSpPr>
              <a:xfrm>
                <a:off x="5430600" y="1069560"/>
                <a:ext cx="2563560" cy="429120"/>
                <a:chOff x="5430600" y="1069560"/>
                <a:chExt cx="2563560" cy="429120"/>
              </a:xfrm>
            </p:grpSpPr>
            <p:sp>
              <p:nvSpPr>
                <p:cNvPr id="284" name="Rectangle 5"/>
                <p:cNvSpPr/>
                <p:nvPr/>
              </p:nvSpPr>
              <p:spPr>
                <a:xfrm>
                  <a:off x="5516280" y="1069560"/>
                  <a:ext cx="23918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аллы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Rectangle 41"/>
                <p:cNvSpPr/>
                <p:nvPr/>
              </p:nvSpPr>
              <p:spPr>
                <a:xfrm>
                  <a:off x="5430600" y="1069560"/>
                  <a:ext cx="256356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6" name="Group 44"/>
              <p:cNvGrpSpPr/>
              <p:nvPr/>
            </p:nvGrpSpPr>
            <p:grpSpPr>
              <a:xfrm>
                <a:off x="691560" y="1498680"/>
                <a:ext cx="649800" cy="526680"/>
                <a:chOff x="691560" y="1498680"/>
                <a:chExt cx="649800" cy="526680"/>
              </a:xfrm>
            </p:grpSpPr>
            <p:sp>
              <p:nvSpPr>
                <p:cNvPr id="287" name="Rectangle 6"/>
                <p:cNvSpPr/>
                <p:nvPr/>
              </p:nvSpPr>
              <p:spPr>
                <a:xfrm>
                  <a:off x="777240" y="14986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691560" y="14986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9" name="Group 46"/>
              <p:cNvGrpSpPr/>
              <p:nvPr/>
            </p:nvGrpSpPr>
            <p:grpSpPr>
              <a:xfrm>
                <a:off x="1341720" y="1498680"/>
                <a:ext cx="4088520" cy="526680"/>
                <a:chOff x="1341720" y="1498680"/>
                <a:chExt cx="4088520" cy="526680"/>
              </a:xfrm>
            </p:grpSpPr>
            <p:sp>
              <p:nvSpPr>
                <p:cNvPr id="290" name="Rectangle 7"/>
                <p:cNvSpPr/>
                <p:nvPr/>
              </p:nvSpPr>
              <p:spPr>
                <a:xfrm>
                  <a:off x="1427040" y="14986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лестящая гладкая поверхность пайки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 качественная пайка – 1 балл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1" name="Rectangle 45"/>
                <p:cNvSpPr/>
                <p:nvPr/>
              </p:nvSpPr>
              <p:spPr>
                <a:xfrm>
                  <a:off x="1341720" y="14986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5430600" y="1498680"/>
                <a:ext cx="2563560" cy="526680"/>
                <a:chOff x="5430600" y="1498680"/>
                <a:chExt cx="2563560" cy="526680"/>
              </a:xfrm>
            </p:grpSpPr>
            <p:sp>
              <p:nvSpPr>
                <p:cNvPr id="293" name="Rectangle 8"/>
                <p:cNvSpPr/>
                <p:nvPr/>
              </p:nvSpPr>
              <p:spPr>
                <a:xfrm>
                  <a:off x="5516280" y="14986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4" name="Rectangle 47"/>
                <p:cNvSpPr/>
                <p:nvPr/>
              </p:nvSpPr>
              <p:spPr>
                <a:xfrm>
                  <a:off x="5430600" y="14986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5" name="Group 50"/>
              <p:cNvGrpSpPr/>
              <p:nvPr/>
            </p:nvGrpSpPr>
            <p:grpSpPr>
              <a:xfrm>
                <a:off x="691560" y="2025360"/>
                <a:ext cx="649800" cy="526680"/>
                <a:chOff x="691560" y="2025360"/>
                <a:chExt cx="649800" cy="526680"/>
              </a:xfrm>
            </p:grpSpPr>
            <p:sp>
              <p:nvSpPr>
                <p:cNvPr id="296" name="Rectangle 9"/>
                <p:cNvSpPr/>
                <p:nvPr/>
              </p:nvSpPr>
              <p:spPr>
                <a:xfrm>
                  <a:off x="777240" y="202536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7" name="Rectangle 49"/>
                <p:cNvSpPr/>
                <p:nvPr/>
              </p:nvSpPr>
              <p:spPr>
                <a:xfrm>
                  <a:off x="691560" y="202536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8" name="Group 52"/>
              <p:cNvGrpSpPr/>
              <p:nvPr/>
            </p:nvGrpSpPr>
            <p:grpSpPr>
              <a:xfrm>
                <a:off x="1341720" y="2025360"/>
                <a:ext cx="4088520" cy="526680"/>
                <a:chOff x="1341720" y="2025360"/>
                <a:chExt cx="4088520" cy="526680"/>
              </a:xfrm>
            </p:grpSpPr>
            <p:sp>
              <p:nvSpPr>
                <p:cNvPr id="299" name="Rectangle 10"/>
                <p:cNvSpPr/>
                <p:nvPr/>
              </p:nvSpPr>
              <p:spPr>
                <a:xfrm>
                  <a:off x="1427040" y="202536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Скелетная» пай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 качественная пайка – 1 балл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0" name="Rectangle 51"/>
                <p:cNvSpPr/>
                <p:nvPr/>
              </p:nvSpPr>
              <p:spPr>
                <a:xfrm>
                  <a:off x="1341720" y="202536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1" name="Group 54"/>
              <p:cNvGrpSpPr/>
              <p:nvPr/>
            </p:nvGrpSpPr>
            <p:grpSpPr>
              <a:xfrm>
                <a:off x="5430600" y="2025360"/>
                <a:ext cx="2563560" cy="526680"/>
                <a:chOff x="5430600" y="2025360"/>
                <a:chExt cx="2563560" cy="526680"/>
              </a:xfrm>
            </p:grpSpPr>
            <p:sp>
              <p:nvSpPr>
                <p:cNvPr id="302" name="Rectangle 11"/>
                <p:cNvSpPr/>
                <p:nvPr/>
              </p:nvSpPr>
              <p:spPr>
                <a:xfrm>
                  <a:off x="5516280" y="20253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3" name="Rectangle 53"/>
                <p:cNvSpPr/>
                <p:nvPr/>
              </p:nvSpPr>
              <p:spPr>
                <a:xfrm>
                  <a:off x="5430600" y="20253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4" name="Group 56"/>
              <p:cNvGrpSpPr/>
              <p:nvPr/>
            </p:nvGrpSpPr>
            <p:grpSpPr>
              <a:xfrm>
                <a:off x="691560" y="2552400"/>
                <a:ext cx="649800" cy="526680"/>
                <a:chOff x="691560" y="2552400"/>
                <a:chExt cx="649800" cy="526680"/>
              </a:xfrm>
            </p:grpSpPr>
            <p:sp>
              <p:nvSpPr>
                <p:cNvPr id="305" name="Rectangle 12"/>
                <p:cNvSpPr/>
                <p:nvPr/>
              </p:nvSpPr>
              <p:spPr>
                <a:xfrm>
                  <a:off x="777240" y="255240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6" name="Rectangle 55"/>
                <p:cNvSpPr/>
                <p:nvPr/>
              </p:nvSpPr>
              <p:spPr>
                <a:xfrm>
                  <a:off x="691560" y="255240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7" name="Group 58"/>
              <p:cNvGrpSpPr/>
              <p:nvPr/>
            </p:nvGrpSpPr>
            <p:grpSpPr>
              <a:xfrm>
                <a:off x="1341720" y="2552400"/>
                <a:ext cx="4088520" cy="526680"/>
                <a:chOff x="1341720" y="2552400"/>
                <a:chExt cx="4088520" cy="526680"/>
              </a:xfrm>
            </p:grpSpPr>
            <p:sp>
              <p:nvSpPr>
                <p:cNvPr id="308" name="Rectangle 13"/>
                <p:cNvSpPr/>
                <p:nvPr/>
              </p:nvSpPr>
              <p:spPr>
                <a:xfrm>
                  <a:off x="1427040" y="255240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авильная формовка и лужение выводов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9" name="Rectangle 57"/>
                <p:cNvSpPr/>
                <p:nvPr/>
              </p:nvSpPr>
              <p:spPr>
                <a:xfrm>
                  <a:off x="1341720" y="255240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0" name="Group 60"/>
              <p:cNvGrpSpPr/>
              <p:nvPr/>
            </p:nvGrpSpPr>
            <p:grpSpPr>
              <a:xfrm>
                <a:off x="5430600" y="2552400"/>
                <a:ext cx="2563560" cy="526680"/>
                <a:chOff x="5430600" y="2552400"/>
                <a:chExt cx="2563560" cy="526680"/>
              </a:xfrm>
            </p:grpSpPr>
            <p:sp>
              <p:nvSpPr>
                <p:cNvPr id="311" name="Rectangle 14"/>
                <p:cNvSpPr/>
                <p:nvPr/>
              </p:nvSpPr>
              <p:spPr>
                <a:xfrm>
                  <a:off x="5516280" y="255240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2" name="Rectangle 59"/>
                <p:cNvSpPr/>
                <p:nvPr/>
              </p:nvSpPr>
              <p:spPr>
                <a:xfrm>
                  <a:off x="5430600" y="255240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3" name="Group 62"/>
              <p:cNvGrpSpPr/>
              <p:nvPr/>
            </p:nvGrpSpPr>
            <p:grpSpPr>
              <a:xfrm>
                <a:off x="691560" y="3079080"/>
                <a:ext cx="649800" cy="526680"/>
                <a:chOff x="691560" y="3079080"/>
                <a:chExt cx="649800" cy="526680"/>
              </a:xfrm>
            </p:grpSpPr>
            <p:sp>
              <p:nvSpPr>
                <p:cNvPr id="314" name="Rectangle 15"/>
                <p:cNvSpPr/>
                <p:nvPr/>
              </p:nvSpPr>
              <p:spPr>
                <a:xfrm>
                  <a:off x="777240" y="30790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Rectangle 61"/>
                <p:cNvSpPr/>
                <p:nvPr/>
              </p:nvSpPr>
              <p:spPr>
                <a:xfrm>
                  <a:off x="691560" y="30790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6" name="Group 64"/>
              <p:cNvGrpSpPr/>
              <p:nvPr/>
            </p:nvGrpSpPr>
            <p:grpSpPr>
              <a:xfrm>
                <a:off x="1341720" y="3079080"/>
                <a:ext cx="4088520" cy="526680"/>
                <a:chOff x="1341720" y="3079080"/>
                <a:chExt cx="4088520" cy="526680"/>
              </a:xfrm>
            </p:grpSpPr>
            <p:sp>
              <p:nvSpPr>
                <p:cNvPr id="317" name="Rectangle 16"/>
                <p:cNvSpPr/>
                <p:nvPr/>
              </p:nvSpPr>
              <p:spPr>
                <a:xfrm>
                  <a:off x="1427040" y="30790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Состояние печатных проводников (отслоение дорожек)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8" name="Rectangle 63"/>
                <p:cNvSpPr/>
                <p:nvPr/>
              </p:nvSpPr>
              <p:spPr>
                <a:xfrm>
                  <a:off x="1341720" y="30790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9" name="Group 66"/>
              <p:cNvGrpSpPr/>
              <p:nvPr/>
            </p:nvGrpSpPr>
            <p:grpSpPr>
              <a:xfrm>
                <a:off x="5430600" y="3079080"/>
                <a:ext cx="2563560" cy="526680"/>
                <a:chOff x="5430600" y="3079080"/>
                <a:chExt cx="2563560" cy="526680"/>
              </a:xfrm>
            </p:grpSpPr>
            <p:sp>
              <p:nvSpPr>
                <p:cNvPr id="320" name="Rectangle 17"/>
                <p:cNvSpPr/>
                <p:nvPr/>
              </p:nvSpPr>
              <p:spPr>
                <a:xfrm>
                  <a:off x="5516280" y="30790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Rectangle 65"/>
                <p:cNvSpPr/>
                <p:nvPr/>
              </p:nvSpPr>
              <p:spPr>
                <a:xfrm>
                  <a:off x="5430600" y="30790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2" name="Group 68"/>
              <p:cNvGrpSpPr/>
              <p:nvPr/>
            </p:nvGrpSpPr>
            <p:grpSpPr>
              <a:xfrm>
                <a:off x="691560" y="3605760"/>
                <a:ext cx="649800" cy="526680"/>
                <a:chOff x="691560" y="3605760"/>
                <a:chExt cx="649800" cy="526680"/>
              </a:xfrm>
            </p:grpSpPr>
            <p:sp>
              <p:nvSpPr>
                <p:cNvPr id="323" name="Rectangle 18"/>
                <p:cNvSpPr/>
                <p:nvPr/>
              </p:nvSpPr>
              <p:spPr>
                <a:xfrm>
                  <a:off x="777240" y="360576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4" name="Rectangle 67"/>
                <p:cNvSpPr/>
                <p:nvPr/>
              </p:nvSpPr>
              <p:spPr>
                <a:xfrm>
                  <a:off x="691560" y="360576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5" name="Group 70"/>
              <p:cNvGrpSpPr/>
              <p:nvPr/>
            </p:nvGrpSpPr>
            <p:grpSpPr>
              <a:xfrm>
                <a:off x="1341720" y="3605760"/>
                <a:ext cx="4088520" cy="526680"/>
                <a:chOff x="1341720" y="3605760"/>
                <a:chExt cx="4088520" cy="526680"/>
              </a:xfrm>
            </p:grpSpPr>
            <p:sp>
              <p:nvSpPr>
                <p:cNvPr id="326" name="Rectangle 19"/>
                <p:cNvSpPr/>
                <p:nvPr/>
              </p:nvSpPr>
              <p:spPr>
                <a:xfrm>
                  <a:off x="1427040" y="360576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Укладка монтажа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Промывка па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верка соответствия схеме монтажной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7" name="Rectangle 69"/>
                <p:cNvSpPr/>
                <p:nvPr/>
              </p:nvSpPr>
              <p:spPr>
                <a:xfrm>
                  <a:off x="1341720" y="360576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8" name="Group 72"/>
              <p:cNvGrpSpPr/>
              <p:nvPr/>
            </p:nvGrpSpPr>
            <p:grpSpPr>
              <a:xfrm>
                <a:off x="5430600" y="3605760"/>
                <a:ext cx="2563560" cy="526680"/>
                <a:chOff x="5430600" y="3605760"/>
                <a:chExt cx="2563560" cy="526680"/>
              </a:xfrm>
            </p:grpSpPr>
            <p:sp>
              <p:nvSpPr>
                <p:cNvPr id="329" name="Rectangle 20"/>
                <p:cNvSpPr/>
                <p:nvPr/>
              </p:nvSpPr>
              <p:spPr>
                <a:xfrm>
                  <a:off x="5516280" y="36057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Rectangle 71"/>
                <p:cNvSpPr/>
                <p:nvPr/>
              </p:nvSpPr>
              <p:spPr>
                <a:xfrm>
                  <a:off x="5430600" y="36057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1" name="Group 74"/>
              <p:cNvGrpSpPr/>
              <p:nvPr/>
            </p:nvGrpSpPr>
            <p:grpSpPr>
              <a:xfrm>
                <a:off x="691560" y="4132440"/>
                <a:ext cx="649800" cy="526680"/>
                <a:chOff x="691560" y="4132440"/>
                <a:chExt cx="649800" cy="526680"/>
              </a:xfrm>
            </p:grpSpPr>
            <p:sp>
              <p:nvSpPr>
                <p:cNvPr id="332" name="Rectangle 21"/>
                <p:cNvSpPr/>
                <p:nvPr/>
              </p:nvSpPr>
              <p:spPr>
                <a:xfrm>
                  <a:off x="777240" y="413244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3" name="Rectangle 73"/>
                <p:cNvSpPr/>
                <p:nvPr/>
              </p:nvSpPr>
              <p:spPr>
                <a:xfrm>
                  <a:off x="691560" y="413244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4" name="Group 76"/>
              <p:cNvGrpSpPr/>
              <p:nvPr/>
            </p:nvGrpSpPr>
            <p:grpSpPr>
              <a:xfrm>
                <a:off x="1341720" y="4132440"/>
                <a:ext cx="4088520" cy="526680"/>
                <a:chOff x="1341720" y="4132440"/>
                <a:chExt cx="4088520" cy="526680"/>
              </a:xfrm>
            </p:grpSpPr>
            <p:sp>
              <p:nvSpPr>
                <p:cNvPr id="335" name="Rectangle 22"/>
                <p:cNvSpPr/>
                <p:nvPr/>
              </p:nvSpPr>
              <p:spPr>
                <a:xfrm>
                  <a:off x="1427040" y="413244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Rectangle 75"/>
                <p:cNvSpPr/>
                <p:nvPr/>
              </p:nvSpPr>
              <p:spPr>
                <a:xfrm>
                  <a:off x="1341720" y="413244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7" name="Group 78"/>
              <p:cNvGrpSpPr/>
              <p:nvPr/>
            </p:nvGrpSpPr>
            <p:grpSpPr>
              <a:xfrm>
                <a:off x="5430600" y="4132440"/>
                <a:ext cx="2563560" cy="526680"/>
                <a:chOff x="5430600" y="4132440"/>
                <a:chExt cx="2563560" cy="526680"/>
              </a:xfrm>
            </p:grpSpPr>
            <p:sp>
              <p:nvSpPr>
                <p:cNvPr id="338" name="Rectangle 23"/>
                <p:cNvSpPr/>
                <p:nvPr/>
              </p:nvSpPr>
              <p:spPr>
                <a:xfrm>
                  <a:off x="5516280" y="413244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9" name="Rectangle 77"/>
                <p:cNvSpPr/>
                <p:nvPr/>
              </p:nvSpPr>
              <p:spPr>
                <a:xfrm>
                  <a:off x="5430600" y="413244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0" name="Group 80"/>
              <p:cNvGrpSpPr/>
              <p:nvPr/>
            </p:nvGrpSpPr>
            <p:grpSpPr>
              <a:xfrm>
                <a:off x="691560" y="4659480"/>
                <a:ext cx="649800" cy="526680"/>
                <a:chOff x="691560" y="4659480"/>
                <a:chExt cx="649800" cy="526680"/>
              </a:xfrm>
            </p:grpSpPr>
            <p:sp>
              <p:nvSpPr>
                <p:cNvPr id="341" name="Rectangle 24"/>
                <p:cNvSpPr/>
                <p:nvPr/>
              </p:nvSpPr>
              <p:spPr>
                <a:xfrm>
                  <a:off x="777240" y="46594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Rectangle 79"/>
                <p:cNvSpPr/>
                <p:nvPr/>
              </p:nvSpPr>
              <p:spPr>
                <a:xfrm>
                  <a:off x="691560" y="46594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3" name="Group 82"/>
              <p:cNvGrpSpPr/>
              <p:nvPr/>
            </p:nvGrpSpPr>
            <p:grpSpPr>
              <a:xfrm>
                <a:off x="1341720" y="4659480"/>
                <a:ext cx="4088520" cy="526680"/>
                <a:chOff x="1341720" y="4659480"/>
                <a:chExt cx="4088520" cy="526680"/>
              </a:xfrm>
            </p:grpSpPr>
            <p:sp>
              <p:nvSpPr>
                <p:cNvPr id="344" name="Rectangle 25"/>
                <p:cNvSpPr/>
                <p:nvPr/>
              </p:nvSpPr>
              <p:spPr>
                <a:xfrm>
                  <a:off x="1427040" y="46594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5" name="Rectangle 81"/>
                <p:cNvSpPr/>
                <p:nvPr/>
              </p:nvSpPr>
              <p:spPr>
                <a:xfrm>
                  <a:off x="1341720" y="46594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6" name="Group 84"/>
              <p:cNvGrpSpPr/>
              <p:nvPr/>
            </p:nvGrpSpPr>
            <p:grpSpPr>
              <a:xfrm>
                <a:off x="5430600" y="4659480"/>
                <a:ext cx="2563560" cy="526680"/>
                <a:chOff x="5430600" y="4659480"/>
                <a:chExt cx="2563560" cy="526680"/>
              </a:xfrm>
            </p:grpSpPr>
            <p:sp>
              <p:nvSpPr>
                <p:cNvPr id="347" name="Rectangle 26"/>
                <p:cNvSpPr/>
                <p:nvPr/>
              </p:nvSpPr>
              <p:spPr>
                <a:xfrm>
                  <a:off x="5516280" y="46594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Rectangle 83"/>
                <p:cNvSpPr/>
                <p:nvPr/>
              </p:nvSpPr>
              <p:spPr>
                <a:xfrm>
                  <a:off x="5430600" y="46594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9" name="Group 86"/>
              <p:cNvGrpSpPr/>
              <p:nvPr/>
            </p:nvGrpSpPr>
            <p:grpSpPr>
              <a:xfrm>
                <a:off x="691560" y="5186160"/>
                <a:ext cx="637560" cy="526680"/>
                <a:chOff x="691560" y="5186160"/>
                <a:chExt cx="637560" cy="526680"/>
              </a:xfrm>
            </p:grpSpPr>
            <p:sp>
              <p:nvSpPr>
                <p:cNvPr id="350" name="Rectangle 27"/>
                <p:cNvSpPr/>
                <p:nvPr/>
              </p:nvSpPr>
              <p:spPr>
                <a:xfrm>
                  <a:off x="777240" y="5186160"/>
                  <a:ext cx="465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Rectangle 85"/>
                <p:cNvSpPr/>
                <p:nvPr/>
              </p:nvSpPr>
              <p:spPr>
                <a:xfrm>
                  <a:off x="691560" y="5186160"/>
                  <a:ext cx="637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2" name="Group 88"/>
              <p:cNvGrpSpPr/>
              <p:nvPr/>
            </p:nvGrpSpPr>
            <p:grpSpPr>
              <a:xfrm>
                <a:off x="1329480" y="5186160"/>
                <a:ext cx="4100760" cy="526680"/>
                <a:chOff x="1329480" y="5186160"/>
                <a:chExt cx="4100760" cy="526680"/>
              </a:xfrm>
            </p:grpSpPr>
            <p:sp>
              <p:nvSpPr>
                <p:cNvPr id="353" name="Rectangle 28"/>
                <p:cNvSpPr/>
                <p:nvPr/>
              </p:nvSpPr>
              <p:spPr>
                <a:xfrm>
                  <a:off x="1415160" y="5186160"/>
                  <a:ext cx="39290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Rectangle 87"/>
                <p:cNvSpPr/>
                <p:nvPr/>
              </p:nvSpPr>
              <p:spPr>
                <a:xfrm>
                  <a:off x="1329480" y="5186160"/>
                  <a:ext cx="41007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5" name="Group 90"/>
              <p:cNvGrpSpPr/>
              <p:nvPr/>
            </p:nvGrpSpPr>
            <p:grpSpPr>
              <a:xfrm>
                <a:off x="5430600" y="5186160"/>
                <a:ext cx="2563560" cy="526680"/>
                <a:chOff x="5430600" y="5186160"/>
                <a:chExt cx="2563560" cy="526680"/>
              </a:xfrm>
            </p:grpSpPr>
            <p:sp>
              <p:nvSpPr>
                <p:cNvPr id="356" name="Rectangle 29"/>
                <p:cNvSpPr/>
                <p:nvPr/>
              </p:nvSpPr>
              <p:spPr>
                <a:xfrm>
                  <a:off x="5516280" y="51861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7" name="Rectangle 89"/>
                <p:cNvSpPr/>
                <p:nvPr/>
              </p:nvSpPr>
              <p:spPr>
                <a:xfrm>
                  <a:off x="5430600" y="51861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8" name="Group 92"/>
              <p:cNvGrpSpPr/>
              <p:nvPr/>
            </p:nvGrpSpPr>
            <p:grpSpPr>
              <a:xfrm>
                <a:off x="691560" y="5712840"/>
                <a:ext cx="637560" cy="760680"/>
                <a:chOff x="691560" y="5712840"/>
                <a:chExt cx="637560" cy="760680"/>
              </a:xfrm>
            </p:grpSpPr>
            <p:sp>
              <p:nvSpPr>
                <p:cNvPr id="359" name="Rectangle 30"/>
                <p:cNvSpPr/>
                <p:nvPr/>
              </p:nvSpPr>
              <p:spPr>
                <a:xfrm>
                  <a:off x="777240" y="5712840"/>
                  <a:ext cx="4658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0" name="Rectangle 91"/>
                <p:cNvSpPr/>
                <p:nvPr/>
              </p:nvSpPr>
              <p:spPr>
                <a:xfrm>
                  <a:off x="691560" y="5712840"/>
                  <a:ext cx="6375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1" name="Group 94"/>
              <p:cNvGrpSpPr/>
              <p:nvPr/>
            </p:nvGrpSpPr>
            <p:grpSpPr>
              <a:xfrm>
                <a:off x="1329480" y="5712840"/>
                <a:ext cx="4100760" cy="760680"/>
                <a:chOff x="1329480" y="5712840"/>
                <a:chExt cx="4100760" cy="760680"/>
              </a:xfrm>
            </p:grpSpPr>
            <p:sp>
              <p:nvSpPr>
                <p:cNvPr id="362" name="Rectangle 31"/>
                <p:cNvSpPr/>
                <p:nvPr/>
              </p:nvSpPr>
              <p:spPr>
                <a:xfrm>
                  <a:off x="1415160" y="5712840"/>
                  <a:ext cx="39290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Rectangle 93"/>
                <p:cNvSpPr/>
                <p:nvPr/>
              </p:nvSpPr>
              <p:spPr>
                <a:xfrm>
                  <a:off x="1329480" y="5712840"/>
                  <a:ext cx="41007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4" name="Group 96"/>
              <p:cNvGrpSpPr/>
              <p:nvPr/>
            </p:nvGrpSpPr>
            <p:grpSpPr>
              <a:xfrm>
                <a:off x="5430600" y="5712840"/>
                <a:ext cx="2563560" cy="760680"/>
                <a:chOff x="5430600" y="5712840"/>
                <a:chExt cx="2563560" cy="760680"/>
              </a:xfrm>
            </p:grpSpPr>
            <p:sp>
              <p:nvSpPr>
                <p:cNvPr id="365" name="Rectangle 32"/>
                <p:cNvSpPr/>
                <p:nvPr/>
              </p:nvSpPr>
              <p:spPr>
                <a:xfrm>
                  <a:off x="5516280" y="5712840"/>
                  <a:ext cx="23918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Rectangle 95"/>
                <p:cNvSpPr/>
                <p:nvPr/>
              </p:nvSpPr>
              <p:spPr>
                <a:xfrm>
                  <a:off x="5430600" y="5712840"/>
                  <a:ext cx="25635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7" name="Group 98"/>
              <p:cNvGrpSpPr/>
              <p:nvPr/>
            </p:nvGrpSpPr>
            <p:grpSpPr>
              <a:xfrm>
                <a:off x="691560" y="6473880"/>
                <a:ext cx="637560" cy="360"/>
                <a:chOff x="691560" y="6473880"/>
                <a:chExt cx="637560" cy="360"/>
              </a:xfrm>
            </p:grpSpPr>
            <p:sp>
              <p:nvSpPr>
                <p:cNvPr id="368" name="Rectangle 33"/>
                <p:cNvSpPr/>
                <p:nvPr/>
              </p:nvSpPr>
              <p:spPr>
                <a:xfrm>
                  <a:off x="691560" y="6473880"/>
                  <a:ext cx="637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Rectangle 97"/>
                <p:cNvSpPr/>
                <p:nvPr/>
              </p:nvSpPr>
              <p:spPr>
                <a:xfrm>
                  <a:off x="691560" y="6473880"/>
                  <a:ext cx="637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0" name="Group 100"/>
              <p:cNvGrpSpPr/>
              <p:nvPr/>
            </p:nvGrpSpPr>
            <p:grpSpPr>
              <a:xfrm>
                <a:off x="1329480" y="6473880"/>
                <a:ext cx="11520" cy="360"/>
                <a:chOff x="1329480" y="6473880"/>
                <a:chExt cx="11520" cy="360"/>
              </a:xfrm>
            </p:grpSpPr>
            <p:sp>
              <p:nvSpPr>
                <p:cNvPr id="371" name="Rectangle 34"/>
                <p:cNvSpPr/>
                <p:nvPr/>
              </p:nvSpPr>
              <p:spPr>
                <a:xfrm>
                  <a:off x="1329480" y="6473880"/>
                  <a:ext cx="1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2" name="Rectangle 99"/>
                <p:cNvSpPr/>
                <p:nvPr/>
              </p:nvSpPr>
              <p:spPr>
                <a:xfrm>
                  <a:off x="1329480" y="6473880"/>
                  <a:ext cx="115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3" name="Group 102"/>
              <p:cNvGrpSpPr/>
              <p:nvPr/>
            </p:nvGrpSpPr>
            <p:grpSpPr>
              <a:xfrm>
                <a:off x="1341720" y="6473880"/>
                <a:ext cx="4088520" cy="360"/>
                <a:chOff x="1341720" y="6473880"/>
                <a:chExt cx="4088520" cy="360"/>
              </a:xfrm>
            </p:grpSpPr>
            <p:sp>
              <p:nvSpPr>
                <p:cNvPr id="374" name="Rectangle 35"/>
                <p:cNvSpPr/>
                <p:nvPr/>
              </p:nvSpPr>
              <p:spPr>
                <a:xfrm>
                  <a:off x="1341720" y="6473880"/>
                  <a:ext cx="4088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5" name="Rectangle 101"/>
                <p:cNvSpPr/>
                <p:nvPr/>
              </p:nvSpPr>
              <p:spPr>
                <a:xfrm>
                  <a:off x="1341720" y="6473880"/>
                  <a:ext cx="40885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6" name="Group 104"/>
              <p:cNvGrpSpPr/>
              <p:nvPr/>
            </p:nvGrpSpPr>
            <p:grpSpPr>
              <a:xfrm>
                <a:off x="5430600" y="6473880"/>
                <a:ext cx="2563560" cy="360"/>
                <a:chOff x="5430600" y="6473880"/>
                <a:chExt cx="2563560" cy="360"/>
              </a:xfrm>
            </p:grpSpPr>
            <p:sp>
              <p:nvSpPr>
                <p:cNvPr id="377" name="Rectangle 36"/>
                <p:cNvSpPr/>
                <p:nvPr/>
              </p:nvSpPr>
              <p:spPr>
                <a:xfrm>
                  <a:off x="5430600" y="6473880"/>
                  <a:ext cx="2563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8" name="Rectangle 103"/>
                <p:cNvSpPr/>
                <p:nvPr/>
              </p:nvSpPr>
              <p:spPr>
                <a:xfrm>
                  <a:off x="5430600" y="6473880"/>
                  <a:ext cx="2563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9" name="Rectangle 106"/>
            <p:cNvSpPr/>
            <p:nvPr/>
          </p:nvSpPr>
          <p:spPr>
            <a:xfrm>
              <a:off x="685800" y="1066680"/>
              <a:ext cx="7314840" cy="5410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Rectangle 108"/>
          <p:cNvSpPr/>
          <p:nvPr/>
        </p:nvSpPr>
        <p:spPr>
          <a:xfrm>
            <a:off x="571680" y="628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: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295280" y="380880"/>
            <a:ext cx="6782040" cy="3934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от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 – 6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 от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 – 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;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 от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– 3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3" descr="BS00559_"/>
          <p:cNvPicPr/>
          <p:nvPr/>
        </p:nvPicPr>
        <p:blipFill>
          <a:blip r:embed="rId3"/>
          <a:stretch/>
        </p:blipFill>
        <p:spPr>
          <a:xfrm>
            <a:off x="2286000" y="3962520"/>
            <a:ext cx="459576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915200"/>
            <a:ext cx="903456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Выполнение самостоятельной рабо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одведем итоги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228600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1.Выполнить монтаж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2.Проверить качество монтажа электронного устрой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дач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3840" cy="3048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4487a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Изучить техническую документац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с проверкой технологическ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процес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Выполнять работу соглас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технологического тех. процес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Заполнить карту взаимоконтро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icture 4"/>
          <p:cNvSpPr/>
          <p:nvPr/>
        </p:nvSpPr>
        <p:spPr>
          <a:xfrm>
            <a:off x="4648320" y="0"/>
            <a:ext cx="396216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Домашнее задание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621560" cy="2438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b0dc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вторить назначение узлов электронных осциллограф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0595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емонстрация выполненной рабо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0" y="2495880"/>
            <a:ext cx="9144000" cy="3018600"/>
          </a:xfrm>
          <a:prstGeom prst="rect">
            <a:avLst/>
          </a:prstGeom>
          <a:solidFill>
            <a:srgbClr val="66ffcc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Изучить техническую документ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с проверкой технологическ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процес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Выполнять работу соглас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технологического тех. процес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Заполнить карту взаимоконтрол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311120" y="703440"/>
            <a:ext cx="47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Verdana"/>
              </a:rPr>
              <a:t>Задачи урок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861480"/>
            <a:ext cx="9034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верка домашнего задания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 flipV="1" rot="10800000">
            <a:off x="-1440" y="1987920"/>
            <a:ext cx="82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Verdana"/>
              </a:rPr>
              <a:t>1.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Разработать технолог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процесс по выбранно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устройств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Составить эскиз с вариантами формовки радиоэлемен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034560" cy="344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«Если вы удачно выберите труд и вложите в него всю душу, то счастье само вас отыщет»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                       К.Д.Ушинский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400" y="973080"/>
            <a:ext cx="767880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Verdana"/>
              </a:rPr>
              <a:t>Проверка домашнего задания №1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0"/>
          <a:ext cx="9180360" cy="713268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и содержание 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ологи-ческий реж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мент и контрольно измерительные приб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готов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роверить комплектность согласно перечню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Проверить детали на отсутствие механических повреждений, сколов, нарушений лакокрасочного покр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Подготовить паяльник к работе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отрегулировать длину стерж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заточить стержень нужной формы и облудить припоем ПОС-61;-проверить температуру стерж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инц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Теплоот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Бокоре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Паяльник 36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-17640" y="458640"/>
          <a:ext cx="9180720" cy="6492960"/>
        </p:xfrm>
        <a:graphic>
          <a:graphicData uri="http://schemas.openxmlformats.org/drawingml/2006/table">
            <a:tbl>
              <a:tblPr/>
              <a:tblGrid>
                <a:gridCol w="849600"/>
                <a:gridCol w="4443480"/>
                <a:gridCol w="1744560"/>
                <a:gridCol w="2143080"/>
              </a:tblGrid>
              <a:tr h="64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Облудить выводы элементов паяльником с применением припоя ПОС-61 и флюса ФКСП. Расстояние от корпуса до поверхности лужения не должно быть менее 5 мм.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бочее место должно быть оснащено приточно- вытяжной вентиляцией.  При лужении не допускать попадания припоя на корпус ЭРЭ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Выполнить обрезку и формовку выводов элементов согласно приложения. При формовке выводов элементов обеспечить меры предосторожности от изгиба выводов у основания корпуса элемента, придерживая вывод элемента круглогубцами или пинцет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мпература стержня паяльника 250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+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º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nn</cp:lastModifiedBy>
  <dcterms:modified xsi:type="dcterms:W3CDTF">2010-06-10T11:32:44Z</dcterms:modified>
  <cp:revision>24</cp:revision>
  <dc:subject/>
  <dc:title>PowerPoint Presentation</dc:title>
</cp:coreProperties>
</file>