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420-38BE-41E8-AE78-0B767F0F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A204-BC01-4F14-815D-6924C9A3A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4ED-56C0-4A0A-9EE1-409F0E7CF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A22A-D268-4B63-9D9F-512A7DFCF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466E-16B1-486D-B360-E759D79E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442F-BE82-4B79-BCD0-3A546DF1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DE4-4138-4460-A4DD-7B89D02B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BF4E-A1B6-4962-B365-1ACCB5B4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FDE4-798E-4CF3-AF71-CB0EB06B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781E-5896-40B9-8EBB-4163CDC3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9085-B0EA-4C3C-A12E-AD146487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42C-12A6-4941-A446-1458FD87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7C25-85FE-4C23-B776-814975100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7;&#1072;&#1076;&#1072;&#1085;&#1080;&#1103;%20&#1087;&#1086;%20&#1086;&#1090;&#1088;&#1072;&#1073;&#1086;&#1090;&#1082;&#1077;%20&#1087;&#1088;&#1072;&#1082;&#1090;&#1080;&#1095;&#1077;&#1089;&#1082;&#1080;&#1093;%20&#1085;&#1072;&#1074;&#1099;&#1082;&#1086;&#1074;.doc" TargetMode="External"/><Relationship Id="rId2" Type="http://schemas.openxmlformats.org/officeDocument/2006/relationships/hyperlink" Target="file:///&#1047;&#1072;&#1076;&#1072;&#1085;&#1080;&#1077;%20&#1087;&#1086;%20&#1090;&#1077;&#1084;&#1077;.doc" TargetMode="External"/><Relationship Id="rId3" Type="http://schemas.openxmlformats.org/officeDocument/2006/relationships/hyperlink" Target="file:///&#1079;&#1072;&#1076;.&#1076;&#1077;&#1075;&#1091;&#1089;&#1090;&#1072;&#1094;&#1080;&#1103;.doc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&#1054;&#1094;&#1077;&#1085;&#1086;&#1095;&#1085;&#1072;&#1103;%20&#1074;&#1077;&#1076;&#1086;&#1084;&#1086;&#1089;&#1090;&#1100;.doc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Проблемные ситу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аспознавание ассортимента мясных консервов по всем признакам классификации. Определение качества. Упаковка, маркировка, хранени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11280" y="177300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Распознавать ассортимент мясных консервов по всем признакам классификаци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Читать и расшифровывать маркировочные обозначения на таре и упаковке, проверять полноту реквизит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Определять конечный срок реализации товар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Определять качество мясных консервов органолептическим методом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Распознавать отличительные особенности товаров одной группы, подгруппы, вида и разновидности но разных изготовителе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4" dur="1" fill="hold"/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Распознавание ассортимента мясных консервов по всем признакам классификации. Определение качества. Упаковка, маркировка, хранени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Распознавать ассортимент мясных консервов по всем признакам классификаци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Читать и расшифровывать маркировочные обозначения на таре и упаковке, проверять полноту реквизитов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Определять конечный срок реализации товаро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Определять качество мясных консервов органолептическим методом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53735"/>
                </a:solidFill>
                <a:latin typeface="Calibri"/>
              </a:rPr>
              <a:t>Распознавать отличительные особенности товаров одной группы, подгруппы, вида и разновидности но разных изготовителе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d1ed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е на текущий инструкт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964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760" algn="ctr">
              <a:lnSpc>
                <a:spcPts val="1624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Задания для работы в отделах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день 2</a:t>
            </a:r>
            <a:r>
              <a:rPr b="0" lang="en-US" sz="3200" spc="-1" strike="noStrike" u="sng">
                <a:solidFill>
                  <a:srgbClr val="953735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навыков подготовки рабочего места продавца к обслуживанию покупателе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 безопасных условий труд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к работе оборуд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и размещение на рабочем мест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нтаря, инструментария, упаковочного материал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отдела в надлежащем санитарном состоян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Задание по теме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Заданий 2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Задание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7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ценочная ведом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22" descr="DSC04997"/>
          <p:cNvPicPr/>
          <p:nvPr/>
        </p:nvPicPr>
        <p:blipFill>
          <a:blip r:embed="rId1"/>
          <a:stretch/>
        </p:blipFill>
        <p:spPr>
          <a:xfrm>
            <a:off x="108000" y="-1073160"/>
            <a:ext cx="9015480" cy="6764400"/>
          </a:xfrm>
          <a:prstGeom prst="rect">
            <a:avLst/>
          </a:prstGeom>
          <a:ln w="0">
            <a:noFill/>
          </a:ln>
        </p:spPr>
      </p:pic>
      <p:sp>
        <p:nvSpPr>
          <p:cNvPr id="45" name="Автофигура 8"/>
          <p:cNvSpPr/>
          <p:nvPr/>
        </p:nvSpPr>
        <p:spPr>
          <a:xfrm>
            <a:off x="108000" y="0"/>
            <a:ext cx="3166920" cy="3027240"/>
          </a:xfrm>
          <a:prstGeom prst="cloudCallout">
            <a:avLst>
              <a:gd name="adj1" fmla="val -23305"/>
              <a:gd name="adj2" fmla="val 62736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37d53"/>
                </a:solidFill>
                <a:latin typeface="Calibri"/>
              </a:rPr>
              <a:t>Предложите мне консервы из свинины </a:t>
            </a:r>
            <a:r>
              <a:rPr b="1" lang="en-US" sz="3000" spc="-1" strike="noStrike">
                <a:solidFill>
                  <a:srgbClr val="4f6228"/>
                </a:solidFill>
                <a:latin typeface="Calibri"/>
              </a:rPr>
              <a:t>кусочками</a:t>
            </a:r>
            <a:r>
              <a:rPr b="1" lang="en-US" sz="2400" spc="-1" strike="noStrike">
                <a:solidFill>
                  <a:srgbClr val="537d53"/>
                </a:solidFill>
                <a:latin typeface="Calibri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Автофигура 8"/>
          <p:cNvSpPr/>
          <p:nvPr/>
        </p:nvSpPr>
        <p:spPr>
          <a:xfrm flipH="1">
            <a:off x="4500000" y="333360"/>
            <a:ext cx="4392360" cy="2843280"/>
          </a:xfrm>
          <a:prstGeom prst="cloudCallout">
            <a:avLst>
              <a:gd name="adj1" fmla="val -13754"/>
              <a:gd name="adj2" fmla="val 5771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37d53"/>
                </a:solidFill>
                <a:latin typeface="Calibri"/>
              </a:rPr>
              <a:t>К сожалению, помочь не могу!!! Ассортимент большой, все консервы я не пробовал!!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Группа 10"/>
          <p:cNvGrpSpPr/>
          <p:nvPr/>
        </p:nvGrpSpPr>
        <p:grpSpPr>
          <a:xfrm>
            <a:off x="720" y="3357720"/>
            <a:ext cx="3669120" cy="3095280"/>
            <a:chOff x="720" y="3357720"/>
            <a:chExt cx="3669120" cy="3095280"/>
          </a:xfrm>
        </p:grpSpPr>
        <p:pic>
          <p:nvPicPr>
            <p:cNvPr id="48" name="Рисунок 5" descr="J0189202"/>
            <p:cNvPicPr/>
            <p:nvPr/>
          </p:nvPicPr>
          <p:blipFill>
            <a:blip r:embed="rId2"/>
            <a:stretch/>
          </p:blipFill>
          <p:spPr>
            <a:xfrm flipH="1">
              <a:off x="2282760" y="4905360"/>
              <a:ext cx="1387080" cy="154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Рисунок 9" descr="J0282785"/>
            <p:cNvPicPr/>
            <p:nvPr/>
          </p:nvPicPr>
          <p:blipFill>
            <a:blip r:embed="rId3"/>
            <a:stretch/>
          </p:blipFill>
          <p:spPr>
            <a:xfrm>
              <a:off x="720" y="3357720"/>
              <a:ext cx="2935800" cy="3039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Рисунок 17" descr="J0279224"/>
          <p:cNvPicPr/>
          <p:nvPr/>
        </p:nvPicPr>
        <p:blipFill>
          <a:blip r:embed="rId4"/>
          <a:stretch/>
        </p:blipFill>
        <p:spPr>
          <a:xfrm>
            <a:off x="6227640" y="3284640"/>
            <a:ext cx="2192400" cy="3014640"/>
          </a:xfrm>
          <a:prstGeom prst="rect">
            <a:avLst/>
          </a:prstGeom>
          <a:ln w="0">
            <a:noFill/>
          </a:ln>
        </p:spPr>
      </p:pic>
      <p:sp>
        <p:nvSpPr>
          <p:cNvPr id="51" name="Автофигура 8"/>
          <p:cNvSpPr/>
          <p:nvPr/>
        </p:nvSpPr>
        <p:spPr>
          <a:xfrm flipH="1">
            <a:off x="4787280" y="1512720"/>
            <a:ext cx="4105080" cy="1663920"/>
          </a:xfrm>
          <a:prstGeom prst="cloudCallout">
            <a:avLst>
              <a:gd name="adj1" fmla="val -13754"/>
              <a:gd name="adj2" fmla="val 5771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37d53"/>
                </a:solidFill>
                <a:latin typeface="Calibri"/>
              </a:rPr>
              <a:t>?!?!?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1.41372 -0.41597 E">
                                      <p:cBhvr>
                                        <p:cTn id="2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22" descr="DSC04997"/>
          <p:cNvPicPr/>
          <p:nvPr/>
        </p:nvPicPr>
        <p:blipFill>
          <a:blip r:embed="rId1"/>
          <a:srcRect l="0" t="17717" r="0" b="38681"/>
          <a:stretch/>
        </p:blipFill>
        <p:spPr>
          <a:xfrm>
            <a:off x="250920" y="260280"/>
            <a:ext cx="8808840" cy="28814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1" descr="J0282004"/>
          <p:cNvPicPr/>
          <p:nvPr/>
        </p:nvPicPr>
        <p:blipFill>
          <a:blip r:embed="rId2"/>
          <a:stretch/>
        </p:blipFill>
        <p:spPr>
          <a:xfrm>
            <a:off x="2975040" y="3060720"/>
            <a:ext cx="4132080" cy="3625920"/>
          </a:xfrm>
          <a:prstGeom prst="rect">
            <a:avLst/>
          </a:prstGeom>
          <a:ln w="0">
            <a:noFill/>
          </a:ln>
        </p:spPr>
      </p:pic>
      <p:sp>
        <p:nvSpPr>
          <p:cNvPr id="55" name="Автофигура 8"/>
          <p:cNvSpPr/>
          <p:nvPr/>
        </p:nvSpPr>
        <p:spPr>
          <a:xfrm flipH="1">
            <a:off x="250200" y="620640"/>
            <a:ext cx="4392360" cy="2844720"/>
          </a:xfrm>
          <a:prstGeom prst="cloudCallout">
            <a:avLst>
              <a:gd name="adj1" fmla="val -32620"/>
              <a:gd name="adj2" fmla="val 94384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Не знаю! Читайте сами, там все написа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Автофигура 8"/>
          <p:cNvSpPr/>
          <p:nvPr/>
        </p:nvSpPr>
        <p:spPr>
          <a:xfrm>
            <a:off x="5724360" y="617400"/>
            <a:ext cx="3167280" cy="3027600"/>
          </a:xfrm>
          <a:prstGeom prst="cloudCallout">
            <a:avLst>
              <a:gd name="adj1" fmla="val -50375"/>
              <a:gd name="adj2" fmla="val 73592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Какая это тушен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Она свежа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2" descr="DSC04997"/>
          <p:cNvPicPr/>
          <p:nvPr/>
        </p:nvPicPr>
        <p:blipFill>
          <a:blip r:embed="rId1"/>
          <a:srcRect l="0" t="17717" r="0" b="38681"/>
          <a:stretch/>
        </p:blipFill>
        <p:spPr>
          <a:xfrm>
            <a:off x="250920" y="260280"/>
            <a:ext cx="880884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1" descr="J0282004"/>
          <p:cNvPicPr/>
          <p:nvPr/>
        </p:nvPicPr>
        <p:blipFill>
          <a:blip r:embed="rId2"/>
          <a:stretch/>
        </p:blipFill>
        <p:spPr>
          <a:xfrm>
            <a:off x="3475080" y="3054240"/>
            <a:ext cx="4138560" cy="3621240"/>
          </a:xfrm>
          <a:prstGeom prst="rect">
            <a:avLst/>
          </a:prstGeom>
          <a:ln w="0">
            <a:noFill/>
          </a:ln>
        </p:spPr>
      </p:pic>
      <p:sp>
        <p:nvSpPr>
          <p:cNvPr id="59" name="Автофигура 8"/>
          <p:cNvSpPr/>
          <p:nvPr/>
        </p:nvSpPr>
        <p:spPr>
          <a:xfrm flipH="1">
            <a:off x="611280" y="1413000"/>
            <a:ext cx="4032000" cy="2052360"/>
          </a:xfrm>
          <a:prstGeom prst="cloudCallout">
            <a:avLst>
              <a:gd name="adj1" fmla="val -37319"/>
              <a:gd name="adj2" fmla="val 5860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Возьмите вот эти консер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Автофигура 8"/>
          <p:cNvSpPr/>
          <p:nvPr/>
        </p:nvSpPr>
        <p:spPr>
          <a:xfrm>
            <a:off x="5724360" y="617400"/>
            <a:ext cx="3167280" cy="3027600"/>
          </a:xfrm>
          <a:prstGeom prst="cloudCallout">
            <a:avLst>
              <a:gd name="adj1" fmla="val -29884"/>
              <a:gd name="adj2" fmla="val 53615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37d53"/>
                </a:solidFill>
                <a:latin typeface="Calibri"/>
              </a:rPr>
              <a:t>Зачем мне такие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37d53"/>
                </a:solidFill>
                <a:latin typeface="Calibri"/>
              </a:rPr>
              <a:t>Банка мятая!!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Автофигура 8"/>
          <p:cNvSpPr/>
          <p:nvPr/>
        </p:nvSpPr>
        <p:spPr>
          <a:xfrm flipH="1">
            <a:off x="467640" y="1592280"/>
            <a:ext cx="4032360" cy="2052720"/>
          </a:xfrm>
          <a:prstGeom prst="cloudCallout">
            <a:avLst>
              <a:gd name="adj1" fmla="val -37319"/>
              <a:gd name="adj2" fmla="val 58606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Это на качество не влияет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Автофигура 8"/>
          <p:cNvSpPr/>
          <p:nvPr/>
        </p:nvSpPr>
        <p:spPr>
          <a:xfrm>
            <a:off x="5977080" y="422280"/>
            <a:ext cx="3166920" cy="3027240"/>
          </a:xfrm>
          <a:prstGeom prst="cloudCallout">
            <a:avLst>
              <a:gd name="adj1" fmla="val -38268"/>
              <a:gd name="adj2" fmla="val 62874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37d53"/>
                </a:solidFill>
                <a:latin typeface="Calibri"/>
              </a:rPr>
              <a:t>Вот и ешьте сами</a:t>
            </a:r>
            <a:r>
              <a:rPr b="1" lang="en-US" sz="2600" spc="-1" strike="noStrike">
                <a:solidFill>
                  <a:srgbClr val="537d53"/>
                </a:solidFill>
                <a:latin typeface="Calibri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8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22" descr="DSC04997"/>
          <p:cNvPicPr/>
          <p:nvPr/>
        </p:nvPicPr>
        <p:blipFill>
          <a:blip r:embed="rId1"/>
          <a:srcRect l="42871" t="17717" r="18242" b="38681"/>
          <a:stretch/>
        </p:blipFill>
        <p:spPr>
          <a:xfrm>
            <a:off x="1488960" y="476280"/>
            <a:ext cx="7404120" cy="62262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9" descr="J0282785"/>
          <p:cNvPicPr/>
          <p:nvPr/>
        </p:nvPicPr>
        <p:blipFill>
          <a:blip r:embed="rId2"/>
          <a:stretch/>
        </p:blipFill>
        <p:spPr>
          <a:xfrm>
            <a:off x="-396720" y="2771640"/>
            <a:ext cx="4176720" cy="4322880"/>
          </a:xfrm>
          <a:prstGeom prst="rect">
            <a:avLst/>
          </a:prstGeom>
          <a:ln w="0">
            <a:noFill/>
          </a:ln>
        </p:spPr>
      </p:pic>
      <p:sp>
        <p:nvSpPr>
          <p:cNvPr id="66" name="Автофигура 8"/>
          <p:cNvSpPr/>
          <p:nvPr/>
        </p:nvSpPr>
        <p:spPr>
          <a:xfrm>
            <a:off x="-12600" y="-458640"/>
            <a:ext cx="4105080" cy="3025800"/>
          </a:xfrm>
          <a:prstGeom prst="cloudCallout">
            <a:avLst>
              <a:gd name="adj1" fmla="val -20875"/>
              <a:gd name="adj2" fmla="val 68717"/>
            </a:avLst>
          </a:prstGeom>
          <a:solidFill>
            <a:srgbClr val="fcd5b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Господи, что же купи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Эту или Эту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7" descr="J0279224"/>
          <p:cNvPicPr/>
          <p:nvPr/>
        </p:nvPicPr>
        <p:blipFill>
          <a:blip r:embed="rId3"/>
          <a:stretch/>
        </p:blipFill>
        <p:spPr>
          <a:xfrm>
            <a:off x="6227640" y="3284640"/>
            <a:ext cx="2521080" cy="3467160"/>
          </a:xfrm>
          <a:prstGeom prst="rect">
            <a:avLst/>
          </a:prstGeom>
          <a:ln w="0">
            <a:noFill/>
          </a:ln>
        </p:spPr>
      </p:pic>
      <p:sp>
        <p:nvSpPr>
          <p:cNvPr id="68" name="Автофигура 8"/>
          <p:cNvSpPr/>
          <p:nvPr/>
        </p:nvSpPr>
        <p:spPr>
          <a:xfrm flipH="1">
            <a:off x="4500000" y="333360"/>
            <a:ext cx="4392360" cy="2843280"/>
          </a:xfrm>
          <a:prstGeom prst="cloudCallout">
            <a:avLst>
              <a:gd name="adj1" fmla="val -13754"/>
              <a:gd name="adj2" fmla="val 57712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Берите любую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37d53"/>
                </a:solidFill>
                <a:latin typeface="Calibri"/>
              </a:rPr>
              <a:t>Это одно и тоже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ма урока 3б.7.1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53735"/>
                </a:solidFill>
                <a:latin typeface="Calibri"/>
              </a:rPr>
              <a:t>Распознавание ассортимента мясных консервов по всем признакам классификации. Определение качества. Упаковка, маркировка, хран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Ц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5"/>
                </a:solidFill>
                <a:latin typeface="Calibri"/>
              </a:rPr>
              <a:t>Научиться продавать мясные консер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Уме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Распознавать ассортимент мясных консервов по всем признакам классификации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Читать и расшифровывать маркировочные обозначения на таре и упаковке, проверять полноту реквизит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Определять конечный срок реализации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Определять качество мясных консервов органолептическим методо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53735"/>
                </a:solidFill>
                <a:latin typeface="Calibri"/>
              </a:rPr>
              <a:t>Распознавать отличительные особенности товаров одной группы, подгруппы, вида и разновидности но разных изготовителе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нать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4000" y="907560"/>
            <a:ext cx="8712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Ассортимент магазина, производителей, цен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Классификацию мясных консерв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Требования ГОСТа к маркировочным обозначения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Условия и сроки хран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Требования ГОСТов к качеств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Показатели, характеризующие отличительные особенности товаров одной группы, подгруппы, вида и разновидности но разных изготовител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Требования к оформлению сопроводительных документов, гарантирующих качество и пищевую безвредность мясных консерв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3735"/>
                </a:solidFill>
                <a:latin typeface="Calibri"/>
              </a:rPr>
              <a:t>Нормативные документы: Постановление правительства №55 «Правила продажи отдельных видов товаров, Закон РФ «О защите прав потребителе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08:08:32Z</dcterms:created>
  <dc:creator>User</dc:creator>
  <dc:description/>
  <dc:language>en-US</dc:language>
  <cp:lastModifiedBy>nnn</cp:lastModifiedBy>
  <dcterms:modified xsi:type="dcterms:W3CDTF">2010-06-11T06:15:32Z</dcterms:modified>
  <cp:revision>25</cp:revision>
  <dc:subject/>
  <dc:title>Презентация PowerPoint</dc:title>
</cp:coreProperties>
</file>