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0DF3-0627-43D9-83F1-8CCA1761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A312-3E26-4EDF-902C-22658C1D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03C98-549E-4C3C-8651-51A8EC37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7D80-7EE2-4093-A1FD-7BEDAE46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4D8F-072B-4DFC-AD5F-F1850019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9C89-F184-406D-9F7D-02DAB521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DADA-03DC-40F7-9BED-59CC2639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358B-6233-4741-9910-C205D319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37EB-0BA0-49CA-9A51-50FB2B8B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3907-C3A5-4BFC-AC90-A56C76AA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4B3D-7B69-4D65-AC5E-D6CB30BD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3E61-68CD-4727-8BF1-25F7775A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7323-C817-40FA-A6DE-FA021D81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1F65-01E5-4C98-AA8C-BF8F593F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989D-F69B-4B30-B56C-774A097A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B28F-D9E4-481C-AC85-2C28B417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B2DD-14FC-41C1-A014-4C7CDA3C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2EA1-B4DB-469C-8DB8-3B6CDB2E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BAE9-6017-43AB-B291-56D1A606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6175-99CF-4813-A535-00D597F8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CBFD-8843-48F2-90F9-EB4FE05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0733-23E1-449D-960A-D06770CC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1674-A7D9-4DF4-A2F1-12DEC847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F008-233F-4DCF-93DE-F3AADF58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3EC6-CBAE-4684-B85B-C2B8A4E8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671C-5871-42F6-A2C9-BE658D09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EA93-9624-434D-A200-73C5D175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95CA3-2181-423A-AF81-AF2924F2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9D38-D42D-40CD-B462-51A04AB3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883A-A54F-4370-8163-8109C69D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2F8CC-76F5-43CF-899E-29775CA8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CB1DA-1343-403A-80B7-EDE444E3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E14F0-C1B2-467F-BCC3-A77E8A62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8CBA-ABCA-4386-A9A3-3F589D74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DBB8-B216-44D9-8DC6-83DA75D0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FB61-C238-4A12-96E7-E7A28264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5348-6EAD-4AFA-B795-5E9C0871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3BD7-D537-40BD-8181-D844B0A4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8A92-BEBC-4B78-92D1-B94D1582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C0B99-47A8-48A1-979D-DB138A0B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6FC44-2A5A-4C6F-9876-BF9725D1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1933-F358-4EF6-937B-9FD43631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DE15E-CDFA-446B-AF75-A9BF8D11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1283-4CE7-4002-B275-D3DDE06E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5355-FBA0-4262-8999-4F8F8B3E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65A10-A21F-4033-989E-97651134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C61B-7001-4C08-BCBE-2A150DB3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47E5A-4758-4B40-BD9F-DD0A0335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17CF9-E082-41BF-A695-CEDBFA52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8E3E-1356-4029-B8CC-9639E19A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6E013-58E7-4B35-AB5B-440AC179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C3F9C-9986-457C-AFB2-5EBABDC8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3B0F-2585-4D57-8644-88054DCB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72AD4-FC70-4045-864B-AB8289FB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D2332-85FC-4FAC-B4B9-48D7566F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6446-475F-4382-9DDC-F74551CF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68A3D-7262-4387-BA1E-79CB32A0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7727-1A5E-467D-AB58-DA8DBBA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766E-856A-45C8-99C0-CD98048A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9C70-58B5-487E-94BF-1EC00CB0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9208-7B89-4DD3-A866-A6FBC2A9D6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7F4A-7CA8-4050-8CE2-A80B2C254091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4285-6038-4774-8B31-9176BB7E63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3309-7AC6-4A85-87D9-1805D019B3EF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C988-D5A5-4FCD-B612-41AF8980F5CF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68000" y="1700280"/>
            <a:ext cx="68756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ижение образовательных результатов в рамках подготовки обучающихся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124080" y="5300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цева Т.В.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ы ЕМД ГОАУ ЯО И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79280" y="620640"/>
          <a:ext cx="8785440" cy="4962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выявля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тельные признаки отдельных организм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ения у организмов к среде обитания, ароморфозы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иоадаптации у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иотические и биотические компоненты экосистем, взаимосвязи организ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экосистеме, антропогенные изменения в экосистем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мутагенов в окружающей среде (косвенн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равнивать (и делать выводы на основе сравнения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(клетки, ткани, органы и системы органов, организ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, животных, грибов и бактерий, экосистемы и агроэкосист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 и явления (обмен веществ у растений, животных, челове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ий и энергетический обмен; фотосинтез и хемосинт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 и мейоз, бесполое и половое размножение, оплодотворение у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животных, внешнее и внутреннее оплодотвор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79280" y="5589720"/>
          <a:ext cx="8785440" cy="56016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естественного отбора, искусственный и естественный отбор, спос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ообразования, макро- и микроэволюцию, пути и направления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79280" y="476280"/>
          <a:ext cx="8785440" cy="525132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пределя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адлежность биологических объектов к определенной систематической группе (классификация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Анализиров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гипотезы сущности жизни, происхождения жизни, раз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ов и человека, человеческих рас, эволюцию организм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окружающей среды, влияние факторов риска на здоровье человек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 деятельности человека в экосистемах, глоб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ропогенные изменения в биосфер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биологических экспериментов, наблюдений по их опис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ТЬ ПРИОБРЕТЕННЫЕ ЗНАНИЯ И УМЕНИЯ В ПРАКТИЧЕСКОЙ ДЕЯТЕЛЬНОСТИ И ПОВСЕДНЕВ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для обоснов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 поведения в окружающей сред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 профилактики распространения заболеваний, вызываемых растениями, животными, бактериями, грибами и вирусами; травматизма, стрессов, ВИЧ- инфекции, вредных привычек (курение, алкоголизм, наркомания); нарушения осанки, зрения, слуха; инфекционных и простудных заболеваний; стрессов, вредных привычек (курение, алкоголизм, наркомания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79280" y="5734080"/>
          <a:ext cx="8785440" cy="1155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я первой помощи при травмах, простудных и других заболеваниях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влении пищевыми продукт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в выращивания и размножения культурных растений и домаш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х, ухода за н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книками на ГИА в части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ьшие затруднения у удовлетворительно подготовленных выпускников вызвали задания А4, А5, А10, А13, А1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ия А4 и А5 проверяли знание морфологии растений и способов ухода и выращивания культурных растен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0 – строения нервной и эндокринной систем, а также знание нейрогуморальной регуля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3 – строения органов кровообращения, а также знание механизмов движения крови по сосуда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7 – психологии и поведения человека.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1ba5"/>
                </a:solidFill>
                <a:latin typeface="Arial"/>
              </a:rPr>
              <a:t>Столь низкие результаты выполнения заданий части 1 выпускниками объясняются не столько слабыми знаниями курса биологии за VI–VIII класс, сколько отсутствием налаженной системы повторения учащимися IX классов, готовящимися к сдаче экзамена, ключевых разделов школьной биологии за предыдущие годы обу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2 проверяли ум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ать и применять знания о строении и функционировании организма человека в практической деятельности и повседневной жизни и многообразии органического ми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оставлять особенности строения и функционирования организмов разных царств; устанавливать структурно-функциональные связи объектов, процессов, явлений; классифицировать биологические объекты и процесс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биологические термины и понятия в понимании биологических тек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трудными для всех групп выпускников, как и в прошлом году, оказались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собенно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установление правильной последовательности элемент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нстве вариантов эти задания предполагали теоретическую проверку выполнения обязательных практических и лабораторных работ, представленных в примерной программе по биологии, а также знание вопросов, касающихся эволюции животного и раститель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е результаты (38,2% выполнения всеми группами выпускников) убеждают, что практические работы на уроках биологии в основной в школе нередко имеют формальный характер, а знания особенностей исторического развития организмов формируются только у учащихся с отличной подготов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ет умение читать и понимать прочита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включение пропущенных в текст терминов и понят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именно такой алгоритм действ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3</a:t>
            </a: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заменационной работы проверяли умения применять биологические знания в практических ситуациях (все 26 вариантов были подготовлены по разделу «Человек и его здоровье»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анализировать текст биологического содержания и на его основе обосновывать научные факты, процессы и явления, строить умозаключения, проверять гипотез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работать со статистическими данными, представленными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ее трудным остается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1</a:t>
            </a:r>
            <a:r>
              <a:rPr b="0" lang="ru-RU" sz="2200" spc="-1" strike="noStrike">
                <a:solidFill>
                  <a:srgbClr val="ad3c25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тором предусматривалась проверка умения применять биологические знания в повседневной жизни Только одна из групп выпускников (с отличной подготовкой) преодолела 50%-ное выполнение («2» – 11%, «3» – 24%, «4» – 39%, «5» – 62%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ельно лучше обстоят дела с выполнением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я С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ожно предположить, что это связано с тем, что задание С2 проверяет освоенное значительной частью учащихся умение работать с текстом, находить в нем нужную информацию, представленную как в явном, так и неявном ви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3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а работу со статистическими данными, представленными в табличной форме) с заданием справились уже две группы аттестуемых. Учащиеся с отличной подготовкой показали 73% выполнения, а учащиеся с хорошей подготовкой–58%. У остальных групп % выполнения ниже 40 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Рекомендации по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рекомендуем начинать с методов познания человеком живой природы и собственного организма, а также с роли биологии в жизни современн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 и жизнедеятельность организмов разных царств следует рассматривать комплексно, связывая повторение особенностей внешнего и внутреннего строения организмов с историческим развитием растительного и животного мира и вопросами экологии и охраны природы, которые широко рассмотрены в обобщенном виде изучаются в IX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й материал за основную школу необходимо проверять на разных уровнях   сложности: базовом, повышенном и высо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ую роль дает введение разнообразных заданий по работе с текстом; оправдало себя введение значительного количества заданий с рисунками, графиками, табл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спешность освоения курса и подготовки к экзамену существенное влияние оказывает правильно подобранная учебная литература и тренировочные пособ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м биологии задолго до экзамена (возможно, в начале VI класса) следует продумать отбор содержания таким образом, чтобы максимально заложить в учебный процесс отработку требований к знаниям и умениям, сформулированных во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тическую подготовку к итоговой аттестации целесообразно начинать в первой четверти/триместре IX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Изменения КИМ основного государственного экзамена (ОГЭ) в 2015 год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тельных изменений не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структура варианта К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вариант состоит из двух ча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в варианте представлены в режиме сквозной нумерации без буквенных обозначений А, В,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форма записи ответа на каждое из заданий 1–2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КИМ 2015 г. требуется записывать цифру, соответствующую номеру правильного ответ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ОСОБЕННОСТИ ОЦЕНКИ ПРЕДМЕТ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объектом содержательной и критериальной базой итоговой оценки выпускников выступают планируемые результаты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«Выпускник научится»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Выпускник имеет возможность научит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 элементами содержания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умениями, проверяемыми на итоговой аттестации (ГИА) можно ознакомиться в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кодифика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Уровни сложности экзаменационной работы Г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1 (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22 задания с выбором одного верного ответа из четырех предложенных, все задания базов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2 (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6 заданий повышенного уровня сложности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м ответ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 выбором трех верных ответов из ше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соответ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определение последовательности биологических процессов, явлений, объек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включение пропущенных в тексте терминов и понят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соотнесение морфологических признаков организма или его отдельных органов с предложенными моделями по заданному алгорит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3 (С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4 задания с развернутым ответом,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работу с текстом, требующую извлекать необходимую информацию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ной, отвечая на поставленные вопрос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работу со статистическими данными, представленными в табличной фор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применение биологических знаний на пра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задание повышенного, а остальные высок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1ba5"/>
                </a:solidFill>
                <a:latin typeface="Arial"/>
              </a:rPr>
              <a:t>Содержательные блоки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ервый блок «Биология как наук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ет в себя задания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ир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о роли биологии в формировании современной естественнонаучной картины мира, в практической деятельности людей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оды изучения живых объектов (наблюдение, описание, измерение, эксперимен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Второй блок «Признаки живых организмов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лен заданиями, проверяющими материа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троении, функциях и многообразии клеток, тканей, органов и систем орга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ах живых организмов, наследственности и изменчив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ах размножения, приемах выращивания растений и разведения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Третий блок «Система, многообразие и эволюция живой приро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контролиру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важнейших отличительных признаках основных царств живой природы: Животные, Растения, Гриб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ктерии, Виру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и растений и животных: отдел (тип), класс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усложнении растений и животных в процессе эволю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биоразнообразии как основе устойчивости биосферы и результате э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Четвертый блок «Человек и его здоровь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выявл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оисхождении человека и его биосоциальной природе, высшей нервной деятельности и об особенностях поведения челове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и и жизнедеятельности органов и систем органов (нервной, эндокринной, кровеносной, лимфатической, дыхания, выделения, пищеварения, половой, опоры и движе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ей среде, об иммунитете, органах чувств, о нейрогуморальной регуляции процессов жизне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нитарно-гигиенических нормах и правилах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ятый блок «Взаимосвязи организмов и окружающей сре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провер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истемной организации живой природы, об экологических факторах, о взаимодействии разных видов в природ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х и искусственных экосистемах и входящих в них компонентах, пищевых связ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экологических проблемах, их влиянии на собственную жизнь и жизнь других люд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авилах поведения в окружающей среде и способах сохранения равновесия в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1268280"/>
          <a:ext cx="8713800" cy="5681880"/>
        </p:xfrm>
        <a:graphic>
          <a:graphicData uri="http://schemas.openxmlformats.org/drawingml/2006/table">
            <a:tbl>
              <a:tblPr/>
              <a:tblGrid>
                <a:gridCol w="4788000"/>
                <a:gridCol w="1387440"/>
                <a:gridCol w="2538360"/>
              </a:tblGrid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ъяснять роль биологии в формировании современной естественнонаучной картины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спознавать: основные части клетки; грибы; органы цветковых растений,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х отделов; органы и системы органов животных, а также животных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писывать биологические объе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Объяснять взаимосвязи организмов и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равнивать биологические объекты: клетки, ткани, органы и системы органов и организмы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Знать особенности организма человека, 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Распознавать на рисунках (фотографиях) органы и системы органов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Использовать 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 деятельности и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я мер 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628640"/>
          <a:ext cx="8229600" cy="4535640"/>
        </p:xfrm>
        <a:graphic>
          <a:graphicData uri="http://schemas.openxmlformats.org/drawingml/2006/table">
            <a:tbl>
              <a:tblPr/>
              <a:tblGrid>
                <a:gridCol w="4521240"/>
                <a:gridCol w="1311120"/>
                <a:gridCol w="239724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Использоват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 для оказа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Описывать и объяснять результаты эксперимента и данные 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Анализировать 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ть воз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ов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Проводить самостоятельный поис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44280"/>
          <a:ext cx="9144000" cy="5023080"/>
        </p:xfrm>
        <a:graphic>
          <a:graphicData uri="http://schemas.openxmlformats.org/drawingml/2006/table">
            <a:tbl>
              <a:tblPr/>
              <a:tblGrid>
                <a:gridCol w="1512720"/>
                <a:gridCol w="7631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                                   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новные положения биологических законов, теорий, закономерностей, правил, гипотез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биологических теорий (клеточная; хромосомна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тическая теория эволюции, антропогенез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учений (о путях и направлениях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И. Вавилова о центрах многообразия и происхождения культур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; В.И. Вернадского о биосфере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в (Г. Менделя; сцепленного наследования Т. Морга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ологических рядов в наследственной изменчивости; зародыше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ства; биогенетическог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мерностей (изменчивости; сцепленного наслед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ования, сцепленного с полом; взаимодействия генов и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тологических основ); правил (доминирования Г. Менделя; экологической пирамид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гипотез (чистоты гамет, происхождения жизни, происхождения человек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0" y="4986360"/>
          <a:ext cx="9144000" cy="1876320"/>
        </p:xfrm>
        <a:graphic>
          <a:graphicData uri="http://schemas.openxmlformats.org/drawingml/2006/table">
            <a:tbl>
              <a:tblPr/>
              <a:tblGrid>
                <a:gridCol w="1476360"/>
                <a:gridCol w="76676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троение и признаки биологических объекто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ок прокариот и эукариот: химический состав и строение органоид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ов, хромосом, гаме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ов, одноклеточных и многоклеточных организмов царств жи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ы (растений, животных, грибов и бактерий),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, популяций; экосистем и агроэкосистем; биосфер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8000" y="549360"/>
          <a:ext cx="8928000" cy="101592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ущность биологических процессов и явлени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08000" y="1484280"/>
          <a:ext cx="8928000" cy="2165400"/>
        </p:xfrm>
        <a:graphic>
          <a:graphicData uri="http://schemas.openxmlformats.org/drawingml/2006/table">
            <a:tbl>
              <a:tblPr/>
              <a:tblGrid>
                <a:gridCol w="1457280"/>
                <a:gridCol w="7470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н веществ и превращения энергии в клетке и организме, пластический иэнергетический обмен, питание, фотосинтез, хемосинтез, дыхание, брожение, выделение, транспорт веществ, раздражимость, ро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, мейоз, развитие гамет у цветковых растений и позвоночных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одотворение у цветковых растений и позвоночных животных; развитие и размножение, индивидуальное развитие организма (онтоген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генов, получение гетерозиса, полиплоидов, отдал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бридов, действие искусственного отбо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08000" y="3645000"/>
          <a:ext cx="8928000" cy="1245960"/>
        </p:xfrm>
        <a:graphic>
          <a:graphicData uri="http://schemas.openxmlformats.org/drawingml/2006/table">
            <a:tbl>
              <a:tblPr/>
              <a:tblGrid>
                <a:gridCol w="1463760"/>
                <a:gridCol w="746424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движущего и стабилизирующего отбора, географическое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ое видообразование, влияние элементарных факторов эволю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енофонд популяции, формирование приспособленности к среде об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оворот веществ и превращения энергии в экосистемах и биосфере, эволюция биосфер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08000" y="4869000"/>
          <a:ext cx="8928000" cy="128880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временную биологическую терминологию и символику по цитологии,генетике, селекции, биотехнологии, онтогенезу, систематике, экологии,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обенности организма человека, его строения, жизнедеятельности, высшей нервной деятельности и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79280" y="549360"/>
          <a:ext cx="8785440" cy="60436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бъясня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биологических теорий, законов, принципов, гипотез в формиров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ой естественнонаучной картины ми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о живой и неживой природы, родство, общность происх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ых организмов, эволюцию растений и животных, использу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теории, законы и прав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ое влияние алкоголя, никотина, наркотических веществ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зародыша человека; влияние мутагенов на организм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наследственных и ненаследственных изменений, наследств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ний, генных и хромосомных мутац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связи организмов, человека и окружающей среды; причины устойчивости, саморегуляции, саморазвития и смены экосистем; необходимость сохранения многообразия видов, защиты окружающей сре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эволюции видов, человека, биосферы, единства человеческих ра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и роль человека в природе, родство человека с млекопитающими животными, роль различных организмов в жизни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здоровья человека от состояния окружающей среды; проя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ых заболеваний, иммунитета у человека; роль гормонов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ов в организ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549360"/>
          <a:ext cx="8785440" cy="46702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устанавливать взаимосвяз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 и функций молекул, органоидов клетки; органов и систем орган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ого и энергетического обмена; световых и темновых реа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синтез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ущих сил эволюции; путей и направлений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еш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разной сложности по цитологии, генетике (составлять схемы скрещивания), экологии, эволю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ставлять схемы</a:t>
                      </a: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а веществ и энергии в экосистемах (цепи питания, пищевые се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аспознавать и описы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и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й вида по морфологическому критер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по их изображен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9280" y="5229360"/>
          <a:ext cx="8785440" cy="59184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системы и агроэкосисте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51:42Z</dcterms:created>
  <dc:creator>nemceva</dc:creator>
  <dc:description/>
  <dc:language>en-US</dc:language>
  <cp:lastModifiedBy>Татьяна Васильевна Немцева</cp:lastModifiedBy>
  <dcterms:modified xsi:type="dcterms:W3CDTF">2015-04-28T10:32:06Z</dcterms:modified>
  <cp:revision>42</cp:revision>
  <dc:subject/>
  <dc:title>Структура системы оценки достижения планируемых результатов ООП ООО по биологии</dc:title>
</cp:coreProperties>
</file>