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2D4-F0B3-4B65-BD2B-D7D013F8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0FB-424E-41B9-9469-6D5BC3D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CAF-8E13-44FA-BFA5-764C1C90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58D-D110-4693-8F94-90851EC6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4A1-139F-4933-94CE-CFFF2827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880-89FE-4ED8-A121-B2B384A3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E57-35B3-4A1D-9099-12082217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E1E-EC23-4A11-BCDA-C566793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409-A08E-4CA4-94B7-0EB0A3F6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63F-EE62-4B2F-A968-C964BD3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FE2-607D-41A0-B6AF-DBB47388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E9B-A70D-4130-8C0E-676F87C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660-D21A-438C-9080-34FBB6C3A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141720"/>
            <a:ext cx="777744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ДЕЛЬ СЛУЖБЫ МЕДИ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5640" y="494172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8.12.2015, заведующая кафедрой общей педагогик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сихологии ГО АУ ЯО ИРО Назарова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generousmatters.com/wp-content/uploads/2013/04/group_opposite_directions_11350.png"/>
          <p:cNvPicPr/>
          <p:nvPr/>
        </p:nvPicPr>
        <p:blipFill>
          <a:blip r:embed="rId1"/>
          <a:stretch/>
        </p:blipFill>
        <p:spPr>
          <a:xfrm>
            <a:off x="-181080" y="115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мы моделиру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строим модели для того, чтобы лучше понимать систему, которую созд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c.zadocs.ru/stati/gbuk-samarskaya-oblastnaya-univercalenaya-nauchnaya-biblioteka/6.gif"/>
          <p:cNvPicPr/>
          <p:nvPr/>
        </p:nvPicPr>
        <p:blipFill>
          <a:blip r:embed="rId1"/>
          <a:stretch/>
        </p:blipFill>
        <p:spPr>
          <a:xfrm>
            <a:off x="2843280" y="32130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ирование позволяет достичь следующих ц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изировать систему в том виде как она есть либо как мы ее себе представ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цировать структуру или поведени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ть шаблон, по которому мы создаем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ировать принятые нами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и сложнее система, тем важнее 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разрабатываем модель сложной системы потому, что мы не способны понять и охватить систему це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е принципы модел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модели оказывает решающее влияние на то, как будет осмысливаться проблема и какие решения будут приним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модель должна быть построена на различных уровнях адекватности и соответствия реа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модели тесно связаны с действительностью. Все модели упрощают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ственная модель не является приемлемой. Каждая нетривиальная система лучше всего представляется небольшим множеством практически независим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m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ifi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конкретная и поня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ur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есть измеритель, т. е. оценивающий процент ее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evabl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достижимая — реалистич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— в зоне ответственности и влияния сотрудника/организации на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e bound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— ограничена во време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ование актуальности и реалистичност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птуально-целево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уаль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о – результативный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 развития   службы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ворческого моделировани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16732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39640" y="1452600"/>
            <a:ext cx="820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1:31:40Z</dcterms:created>
  <dc:creator>Marina</dc:creator>
  <dc:description/>
  <dc:language>en-US</dc:language>
  <cp:lastModifiedBy>Инна Назарова</cp:lastModifiedBy>
  <dcterms:modified xsi:type="dcterms:W3CDTF">2015-12-07T18:33:30Z</dcterms:modified>
  <cp:revision>13</cp:revision>
  <dc:subject/>
  <dc:title>Слайд 1</dc:title>
</cp:coreProperties>
</file>