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26.jpeg" ContentType="image/jpeg"/>
  <Override PartName="/ppt/media/image17.jpeg" ContentType="image/jpeg"/>
  <Override PartName="/ppt/media/image19.jpeg" ContentType="image/jpeg"/>
  <Override PartName="/ppt/media/image12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4.wmf" ContentType="image/x-wmf"/>
  <Override PartName="/ppt/media/image11.png" ContentType="image/png"/>
  <Override PartName="/ppt/media/image9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FF1A-A0BB-473D-9ED4-8ECDA119E0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F60A-4F6F-48CC-8A2C-3C013ABBE3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EF80-5374-470C-8109-FD036FAF23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7397-697B-42F1-B0E3-C5D6DA89AD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3069-8408-4EA2-B4D0-32623D6DA4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5C58-F969-4D34-BEE3-54473C325C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35B9-2765-4AA8-9C0D-D83C583BC8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F58C-1625-4699-8E0E-CF751B44CE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25A5-32A6-4709-AB56-28D1F5E7FC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15D0-566D-47BF-8F88-AFDF8C028B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5E90-0D98-4A37-8BC3-54F6DD567D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467A-FD5B-4EA8-98B0-545FB77C21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3E81-2C18-4BF0-ACCB-736FE01735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8119-E238-46BD-B464-B3265C84EB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047-E97C-4978-B6DA-2E15E5DC8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D36-50DC-43C3-9E89-497AAB14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7C4-7E75-41E9-B037-064FB6FD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C811-6871-4A8E-833F-018872B3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88E7-3FCE-40F7-9CDD-D58229FB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E052-2D9A-4888-9A74-6287D13D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62E7-3B0B-45C3-A80F-F5C61CCB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15C9-1214-470B-94F4-594F35E3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D924-F181-4E0E-A335-4AB9E2EA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3625-1094-4E93-A7FB-D272B059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BA10-CAD3-49F1-8EDC-4E8E9E9F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204B-F8E2-4614-A04D-86C9ABD3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8E5A-AE6E-4936-B479-A9F42C40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87BAC-01D0-4C0C-A481-3834CB79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56F8-A629-40C2-8742-CE356BB0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8579-766C-4EB6-8A58-E236F735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8E00-F969-49B8-9E6A-93A78661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AB0-D3D5-49E8-8C71-8C550A18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A73-908B-4AAA-80F2-E7CBFF99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AF43-0B17-473B-952C-0D8D5998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454F-18B6-4798-BEFC-56437FA5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C90-DF9F-4D7C-B486-ECB917E0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6C5F-2F7D-48C2-9689-25E9CB25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F0D3-6CB4-484A-AE1E-94A3D65A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C022-500E-48EC-92B4-88A543CBDE4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B376-6515-434C-8E4B-08A3A1719BB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ois.mskobr.ru/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4mpress@list.ru" TargetMode="External"/><Relationship Id="rId2" Type="http://schemas.openxmlformats.org/officeDocument/2006/relationships/hyperlink" Target="mailto:4mpress@list.ru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WordArt 3" descr=""/>
          <p:cNvPicPr/>
          <p:nvPr/>
        </p:nvPicPr>
        <p:blipFill>
          <a:blip r:embed="rId1"/>
          <a:stretch/>
        </p:blipFill>
        <p:spPr>
          <a:xfrm>
            <a:off x="317520" y="469800"/>
            <a:ext cx="8508960" cy="438120"/>
          </a:xfrm>
          <a:prstGeom prst="rect">
            <a:avLst/>
          </a:prstGeom>
          <a:ln w="0">
            <a:noFill/>
          </a:ln>
        </p:spPr>
      </p:pic>
      <p:pic>
        <p:nvPicPr>
          <p:cNvPr id="91" name="WordArt 3" descr=""/>
          <p:cNvPicPr/>
          <p:nvPr/>
        </p:nvPicPr>
        <p:blipFill>
          <a:blip r:embed="rId2"/>
          <a:stretch/>
        </p:blipFill>
        <p:spPr>
          <a:xfrm>
            <a:off x="317520" y="901800"/>
            <a:ext cx="8508960" cy="4395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7"/>
          <p:cNvSpPr/>
          <p:nvPr/>
        </p:nvSpPr>
        <p:spPr>
          <a:xfrm>
            <a:off x="324000" y="1413000"/>
            <a:ext cx="856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диненной редакции: «Нарконет», «Журнал для тех, кто хочет уберечь детей от наркотиков»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Не будь зависим – скажи  «Нет!»: наркотикам, алкоголю, курению, игромании»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едерального Центра повышения квалификации и профессиональной переподготовки специалистов в области профилактики аддиктивного поведения у детей и молодежи Минобрнауки РФ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ститута психолого-педагогических проблем детства РА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C:\Users\VAIO\Desktop\НАРКОНЕТ\Не будь ЗАВИСИМ - обложка №1.jpg"/>
          <p:cNvPicPr/>
          <p:nvPr/>
        </p:nvPicPr>
        <p:blipFill>
          <a:blip r:embed="rId3"/>
          <a:stretch/>
        </p:blipFill>
        <p:spPr>
          <a:xfrm>
            <a:off x="395280" y="3284640"/>
            <a:ext cx="2400480" cy="324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2"/>
          <p:cNvGraphicFramePr/>
          <p:nvPr/>
        </p:nvGraphicFramePr>
        <p:xfrm>
          <a:off x="6084720" y="3068640"/>
          <a:ext cx="2587680" cy="330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84720" y="3068640"/>
                    <a:ext cx="2587680" cy="33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Изображение 1" descr=""/>
          <p:cNvPicPr/>
          <p:nvPr/>
        </p:nvPicPr>
        <p:blipFill>
          <a:blip r:embed="rId6"/>
          <a:stretch/>
        </p:blipFill>
        <p:spPr>
          <a:xfrm>
            <a:off x="3635280" y="4842000"/>
            <a:ext cx="1513080" cy="15112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3276720" y="2924280"/>
            <a:ext cx="2447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Это возмож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публикации своей практи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993300"/>
                </a:solidFill>
                <a:latin typeface="Times New Roman"/>
              </a:rPr>
              <a:t>обучения и повышения своей квалифик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395280" y="2060640"/>
            <a:ext cx="8391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Обучени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правлено на развитие профессионального мастерства педагогов, специалистов, занимающихся вопросами профилактики и реабилитац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овательная часть проекта состоит в том, что подписчикам журналов, предоставляется возможность пройти обучение или повышение квалификации по заявленным программам в объеме от 36 часов, 72 или 144 часов, согласно объему учебного плана и получить соответствующие документы: Сертификат, Удостоверение или Свидетельство о повышении квалификации. Образовательные программы реализуются ППС ФГБОУ ДПО «Центр повышения квалификации и профессиональной переподготовки специалистов в области профилактики аддиктивного поведения у детей и молодежи» и ФГНУ «Институт психолого-педагогических проблем детства» РАО. Обучение будет осуществляться с использованием интернет портала единой образовательной информационной среды (ЕОИС </a:t>
            </a:r>
            <a:r>
              <a:rPr b="0" lang="ru-RU" sz="1800" spc="-1" strike="noStrike" u="sng">
                <a:solidFill>
                  <a:srgbClr val="6b9f25"/>
                </a:solidFill>
                <a:uFillTx/>
                <a:latin typeface="Times New Roman"/>
                <a:hlinkClick r:id="rId1"/>
              </a:rPr>
              <a:t>http://eois.mskobr.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мы курсов, программы будут размещаться в электронном журнале, на портале ЕОИС и сайтах федеральных учрежд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Заголовок 1"/>
          <p:cNvSpPr/>
          <p:nvPr/>
        </p:nvSpPr>
        <p:spPr>
          <a:xfrm>
            <a:off x="611280" y="333360"/>
            <a:ext cx="828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Основные разделы электронного журнала 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 «ДЕЙСТВУЙ  ПРОФЕССИОНАЛЬНО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C:\Users\VAIO\Desktop\НАРКОНЕТ\НЕ БУДЬ ЗАВИСИМ\Статья Якутия - Наркопост\Обучение координаторов.jpg"/>
          <p:cNvPicPr/>
          <p:nvPr/>
        </p:nvPicPr>
        <p:blipFill>
          <a:blip r:embed="rId2"/>
          <a:stretch/>
        </p:blipFill>
        <p:spPr>
          <a:xfrm>
            <a:off x="5184720" y="1052640"/>
            <a:ext cx="1835280" cy="1224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http://www.antipav.ru/images/plan08-1.jpg"/>
          <p:cNvPicPr/>
          <p:nvPr/>
        </p:nvPicPr>
        <p:blipFill>
          <a:blip r:embed="rId3"/>
          <a:stretch/>
        </p:blipFill>
        <p:spPr>
          <a:xfrm>
            <a:off x="3564000" y="1052640"/>
            <a:ext cx="1631880" cy="122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C:\Users\VAIO\Desktop\Хантымансийск\IMG_2006.JPG"/>
          <p:cNvPicPr/>
          <p:nvPr/>
        </p:nvPicPr>
        <p:blipFill>
          <a:blip r:embed="rId4"/>
          <a:stretch/>
        </p:blipFill>
        <p:spPr>
          <a:xfrm>
            <a:off x="1957320" y="1052640"/>
            <a:ext cx="1630440" cy="1224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Users\VAIO\Desktop\НАРКОНЕТ\Статья Якутия\2 Группа специалистов РСЯ.JPG"/>
          <p:cNvPicPr/>
          <p:nvPr/>
        </p:nvPicPr>
        <p:blipFill>
          <a:blip r:embed="rId5"/>
          <a:stretch/>
        </p:blipFill>
        <p:spPr>
          <a:xfrm>
            <a:off x="6996240" y="1052640"/>
            <a:ext cx="167940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395280" y="1197000"/>
            <a:ext cx="83916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Материалы подписчиков к публикации принимаются в электронном виде на адрес редакции </a:t>
            </a:r>
            <a:r>
              <a:rPr b="0" lang="ru-RU" sz="2000" spc="-1" strike="noStrike" u="sng">
                <a:solidFill>
                  <a:srgbClr val="6b9f25"/>
                </a:solidFill>
                <a:uFillTx/>
                <a:latin typeface="Times New Roman"/>
                <a:hlinkClick r:id="rId1"/>
              </a:rPr>
              <a:t>4mpress@list.</a:t>
            </a:r>
            <a:r>
              <a:rPr b="0" lang="en-US" sz="2000" spc="-1" strike="noStrike" u="sng">
                <a:solidFill>
                  <a:srgbClr val="6b9f25"/>
                </a:solidFill>
                <a:uFillTx/>
                <a:latin typeface="Times New Roman"/>
                <a:hlinkClick r:id="rId2"/>
              </a:rPr>
              <a:t>ru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 эт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тематические стать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тезис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екты, программ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сценарии мероприяти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материалы, объявленных редакцией конкурсов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видео ролики (социальные тематические ролики, интервью, иллюстрация мероприяти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презентации к проектам, программам, мероприятиям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программное обеспеч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Заголовок 1"/>
          <p:cNvSpPr/>
          <p:nvPr/>
        </p:nvSpPr>
        <p:spPr>
          <a:xfrm>
            <a:off x="611280" y="333360"/>
            <a:ext cx="8280360" cy="79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орма предоставления материалов для размещения в электронном журнале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1"/>
          <p:cNvSpPr/>
          <p:nvPr/>
        </p:nvSpPr>
        <p:spPr>
          <a:xfrm>
            <a:off x="468360" y="4797360"/>
            <a:ext cx="820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6600"/>
                </a:solidFill>
                <a:latin typeface="Times New Roman"/>
              </a:rPr>
              <a:t>Присланные материалы должны не нарушать Федеральный закон от 29 декабря 2010 года </a:t>
            </a:r>
            <a:r>
              <a:rPr b="1" lang="bg-BG" sz="2000" spc="-1" strike="noStrike">
                <a:solidFill>
                  <a:srgbClr val="ff6600"/>
                </a:solidFill>
                <a:latin typeface="Times New Roman"/>
              </a:rPr>
              <a:t>№ 436-ФЗ «О защите детей от информации, при</a:t>
            </a:r>
            <a:r>
              <a:rPr b="1" lang="ru-RU" sz="2000" spc="-1" strike="noStrike">
                <a:solidFill>
                  <a:srgbClr val="ff6600"/>
                </a:solidFill>
                <a:latin typeface="Times New Roman"/>
              </a:rPr>
              <a:t>чиняющей вред их здоровью и развитию». Материалы, направленные в редакцию, не соблюдающие данный закон, не будут размещены на страницах журна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539640" y="981000"/>
            <a:ext cx="81028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ект открыт для вхождения новых научных и образовательных инфраструктур профилактики. Приглашаем к развитию профессионального сообщества и поддержке региональных инициатив в социокультурной, в том числе и образовательной сред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вайте работать вмест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лавный редактор журнала «Не будь зависим – скажи «Нет!»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наркотикам, алкоголю, курению, игромании»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.Н. Ганее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иректор ФГБОУ ДПО «Центр  повышения квалификации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фессиональной переподготовки специалистов в области профилактики  аддиктивного повед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детей и молодежи»                                                                                      В.В. Зарецк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Заголовок 1"/>
          <p:cNvSpPr/>
          <p:nvPr/>
        </p:nvSpPr>
        <p:spPr>
          <a:xfrm>
            <a:off x="611280" y="404640"/>
            <a:ext cx="828036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РИГЛАШАЕМ К СОТРУДНИЧЕСТВУ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900000" y="2276640"/>
            <a:ext cx="7272360" cy="89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323232">
                      <a:alpha val="75000"/>
                    </a:srgbClr>
                  </a:outerShdw>
                </a:effectLst>
                <a:latin typeface="Impact"/>
              </a:rPr>
              <a:t>Действуй  профессионально!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323232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407960" y="2859120"/>
            <a:ext cx="3040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34800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247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4481640" y="38541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Изображение 5" descr=""/>
          <p:cNvPicPr/>
          <p:nvPr/>
        </p:nvPicPr>
        <p:blipFill>
          <a:blip r:embed="rId1"/>
          <a:stretch/>
        </p:blipFill>
        <p:spPr>
          <a:xfrm>
            <a:off x="4356000" y="476280"/>
            <a:ext cx="4319640" cy="5905440"/>
          </a:xfrm>
          <a:prstGeom prst="rect">
            <a:avLst/>
          </a:prstGeom>
          <a:ln w="0">
            <a:noFill/>
          </a:ln>
        </p:spPr>
      </p:pic>
      <p:pic>
        <p:nvPicPr>
          <p:cNvPr id="103" name="Изображение 1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1511280" cy="2143080"/>
          </a:xfrm>
          <a:prstGeom prst="rect">
            <a:avLst/>
          </a:prstGeom>
          <a:ln w="0">
            <a:noFill/>
          </a:ln>
        </p:spPr>
      </p:pic>
      <p:pic>
        <p:nvPicPr>
          <p:cNvPr id="104" name="Изображение 7" descr=""/>
          <p:cNvPicPr/>
          <p:nvPr/>
        </p:nvPicPr>
        <p:blipFill>
          <a:blip r:embed="rId3"/>
          <a:stretch/>
        </p:blipFill>
        <p:spPr>
          <a:xfrm>
            <a:off x="2411280" y="1125360"/>
            <a:ext cx="1624320" cy="219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C:\Users\VAIO\Desktop\НАРКОНЕТ\Нарко Нет - обложка №6.jpg"/>
          <p:cNvPicPr/>
          <p:nvPr/>
        </p:nvPicPr>
        <p:blipFill>
          <a:blip r:embed="rId4"/>
          <a:stretch/>
        </p:blipFill>
        <p:spPr>
          <a:xfrm>
            <a:off x="611280" y="3357720"/>
            <a:ext cx="1587240" cy="2154240"/>
          </a:xfrm>
          <a:prstGeom prst="rect">
            <a:avLst/>
          </a:prstGeom>
          <a:ln w="0">
            <a:noFill/>
          </a:ln>
        </p:spPr>
      </p:pic>
      <p:pic>
        <p:nvPicPr>
          <p:cNvPr id="106" name="Изображение 3" descr=""/>
          <p:cNvPicPr/>
          <p:nvPr/>
        </p:nvPicPr>
        <p:blipFill>
          <a:blip r:embed="rId5"/>
          <a:stretch/>
        </p:blipFill>
        <p:spPr>
          <a:xfrm>
            <a:off x="2627280" y="3933720"/>
            <a:ext cx="142092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4500720" y="2133720"/>
            <a:ext cx="41749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Нормативно-правовое обеспечение профилактик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ставляются материалы, связанные с во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просами нормативно-правового обеспечени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филактики незаконного оборота наркотических и психотропных веществ (электронные документы, комментарии к законам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Заголовок 1"/>
          <p:cNvSpPr/>
          <p:nvPr/>
        </p:nvSpPr>
        <p:spPr>
          <a:xfrm>
            <a:off x="611280" y="333360"/>
            <a:ext cx="828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Arial"/>
              </a:rPr>
              <a:t>Основные разделы электронного журнала </a:t>
            </a:r>
            <a:br>
              <a:rPr sz="2800"/>
            </a:br>
            <a:r>
              <a:rPr b="1" lang="ru-RU" sz="2800" spc="-1" strike="noStrike">
                <a:solidFill>
                  <a:srgbClr val="ff8d3e"/>
                </a:solidFill>
                <a:latin typeface="Arial"/>
              </a:rPr>
              <a:t> «ДЕЙСТВУЙ  ПРОФЕССИОНАЛЬНО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Изображение 1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73240" cy="2880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2556000" y="2781360"/>
            <a:ext cx="1655640" cy="24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539640" y="2421000"/>
            <a:ext cx="83916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Культурно-образовательные  проекты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ставляется  опыт   проектирования  событийных  пространств   жизни  детско-взрослых сообщест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 Анализируется  инновационная  практика  гуманитарного  проектир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уются  процессы  культурного самоопределения подростков и молодеж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611280" y="333360"/>
            <a:ext cx="828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Arial"/>
              </a:rPr>
              <a:t>Основные разделы электронного журнала </a:t>
            </a:r>
            <a:br>
              <a:rPr sz="2800"/>
            </a:br>
            <a:r>
              <a:rPr b="1" lang="ru-RU" sz="2800" spc="-1" strike="noStrike">
                <a:solidFill>
                  <a:srgbClr val="ff8d3e"/>
                </a:solidFill>
                <a:latin typeface="Arial"/>
              </a:rPr>
              <a:t> «ДЕЙСТВУЙ  ПРОФЕССИОНАЛЬНО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39640" y="4941720"/>
            <a:ext cx="824724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Исследование, проектирование стратегировани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атриваются вопросы  организации проектной  и исследовательской деятельности учащихс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ализируются  прецеденты  развития   творческой  инициативы  подростков  и  молодежи, а также  детских  и детско-взрослых  объедин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5" descr="C:\Users\VAIO\Desktop\НАРКОНЕТ\НЕ БУДЬ ЗАВИСИМ\Статья Рябцева ВК и Ряшиной ВВ Театр сезоны\Фото 4.jpg"/>
          <p:cNvPicPr/>
          <p:nvPr/>
        </p:nvPicPr>
        <p:blipFill>
          <a:blip r:embed="rId1"/>
          <a:stretch/>
        </p:blipFill>
        <p:spPr>
          <a:xfrm>
            <a:off x="684360" y="1413000"/>
            <a:ext cx="1601640" cy="1074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C:\Users\VAIO\Desktop\НАРКОНЕТ\НЕ БУДЬ ЗАВИСИМ\Статья Рябцева ВК и Ряшиной ВВ Театр сезоны\Фото 7.jpg"/>
          <p:cNvPicPr/>
          <p:nvPr/>
        </p:nvPicPr>
        <p:blipFill>
          <a:blip r:embed="rId2"/>
          <a:stretch/>
        </p:blipFill>
        <p:spPr>
          <a:xfrm>
            <a:off x="2268360" y="1413000"/>
            <a:ext cx="1366920" cy="1065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C:\Users\VAIO\Desktop\НАРКОНЕТ\НЕ БУДЬ ЗАВИСИМ\Статья Рябцева ВК и Ряшиной ВВ Театр сезоны\Фото 5.jpg"/>
          <p:cNvPicPr/>
          <p:nvPr/>
        </p:nvPicPr>
        <p:blipFill>
          <a:blip r:embed="rId3"/>
          <a:stretch/>
        </p:blipFill>
        <p:spPr>
          <a:xfrm>
            <a:off x="7164360" y="4005360"/>
            <a:ext cx="1508040" cy="936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4"/>
          <a:stretch/>
        </p:blipFill>
        <p:spPr>
          <a:xfrm>
            <a:off x="5580000" y="4005360"/>
            <a:ext cx="160812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468360" y="2060640"/>
            <a:ext cx="8280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Семейная гостина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назначена для использования в качестве новой формы событийного пространства, как в образовательных учреждениях и самой семье. Семья из объекта воспитания становится активным субъектом, преобразующим свою жизн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611280" y="333360"/>
            <a:ext cx="828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Основные разделы электронного журнала 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 «ДЕЙСТВУЙ  ПРОФЕССИОНАЛЬНО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95280" y="4941720"/>
            <a:ext cx="82803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Люди доброй воли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нимание уделяется распространению опыта добровольческого движения. Представление программ, мероприятий, акций, практики добровольческой работы, ориентированной как на прецеденты популяризации культурных инициатив, пропаганды здорового образа жизн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0" descr=""/>
          <p:cNvPicPr/>
          <p:nvPr/>
        </p:nvPicPr>
        <p:blipFill>
          <a:blip r:embed="rId1"/>
          <a:stretch/>
        </p:blipFill>
        <p:spPr>
          <a:xfrm>
            <a:off x="4572000" y="1125360"/>
            <a:ext cx="4083120" cy="117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Object 3"/>
          <p:cNvGraphicFramePr/>
          <p:nvPr/>
        </p:nvGraphicFramePr>
        <p:xfrm>
          <a:off x="468360" y="3573360"/>
          <a:ext cx="2663640" cy="14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573360"/>
                    <a:ext cx="2663640" cy="14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468360" y="2205000"/>
            <a:ext cx="8391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Технологии профилактик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ставлены материалы по теории, методологии и применению разнообразных психолого-педагогических технологий по работе с основными целевыми группами. Рубрика развивает профессиональные компетентности педагогов и специалистов, доказывая необходимость и реальную возможность овладения ими диагностическими, интерактивными, тренинговыми и проектными технологиям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искуссионный клуб, коммуникативный тренинг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енинг формирования ассертивного стиля п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оведения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тивационный тренинг, проблемно-разрешающий тренинг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енинг психической саморегуляции, технологии арт-терап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психодрамы в профилактической ра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боте и д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611280" y="333360"/>
            <a:ext cx="828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Основные разделы электронного журнала 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 «ДЕЙСТВУЙ  ПРОФЕССИОНАЛЬНО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95280" y="537372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Требуется консультация специалиста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вопросы подростков, молодежи, педагогов и родителей отвечают специалис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5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368360" cy="1222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"/>
          <p:cNvPicPr/>
          <p:nvPr/>
        </p:nvPicPr>
        <p:blipFill>
          <a:blip r:embed="rId2"/>
          <a:stretch/>
        </p:blipFill>
        <p:spPr>
          <a:xfrm>
            <a:off x="1979640" y="1052640"/>
            <a:ext cx="1655640" cy="1242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C:\Users\VAIO\Desktop\Хантымансийск\IMG_1992.JPG"/>
          <p:cNvPicPr/>
          <p:nvPr/>
        </p:nvPicPr>
        <p:blipFill>
          <a:blip r:embed="rId3"/>
          <a:stretch/>
        </p:blipFill>
        <p:spPr>
          <a:xfrm>
            <a:off x="3635280" y="1052640"/>
            <a:ext cx="2317680" cy="122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"/>
          <p:cNvPicPr/>
          <p:nvPr/>
        </p:nvPicPr>
        <p:blipFill>
          <a:blip r:embed="rId4"/>
          <a:stretch/>
        </p:blipFill>
        <p:spPr>
          <a:xfrm>
            <a:off x="6732720" y="4292640"/>
            <a:ext cx="1969920" cy="12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395280" y="1989000"/>
            <a:ext cx="8391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Мнение эксперт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можность получить профессиональный отзыв или экспертное заключение на ваш проект, программу, систему мероприятий, социальную рекламу и др.  Это независимое экспертное представление лучших проектов с анализом важных положений, нашедших отражение в проекте, программе и т.д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611280" y="333360"/>
            <a:ext cx="828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Основные разделы электронного журнала 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 «ДЕЙСТВУЙ  ПРОФЕССИОНАЛЬНО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95280" y="5229360"/>
            <a:ext cx="82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Конкурсы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единенная редакция проводит и освещает конкурсные региональные и отраслевые инициативы, отражающие основные направления концепции журналов и социальных партне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C:\Users\VAIO\Desktop\НАРКОНЕТ\НЕ БУДЬ ЗАВИСИМ\Статья Оценка программ профилактики\Проекты и прогрммы.JPG"/>
          <p:cNvPicPr/>
          <p:nvPr/>
        </p:nvPicPr>
        <p:blipFill>
          <a:blip r:embed="rId1"/>
          <a:stretch/>
        </p:blipFill>
        <p:spPr>
          <a:xfrm>
            <a:off x="5003640" y="1125360"/>
            <a:ext cx="3708720" cy="1170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C:\Users\VAIO\Desktop\НАРКОНЕТ\НЕ БУДЬ ЗАВИСИМ\Статья Рябцева ВК и Ряшиной ВВ Театр сезоны\287.JPG"/>
          <p:cNvPicPr/>
          <p:nvPr/>
        </p:nvPicPr>
        <p:blipFill>
          <a:blip r:embed="rId2"/>
          <a:stretch/>
        </p:blipFill>
        <p:spPr>
          <a:xfrm>
            <a:off x="539640" y="3933720"/>
            <a:ext cx="1984320" cy="1319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:\Users\VAIO\Desktop\НАРКОНЕТ\Статья Маллер Выставка- Центр толерантности\Картины детей.JPG"/>
          <p:cNvPicPr/>
          <p:nvPr/>
        </p:nvPicPr>
        <p:blipFill>
          <a:blip r:embed="rId3"/>
          <a:stretch/>
        </p:blipFill>
        <p:spPr>
          <a:xfrm>
            <a:off x="2484360" y="3933720"/>
            <a:ext cx="2016360" cy="13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395280" y="2276640"/>
            <a:ext cx="8391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Конференци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вещение тематических конференций, анонсирование и представление программ и материалов региональных и отраслевых конференц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Заголовок 1"/>
          <p:cNvSpPr/>
          <p:nvPr/>
        </p:nvSpPr>
        <p:spPr>
          <a:xfrm>
            <a:off x="611280" y="333360"/>
            <a:ext cx="828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Основные разделы электронного журнала 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 «ДЕЙСТВУЙ  ПРОФЕССИОНАЛЬНО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24000" y="458136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Развитие социального партнерств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ведомственное и межпрофессиональное партнерство один из важнейших ресурсоразвивающих механизмов становления социальной практики. Описание регионального опыта такого взаимодействия – это важнейшее направление деятельности объединенной редакции журналов и возможность установления новых контактов дл поддержки и развития Ваших проект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C:\Users\VAIO\Desktop\НАРКОНЕТ\Статья Конференция СОШ 163 (10.04.2013)\6 Участники конференции.JPG"/>
          <p:cNvPicPr/>
          <p:nvPr/>
        </p:nvPicPr>
        <p:blipFill>
          <a:blip r:embed="rId1"/>
          <a:stretch/>
        </p:blipFill>
        <p:spPr>
          <a:xfrm>
            <a:off x="611280" y="1052640"/>
            <a:ext cx="1728720" cy="129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VAIO\Desktop\НАРКОНЕТ\Статья Конференция СОШ 163 (10.04.2013)\1 Открытие конференции.JPG"/>
          <p:cNvPicPr/>
          <p:nvPr/>
        </p:nvPicPr>
        <p:blipFill>
          <a:blip r:embed="rId2"/>
          <a:stretch/>
        </p:blipFill>
        <p:spPr>
          <a:xfrm>
            <a:off x="2340000" y="1052640"/>
            <a:ext cx="2060640" cy="1296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Users\VAIO\Desktop\НАРКОНЕТ\НЕ БУДЬ ЗАВИСИМ\Статья Нерюнгри\ФСКН.JPG"/>
          <p:cNvPicPr/>
          <p:nvPr/>
        </p:nvPicPr>
        <p:blipFill>
          <a:blip r:embed="rId3"/>
          <a:stretch/>
        </p:blipFill>
        <p:spPr>
          <a:xfrm>
            <a:off x="5148360" y="3357720"/>
            <a:ext cx="1690560" cy="1272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Users\VAIO\Desktop\НАРКОНЕТ\НЕ БУДЬ ЗАВИСИМ\Статья Нерюнгри\Наркопосты.JPG"/>
          <p:cNvPicPr/>
          <p:nvPr/>
        </p:nvPicPr>
        <p:blipFill>
          <a:blip r:embed="rId4"/>
          <a:stretch/>
        </p:blipFill>
        <p:spPr>
          <a:xfrm>
            <a:off x="6804000" y="3357720"/>
            <a:ext cx="170676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24000" y="1268280"/>
            <a:ext cx="65516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Экспериментальные  площадк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вещает инновационную практику построения социокультурной среды, представляет практику, направленную на совершенствование технологий в рамках позитивно ориентированной профилактической деятельности образовательных учреждений, развитие сетевого социального партнерства и межпрофессионального взаи</a:t>
            </a:r>
            <a:r>
              <a:rPr b="0" lang="bg-BG" sz="1800" spc="-1" strike="noStrike">
                <a:solidFill>
                  <a:srgbClr val="000000"/>
                </a:solidFill>
                <a:latin typeface="Times New Roman"/>
              </a:rPr>
              <a:t>модействия субъектов профилакти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Заголовок 1"/>
          <p:cNvSpPr/>
          <p:nvPr/>
        </p:nvSpPr>
        <p:spPr>
          <a:xfrm>
            <a:off x="611280" y="333360"/>
            <a:ext cx="828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Основные разделы электронного журнала </a:t>
            </a:r>
            <a:br>
              <a:rPr sz="2000"/>
            </a:br>
            <a:r>
              <a:rPr b="1" lang="ru-RU" sz="2000" spc="-1" strike="noStrike">
                <a:solidFill>
                  <a:srgbClr val="ff8d3e"/>
                </a:solidFill>
                <a:latin typeface="Arial"/>
              </a:rPr>
              <a:t> «ДЕЙСТВУЙ  ПРОФЕССИОНАЛЬНО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556000" y="3933720"/>
            <a:ext cx="60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Зарубежный опыт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чень важным представляется знание зарубежного опыта в аналогичных областях. Теория и практика имеет развитие, когда она соотносится с различными культурными и научными концепциями не только отечественного опы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3" descr="C:\Users\VAIO\Desktop\НАРКОНЕТ\Сборник Ценностное отношение к здоровью 2010.jpg"/>
          <p:cNvPicPr/>
          <p:nvPr/>
        </p:nvPicPr>
        <p:blipFill>
          <a:blip r:embed="rId1"/>
          <a:stretch/>
        </p:blipFill>
        <p:spPr>
          <a:xfrm>
            <a:off x="7020000" y="1197000"/>
            <a:ext cx="1658880" cy="2395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468360" y="3830760"/>
            <a:ext cx="1800000" cy="257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2:22:24Z</dcterms:created>
  <dc:creator>@@@</dc:creator>
  <dc:description/>
  <dc:language>en-US</dc:language>
  <cp:lastModifiedBy>korvi</cp:lastModifiedBy>
  <dcterms:modified xsi:type="dcterms:W3CDTF">2013-09-10T11:09:30Z</dcterms:modified>
  <cp:revision>429</cp:revision>
  <dc:subject/>
  <dc:title>Заголовок слайда отсутствует</dc:title>
</cp:coreProperties>
</file>