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tada.wav" ContentType="audio/x-wav"/>
  <Override PartName="/ppt/media/image6.wmf" ContentType="image/x-wmf"/>
  <Override PartName="/ppt/media/arrow.wav" ContentType="audio/x-wav"/>
  <Override PartName="/ppt/media/image15.wmf" ContentType="image/x-wmf"/>
  <Override PartName="/ppt/media/image17.wmf" ContentType="image/x-wmf"/>
  <Override PartName="/ppt/media/click.wav" ContentType="audio/x-wav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2.jpeg" ContentType="image/jpeg"/>
  <Override PartName="/ppt/media/breeze.wav" ContentType="audio/x-wav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0B0-26F0-4E04-AAA1-55342769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52E-2814-46B9-9332-AA8A3D24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BAB-7E94-461C-8D1F-FA4EC784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260-646E-483C-AD2A-85E95EDC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6F4-67E4-42C5-B31B-3ACAD1D9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C8C0-4E5F-4AE6-9690-9F0B0FC2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4AAE-6557-47EA-9E74-906271A4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1529-A53E-41D0-88B1-5B7DD6DE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3EF1-D0C5-41EE-AF6E-0458AABA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8446-8147-4020-99E1-2BE2F8B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5B5-749C-4AE9-AB8D-029B852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2FB-C549-4C6B-881F-FB379EC5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2EB9-218C-47D8-842F-61087B2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F8A5-FC57-4957-92DB-E87667D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9F90-D0D0-422D-9609-02264287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0FA-7429-40DD-AEA3-11F2912D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137-B1DC-4DA4-8937-578D2621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76D5-C594-40F1-9B6F-F8DB4746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C3D4-873B-43BE-AFCF-D52448D0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0D98-E869-45E7-81C2-9033541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E2AD-5FA2-451E-B428-8E008720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59DC-1D0F-4FE6-99E0-C9BC1308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7BC-78D9-46BD-BA38-7E44F011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90FD-EAA8-4971-A447-BBF996F7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23A2-0783-40EA-99E7-2FD9D89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0DEC-FFE3-4F18-BF97-DD5AEDA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1A97-1348-4E9C-9B09-26B922B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D885-D48D-4F48-80A6-DD1AACB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6D5F-A2CB-4DEF-B39B-55F64F9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5FD9-783C-4520-85D2-82010F61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4B3D-4659-42C4-8CEA-BEFA49EB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4AE9-2543-48F5-86D7-E4A9866C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A142-4ECF-4CE2-97D4-A8221A3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BE8-0695-464A-BBB2-EA254D28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C56AE-FB56-47DE-8904-F66D2027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2A4C-AA3F-4A9A-9C8E-7EADBB6D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F31C-A7FA-4B16-A86E-9DBE0B79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12D5-4AE6-4D72-964E-072AD6C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0A94D-E9AF-47FF-9598-C1CB394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7F6B-7E74-4E32-AC4B-C438144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D0EA-1692-439D-828A-B6A5350B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942C-5D6B-409A-83E1-5F3E4495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2310-3429-46A7-A1BD-25A62ED7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DBB-C9A0-4624-AC85-EF6C298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8AA-96F2-4033-8786-85F35AB5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0B1-174E-474B-BA46-8036AE4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F23-F7F3-4754-BB58-519819A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CD8-EDBE-4A3D-99A7-B9AD184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E9C8-2DC0-4A6F-A3F3-F6D8C328F6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3156-DE82-42B4-BA6D-3B5D44EFD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21F-6DA6-47F8-970B-EFF32EF19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B31F-056B-444E-8CA5-0A7168736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7.wm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tada.wav"/><Relationship Id="rId1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breeze.wav"/><Relationship Id="rId4" Type="http://schemas.openxmlformats.org/officeDocument/2006/relationships/audio" Target="../media/click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4d4d"/>
                </a:solidFill>
                <a:latin typeface="Book Antiqua"/>
              </a:rPr>
              <a:t>Принятие решений: методология и этапы в практическом аспект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714240" y="2500200"/>
          <a:ext cx="20527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500200"/>
                    <a:ext cx="20527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3c6565"/>
                </a:solidFill>
                <a:latin typeface="Book Antiqua"/>
              </a:rPr>
              <a:t>Принятие решений</a:t>
            </a:r>
            <a:r>
              <a:rPr b="1" lang="ru-RU" sz="3200" spc="-1" strike="noStrike">
                <a:solidFill>
                  <a:srgbClr val="3c6565"/>
                </a:solidFill>
                <a:latin typeface="Arial"/>
              </a:rPr>
              <a:t> –</a:t>
            </a:r>
            <a:br>
              <a:rPr sz="3200"/>
            </a:br>
            <a:r>
              <a:rPr b="1" lang="ru-RU" sz="3100" spc="-1" strike="noStrike">
                <a:solidFill>
                  <a:srgbClr val="3c6565"/>
                </a:solidFill>
                <a:latin typeface="Arial"/>
              </a:rPr>
              <a:t> отдельная функция менеджмента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!   Важнее – не ответить на вопрос, а правильно найти этот  вопрос и сформулировать 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ъект реш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процесс, элемент или лицо, необходимое для решения пробле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d4d"/>
                </a:solidFill>
                <a:latin typeface="Verdana"/>
              </a:rPr>
              <a:t>Условие положительного воздействия решения на работу организации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8480" y="18572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Verdana"/>
              </a:rPr>
              <a:t>СОГЛАСОВАННОСТЬ</a:t>
            </a: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 с теми решениями, что принимались ранее (как по вертикали, так и по горизонтали управлени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4" descr="perform"/>
          <p:cNvPicPr/>
          <p:nvPr/>
        </p:nvPicPr>
        <p:blipFill>
          <a:blip r:embed="rId1"/>
          <a:stretch/>
        </p:blipFill>
        <p:spPr>
          <a:xfrm>
            <a:off x="6215040" y="3714840"/>
            <a:ext cx="2414520" cy="24238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3"/>
          <p:cNvSpPr txBox="1"/>
          <p:nvPr/>
        </p:nvSpPr>
        <p:spPr>
          <a:xfrm>
            <a:off x="3071880" y="5000760"/>
            <a:ext cx="186516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Стрелка вниз 5"/>
          <p:cNvSpPr/>
          <p:nvPr/>
        </p:nvSpPr>
        <p:spPr>
          <a:xfrm>
            <a:off x="3357720" y="385776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Две группы факторов, влияющих на процесс принятия управленческих решен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— </a:t>
            </a:r>
            <a:r>
              <a:rPr b="1" lang="ru-RU" sz="2900" spc="-1" strike="noStrike">
                <a:solidFill>
                  <a:srgbClr val="196666"/>
                </a:solidFill>
                <a:latin typeface="Verdana"/>
              </a:rPr>
              <a:t>личностные и ситуационны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 личностным факторам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носятся психические процессы, состояния и свойства личности ЛПР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Ситуационные фактор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арактеризуют ситуацию принятия решения и описываются в виде значений ситуационных пе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нешней и внутренней среды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42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сезнание уму не научает.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r>
              <a:rPr b="0" i="1" lang="ru-RU" sz="2400" spc="-1" strike="noStrike">
                <a:solidFill>
                  <a:srgbClr val="006666"/>
                </a:solidFill>
                <a:latin typeface="Arial"/>
              </a:rPr>
              <a:t>Ломоносов М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Object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 решений, принимаемых в организ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Содержимое 3" descr="http://www.nnre.ru/delovaja_literatura/menedzhment_konspekt_lekcii/i_001.jpg"/>
          <p:cNvPicPr/>
          <p:nvPr/>
        </p:nvPicPr>
        <p:blipFill>
          <a:blip r:embed="rId1"/>
          <a:stretch/>
        </p:blipFill>
        <p:spPr>
          <a:xfrm>
            <a:off x="714240" y="1214280"/>
            <a:ext cx="79297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Решение должно отвечать ряду требова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основан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ткость формулировок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ьная осуществим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евременность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кономичность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епень достижения поставленной цели в сопоставлении с расходом ресур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Решения должны приниматься там, где возникает проблемная ситуац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этого менеджеров соответствующего уровня необходимо наделить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надлежащими полномочия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возложив на них в то же время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состояние дел на управляемом объект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0"/>
            <a:ext cx="73134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Процедура принятия рационального решения включает семь последовательных этапов: (классическая точка зрения)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 определение проблем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 формулировка ограничений и критериев принятия решени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) выявление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) оценка альтернати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) выбор альтернатив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) реализация решени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) обратная связ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 фаз принятия решений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М. Мескон, М. Альберт и Ф. Хедоури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редел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из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работка альтернативных взаимоисключающих реш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иск оптимального реш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образование решения в эффективное действ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1фаза: Определение проблем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05092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2916360" y="2349360"/>
            <a:ext cx="7189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780000" y="2349360"/>
            <a:ext cx="72072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68360" y="2781360"/>
            <a:ext cx="719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6"/>
          <p:cNvSpPr/>
          <p:nvPr/>
        </p:nvSpPr>
        <p:spPr>
          <a:xfrm flipH="1">
            <a:off x="3563640" y="278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2767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298764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484360" y="32846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мпто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356400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5527440" y="308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альная пробле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040120" y="3803760"/>
            <a:ext cx="631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Симптомы могут принадлежать разн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облема может не иметь симпто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Их необходимо выяв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симптомов позволяет установи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личие проблемы, но не отвечает на вопро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ричинах ее возникнов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23"/>
          <p:cNvSpPr/>
          <p:nvPr/>
        </p:nvSpPr>
        <p:spPr>
          <a:xfrm rot="5400000">
            <a:off x="3095280" y="4905360"/>
            <a:ext cx="505080" cy="142920"/>
          </a:xfrm>
          <a:prstGeom prst="rightArrow">
            <a:avLst>
              <a:gd name="adj1" fmla="val 50000"/>
              <a:gd name="adj2" fmla="val 8835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6200" y="457056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 качестве эпиграф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«Вы не можете решить проблему, пока не признаете, что она у вас есть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X. Макк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AcerNEW-1\Desktop\konkursris221111ava.jpg"/>
          <p:cNvPicPr/>
          <p:nvPr/>
        </p:nvPicPr>
        <p:blipFill>
          <a:blip r:embed="rId1"/>
          <a:stretch/>
        </p:blipFill>
        <p:spPr>
          <a:xfrm>
            <a:off x="928800" y="40006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виртуального движ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зрастить проблему в будущ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1908000" y="299736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802800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411280" y="2997360"/>
            <a:ext cx="289080" cy="71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995640" y="2852640"/>
            <a:ext cx="5050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6156360" y="2637000"/>
            <a:ext cx="576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979640" y="3068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шл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635280" y="306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стоящ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5970960" y="31417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у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1751400" y="4365720"/>
            <a:ext cx="70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Сделать шаг по мотивации персона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решению проблемы, т.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! Раскрыть персоналу КЛЮЧЕВОЙ МОМЕН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КРИТИЧЕСКИЕ ФА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482560" y="38322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!!!!    Найти причину в прошл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66"/>
                </a:solidFill>
                <a:latin typeface="Arial"/>
              </a:rPr>
              <a:t>Методология решения проблем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членить проблему как таковую (Проанализировать: объективна ли информац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 она связана с проблем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Определить: была ли она в прошлом и как она повлияла на настояще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Классифицировать пробл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Отобрать информацию для её реш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Рассмотреть её с точки зрения ТАБУ и огранич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Вычленить из альтернативных решений од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Нулевой вариант решения проблемы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членить проблему как такову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: была ли она в прош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к она повлияла на настоящ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лассифицировать пробл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НИЧЕГО НЕ ДЕЛА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.е. выжид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Парадигма необходимости ПУР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и выгода         , то решение не нужн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ли риск      ,  а выгода         , то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 НЕОБХОДИМ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4"/>
          <p:cNvSpPr/>
          <p:nvPr/>
        </p:nvSpPr>
        <p:spPr>
          <a:xfrm flipV="1">
            <a:off x="3492360" y="191592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5796000" y="19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V="1">
            <a:off x="3564000" y="306828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7"/>
          <p:cNvSpPr/>
          <p:nvPr/>
        </p:nvSpPr>
        <p:spPr>
          <a:xfrm flipV="1">
            <a:off x="5724360" y="2997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3564000" y="407664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5796000" y="4005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6666"/>
                </a:solidFill>
                <a:uFillTx/>
                <a:latin typeface="Arial"/>
              </a:rPr>
              <a:t>Критерии оптимальности УР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ЦЕЛЬ ≤ 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ффективнос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 =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4140360" y="364500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40360" y="3860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 + усил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473120" y="4808520"/>
            <a:ext cx="3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тимальнос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763640" y="5460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.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1640" y="5229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2771640" y="5589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931480" y="5661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4511520" y="5261040"/>
            <a:ext cx="25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ловий, где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условий=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093080" y="508464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окружен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7236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7164360" y="5661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Цел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 u="sng">
                <a:solidFill>
                  <a:srgbClr val="006666"/>
                </a:solidFill>
                <a:uFillTx/>
                <a:latin typeface="Arial"/>
              </a:rPr>
              <a:t>Участники реш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убъекты, связанные с организац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Управленческое звено (заместители руководител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Исполните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КАКАЯ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нцип нейтрализации негативных и активизации пассивных исполнителей УР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92000" y="1628280"/>
            <a:ext cx="70102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ая опасная категория –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асси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195640" y="2637000"/>
            <a:ext cx="6264000" cy="3240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5148360" y="26370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2195640" y="4292640"/>
            <a:ext cx="62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255600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508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556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435640" y="4581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4"/>
          <p:cNvSpPr/>
          <p:nvPr/>
        </p:nvSpPr>
        <p:spPr>
          <a:xfrm flipH="1">
            <a:off x="1747800" y="33465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92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92360" y="3284640"/>
            <a:ext cx="5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 flipH="1">
            <a:off x="4140360" y="3645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8"/>
          <p:cNvSpPr/>
          <p:nvPr/>
        </p:nvSpPr>
        <p:spPr>
          <a:xfrm flipV="1">
            <a:off x="4067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4140360" y="50133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20"/>
          <p:cNvSpPr/>
          <p:nvPr/>
        </p:nvSpPr>
        <p:spPr>
          <a:xfrm flipH="1" flipV="1">
            <a:off x="5724360" y="3716280"/>
            <a:ext cx="2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3924360" y="4941720"/>
            <a:ext cx="28728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5724360" y="4941720"/>
            <a:ext cx="21600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5651640" y="3573360"/>
            <a:ext cx="21564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3851280" y="3500280"/>
            <a:ext cx="28908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Фаза 2:   АНАЛИЗ ПРОБЛЕМЫ</a:t>
            </a:r>
            <a:br>
              <a:rPr sz="2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онечная цель диагноза— выявить управляемые факторы, на которые должен повлиять руководитель, чтобы решить проблему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Классификация проблемы (СТЭП-факторы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фактов, сбор информаци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оиск ЛПР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Возможно привлечение внешнего консультант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530280" indent="-5302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Прикидки» по созданию круга исполнителей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Фаза 3: Выработка альтернативных решени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личие альтернати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едотвращает от поспешных решений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зволяет поставить больше барьеров перед скоротечным решением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звивает способности персонала и управленц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 исключается и НУЛЕВОЙ вариан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914400" y="304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ффективный менеджмент – следствие верных У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28592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406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олотое правило ПУР: выработать </a:t>
            </a:r>
            <a:r>
              <a:rPr b="0" i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взаимоисключающие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реш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Чем больше альтернатив, тем качественнее будет результат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Но: 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000000"/>
                </a:solidFill>
                <a:uFillTx/>
                <a:latin typeface="Verdana"/>
              </a:rPr>
              <a:t>Существует опасность крайних вариантов  - черное и бело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Эффективность альтернативы может быть рассчитана путем оценки двух факторов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Насколько реальна альтернатива в условиях поставленных целей и ресурсов организации и как хорошо она сможет решить пробл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При выборе альтернативы менеджеры должны попробовать минимизировать риск возникновения дополнительных проб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аждая альтернатива должна быть оценена с позиций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Может ли эта альтернатива быть осуществлена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альтернатива не может быть осуществлена, она должна быть устран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Какие организационные последствия могут быть у каждой альтернативы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оздаст ли эта альтернатива ненужных пробле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й эффект альтернатива принесет и в других сферах орган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Фаза 4. Поиск оптимального решения.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выбор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"/>
          <p:cNvSpPr/>
          <p:nvPr/>
        </p:nvSpPr>
        <p:spPr>
          <a:xfrm flipV="1">
            <a:off x="1692360" y="256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1692360" y="537372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835280" y="3068640"/>
            <a:ext cx="215640" cy="23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195640" y="3573360"/>
            <a:ext cx="21564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059280" y="4797360"/>
            <a:ext cx="215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3348000" y="4581360"/>
            <a:ext cx="21600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211640" y="2997360"/>
            <a:ext cx="216000" cy="23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4572000" y="2997360"/>
            <a:ext cx="216000" cy="23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1835280" y="5445000"/>
            <a:ext cx="433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3059280" y="544500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4284720" y="5445000"/>
            <a:ext cx="503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130360" y="2565360"/>
            <a:ext cx="3933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бол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меньше выигры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к и выигрыш равновел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нцип экономии усил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зультаты пр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илия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это и есть эффективност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лучить оптимальные результаты при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N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теря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асности для ПУР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пушек по воробья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нцип «Из рогаток по танкам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аза 5: Преобразование решения в действ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ОЛОТОЕ ПРАВИЛО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не может быть выполнено, если оно не ПРИСВОЕНО людьм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еобходимо убедить персонал, ч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для развития  и влияет на организацию в цело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шение значимо и положительно влияет на каждого из сотрудни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имер, что принесет лично для педагога внедрение проф.стандарт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Необходимое условие реализации УР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Согласование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правленческих решений, которое представляет собой процедуру достижения признания другими людьми предлагаемого решения проблем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ое решение должно быть признано двумя группами людей: а) руководителями других подразделений и организаций, на деятельность которых может повлиять данное решение, и б) исполнителями (подчиненными), которые будут его выполня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 наконец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57200" y="18572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гда решение принято и намечено его выполнение, прекратите полностью беспокоиться об ответственности и заботьтесь о результатах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          (У. Джейм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5000" y="5410080"/>
            <a:ext cx="77709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85800" y="54100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09760" y="4457880"/>
            <a:ext cx="4800600" cy="914400"/>
          </a:xfrm>
          <a:prstGeom prst="cube">
            <a:avLst>
              <a:gd name="adj" fmla="val 35245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2133720" y="3505320"/>
            <a:ext cx="4800600" cy="914400"/>
          </a:xfrm>
          <a:prstGeom prst="cube">
            <a:avLst>
              <a:gd name="adj" fmla="val 35245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2857680" y="2552760"/>
            <a:ext cx="4800600" cy="914400"/>
          </a:xfrm>
          <a:prstGeom prst="cube">
            <a:avLst>
              <a:gd name="adj" fmla="val 35245"/>
            </a:avLst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зн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3581280" y="1600200"/>
            <a:ext cx="4800600" cy="914400"/>
          </a:xfrm>
          <a:prstGeom prst="cube">
            <a:avLst>
              <a:gd name="adj" fmla="val 35245"/>
            </a:avLst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УР должно работать на реализацию потребносте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ерсонала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по А.МАСЛОУ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 flipV="1">
            <a:off x="6012000" y="2420640"/>
            <a:ext cx="266364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10"/>
          <p:cNvSpPr/>
          <p:nvPr/>
        </p:nvSpPr>
        <p:spPr>
          <a:xfrm flipV="1">
            <a:off x="7740720" y="1915920"/>
            <a:ext cx="9349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асности поспешных реш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сознательного компонента в коллективе для реализации ПУ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т перспективы для персонала, или же ПУР вызовет негативные последствия для не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дется многому учиться ЗАНО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омка традиционных отноше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фликтогенность повышае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кучесть кадр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ризис, разва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708360" y="3860640"/>
            <a:ext cx="165564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5"/>
          <p:cNvSpPr/>
          <p:nvPr/>
        </p:nvSpPr>
        <p:spPr>
          <a:xfrm rot="10800000">
            <a:off x="4427640" y="4868640"/>
            <a:ext cx="288720" cy="360360"/>
          </a:xfrm>
          <a:prstGeom prst="upArrow">
            <a:avLst>
              <a:gd name="adj1" fmla="val 50000"/>
              <a:gd name="adj2" fmla="val 3120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427640" y="558972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Эффект отрицательной синер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факторов как бы «накладываются» друг на друга и образуют настолько неблагоприятное сочетание, что эффективность деятельности организации резко пад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C:\Users\AcerNEW-1\Desktop\images.jpg"/>
          <p:cNvPicPr/>
          <p:nvPr/>
        </p:nvPicPr>
        <p:blipFill>
          <a:blip r:embed="rId1"/>
          <a:stretch/>
        </p:blipFill>
        <p:spPr>
          <a:xfrm>
            <a:off x="642960" y="3714840"/>
            <a:ext cx="38577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6666"/>
                </a:solidFill>
                <a:latin typeface="Verdana"/>
              </a:rPr>
              <a:t>Таким образом,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ализация решений требует от руководителей выполнени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х функций управления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ей (планирования, организации деятельности, координации, мотивации и контроля) с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помощью основных «связующих» процессов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руководства, принятия решений и обмена информацией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666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196666"/>
                </a:solidFill>
                <a:latin typeface="Verdana"/>
              </a:rPr>
              <a:t>Как руководителям организаций определить — достигли они своих целей или нет, и как обнаружить свои ошибки и ошибки подчиненных?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твет прост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Реальная оценка степени достижения цели выбора достигается с помощью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я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Контроль —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процесс измерения фактических значений показателей эффективности, используемых для оценивания альтернати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Verdana"/>
              </a:rPr>
              <a:t>При отсутствии контроля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чинается хаос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ординировать деятельность отдельных людей, групп и организации в целом становится невозможны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еспечение достижений поставленной цели невозможн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c6565"/>
                </a:solidFill>
                <a:latin typeface="Verdana"/>
              </a:rPr>
              <a:t>ПРИЧИНЫ необходимости  КОНТРОЛ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определ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цессе реализации решения условия внешней и внутренней среды могут заметно измениться и не соответствовать ожиданиям Л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2. Предупреждение кризисных ситуа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значительные ошибки, возникающие в процессе принятия решений, постепенно накапливаются и переплетаются, причем, как правило, самым неблагоприятным образ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3. Поддержание успех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ролем обеспечивается положительная обратная связь, которая заключается в определении «сильных сторон» управленческих решений и поддержании достигнутого успе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151920"/>
            <a:ext cx="58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 ХАОСА К КОНТРОЛЮ СИТУАЦИИ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словие – грамотное УР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77" name="Object 3" descr=""/>
          <p:cNvPicPr/>
          <p:nvPr/>
        </p:nvPicPr>
        <p:blipFill>
          <a:blip r:embed="rId1"/>
          <a:stretch/>
        </p:blipFill>
        <p:spPr>
          <a:xfrm>
            <a:off x="2176560" y="1295280"/>
            <a:ext cx="460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3587760" y="82440"/>
            <a:ext cx="901800" cy="825480"/>
          </a:xfrm>
          <a:custGeom>
            <a:avLst/>
            <a:gdLst>
              <a:gd name="textAreaLeft" fmla="*/ 205920 w 901800"/>
              <a:gd name="textAreaRight" fmla="*/ 695880 w 901800"/>
              <a:gd name="textAreaTop" fmla="*/ 188280 h 825480"/>
              <a:gd name="textAreaBottom" fmla="*/ 637200 h 82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149480" y="844560"/>
            <a:ext cx="577836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4"/>
          <p:cNvSpPr/>
          <p:nvPr/>
        </p:nvSpPr>
        <p:spPr>
          <a:xfrm flipV="1">
            <a:off x="1987560" y="2595960"/>
            <a:ext cx="4102200" cy="22734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3968640" y="6026040"/>
            <a:ext cx="1282680" cy="520920"/>
          </a:xfrm>
          <a:prstGeom prst="rightArrow">
            <a:avLst>
              <a:gd name="adj1" fmla="val 75009"/>
              <a:gd name="adj2" fmla="val 1231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AutoShape 6"/>
          <p:cNvSpPr/>
          <p:nvPr/>
        </p:nvSpPr>
        <p:spPr>
          <a:xfrm rot="2220000">
            <a:off x="4807080" y="34354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AutoShape 7"/>
          <p:cNvSpPr/>
          <p:nvPr/>
        </p:nvSpPr>
        <p:spPr>
          <a:xfrm rot="19680000">
            <a:off x="3739680" y="2749680"/>
            <a:ext cx="1282680" cy="520560"/>
          </a:xfrm>
          <a:prstGeom prst="rightArrow">
            <a:avLst>
              <a:gd name="adj1" fmla="val 75009"/>
              <a:gd name="adj2" fmla="val 12321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673360" y="4730760"/>
            <a:ext cx="368280" cy="596880"/>
          </a:xfrm>
          <a:prstGeom prst="upArrow">
            <a:avLst>
              <a:gd name="adj1" fmla="val 75009"/>
              <a:gd name="adj2" fmla="val 8102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9"/>
          <p:cNvSpPr/>
          <p:nvPr/>
        </p:nvSpPr>
        <p:spPr>
          <a:xfrm>
            <a:off x="2901960" y="3435480"/>
            <a:ext cx="520560" cy="901440"/>
          </a:xfrm>
          <a:prstGeom prst="downArrow">
            <a:avLst>
              <a:gd name="adj1" fmla="val 75009"/>
              <a:gd name="adj2" fmla="val 8659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568840" y="5340240"/>
            <a:ext cx="368280" cy="673200"/>
          </a:xfrm>
          <a:prstGeom prst="downArrow">
            <a:avLst>
              <a:gd name="adj1" fmla="val 75009"/>
              <a:gd name="adj2" fmla="val 9140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AutoShape 11"/>
          <p:cNvSpPr/>
          <p:nvPr/>
        </p:nvSpPr>
        <p:spPr>
          <a:xfrm>
            <a:off x="5264280" y="6102360"/>
            <a:ext cx="672840" cy="368280"/>
          </a:xfrm>
          <a:prstGeom prst="leftArrow">
            <a:avLst>
              <a:gd name="adj1" fmla="val 75009"/>
              <a:gd name="adj2" fmla="val 91340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AutoShape 12"/>
          <p:cNvSpPr/>
          <p:nvPr/>
        </p:nvSpPr>
        <p:spPr>
          <a:xfrm rot="4560000">
            <a:off x="4261680" y="4885560"/>
            <a:ext cx="906480" cy="409680"/>
          </a:xfrm>
          <a:prstGeom prst="leftArrow">
            <a:avLst>
              <a:gd name="adj1" fmla="val 75009"/>
              <a:gd name="adj2" fmla="val 11062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3"/>
          <p:cNvSpPr/>
          <p:nvPr/>
        </p:nvSpPr>
        <p:spPr>
          <a:xfrm rot="18300000">
            <a:off x="1682640" y="4806360"/>
            <a:ext cx="291960" cy="673200"/>
          </a:xfrm>
          <a:prstGeom prst="upArrow">
            <a:avLst>
              <a:gd name="adj1" fmla="val 75009"/>
              <a:gd name="adj2" fmla="val 11527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14"/>
          <p:cNvSpPr/>
          <p:nvPr/>
        </p:nvSpPr>
        <p:spPr>
          <a:xfrm>
            <a:off x="3359160" y="5492880"/>
            <a:ext cx="368280" cy="672840"/>
          </a:xfrm>
          <a:prstGeom prst="downArrow">
            <a:avLst>
              <a:gd name="adj1" fmla="val 75009"/>
              <a:gd name="adj2" fmla="val 913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Object 15"/>
          <p:cNvGraphicFramePr/>
          <p:nvPr/>
        </p:nvGraphicFramePr>
        <p:xfrm>
          <a:off x="2647800" y="5181480"/>
          <a:ext cx="4003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6"/>
          <p:cNvGraphicFramePr/>
          <p:nvPr/>
        </p:nvGraphicFramePr>
        <p:xfrm>
          <a:off x="3638520" y="3048120"/>
          <a:ext cx="55260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8520" y="304812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7"/>
          <p:cNvGraphicFramePr/>
          <p:nvPr/>
        </p:nvGraphicFramePr>
        <p:xfrm>
          <a:off x="3714840" y="6097680"/>
          <a:ext cx="4762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4840" y="609768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8"/>
          <p:cNvGraphicFramePr/>
          <p:nvPr/>
        </p:nvGraphicFramePr>
        <p:xfrm>
          <a:off x="5543640" y="50292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292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9"/>
          <p:cNvGraphicFramePr/>
          <p:nvPr/>
        </p:nvGraphicFramePr>
        <p:xfrm>
          <a:off x="3333600" y="5257800"/>
          <a:ext cx="40032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5257800"/>
                    <a:ext cx="400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0"/>
          <p:cNvGraphicFramePr/>
          <p:nvPr/>
        </p:nvGraphicFramePr>
        <p:xfrm>
          <a:off x="1962000" y="5181480"/>
          <a:ext cx="400320" cy="39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2000" y="5181480"/>
                    <a:ext cx="400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21"/>
          <p:cNvGraphicFramePr/>
          <p:nvPr/>
        </p:nvGraphicFramePr>
        <p:xfrm>
          <a:off x="5848200" y="6097680"/>
          <a:ext cx="40032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48200" y="6097680"/>
                    <a:ext cx="400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2"/>
          <p:cNvGraphicFramePr/>
          <p:nvPr/>
        </p:nvGraphicFramePr>
        <p:xfrm>
          <a:off x="2876400" y="3124080"/>
          <a:ext cx="54324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76400" y="3124080"/>
                    <a:ext cx="543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3"/>
          <p:cNvGraphicFramePr/>
          <p:nvPr/>
        </p:nvGraphicFramePr>
        <p:xfrm>
          <a:off x="4629240" y="2971800"/>
          <a:ext cx="55224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9240" y="29718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AutoShape 24"/>
          <p:cNvSpPr/>
          <p:nvPr/>
        </p:nvSpPr>
        <p:spPr>
          <a:xfrm rot="1020000">
            <a:off x="3735000" y="794880"/>
            <a:ext cx="933480" cy="1435320"/>
          </a:xfrm>
          <a:prstGeom prst="upArrow">
            <a:avLst>
              <a:gd name="adj1" fmla="val 75009"/>
              <a:gd name="adj2" fmla="val 76873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Object 25"/>
          <p:cNvGraphicFramePr/>
          <p:nvPr/>
        </p:nvGraphicFramePr>
        <p:xfrm>
          <a:off x="3581280" y="1776240"/>
          <a:ext cx="828720" cy="81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1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81280" y="1776240"/>
                    <a:ext cx="8287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26"/>
          <p:cNvGraphicFramePr/>
          <p:nvPr/>
        </p:nvGraphicFramePr>
        <p:xfrm>
          <a:off x="4648320" y="5292720"/>
          <a:ext cx="40464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3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5292720"/>
                    <a:ext cx="404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rot="17820000">
            <a:off x="-315360" y="3299760"/>
            <a:ext cx="6260760" cy="485640"/>
          </a:xfrm>
          <a:prstGeom prst="rightArrow">
            <a:avLst>
              <a:gd name="adj1" fmla="val 75009"/>
              <a:gd name="adj2" fmla="val 64464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3"/>
          <p:cNvSpPr/>
          <p:nvPr/>
        </p:nvSpPr>
        <p:spPr>
          <a:xfrm rot="3720000">
            <a:off x="3270240" y="3281040"/>
            <a:ext cx="6360840" cy="586080"/>
          </a:xfrm>
          <a:prstGeom prst="leftArrow">
            <a:avLst>
              <a:gd name="adj1" fmla="val 75009"/>
              <a:gd name="adj2" fmla="val 542609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197240" y="82440"/>
            <a:ext cx="749520" cy="673200"/>
          </a:xfrm>
          <a:custGeom>
            <a:avLst/>
            <a:gdLst>
              <a:gd name="textAreaLeft" fmla="*/ 171000 w 749520"/>
              <a:gd name="textAreaRight" fmla="*/ 578520 w 749520"/>
              <a:gd name="textAreaTop" fmla="*/ 153720 h 673200"/>
              <a:gd name="textAreaBottom" fmla="*/ 519480 h 6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7" name="Object 5"/>
          <p:cNvGraphicFramePr/>
          <p:nvPr/>
        </p:nvGraphicFramePr>
        <p:xfrm>
          <a:off x="4400640" y="5486400"/>
          <a:ext cx="39996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010120" y="5486400"/>
          <a:ext cx="39996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5695920" y="5486400"/>
          <a:ext cx="39996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59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8"/>
          <p:cNvGraphicFramePr/>
          <p:nvPr/>
        </p:nvGraphicFramePr>
        <p:xfrm>
          <a:off x="6381720" y="5486400"/>
          <a:ext cx="3999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172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9"/>
          <p:cNvGraphicFramePr/>
          <p:nvPr/>
        </p:nvGraphicFramePr>
        <p:xfrm>
          <a:off x="3714840" y="5486400"/>
          <a:ext cx="399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48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0"/>
          <p:cNvGraphicFramePr/>
          <p:nvPr/>
        </p:nvGraphicFramePr>
        <p:xfrm>
          <a:off x="3029040" y="5486400"/>
          <a:ext cx="39996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9040" y="5486400"/>
                    <a:ext cx="399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1"/>
          <p:cNvGraphicFramePr/>
          <p:nvPr/>
        </p:nvGraphicFramePr>
        <p:xfrm>
          <a:off x="2343240" y="5487840"/>
          <a:ext cx="39996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3240" y="5487840"/>
                    <a:ext cx="3999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12"/>
          <p:cNvSpPr/>
          <p:nvPr/>
        </p:nvSpPr>
        <p:spPr>
          <a:xfrm flipH="1">
            <a:off x="3809520" y="2057400"/>
            <a:ext cx="7621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4572000" y="2057400"/>
            <a:ext cx="6858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4"/>
          <p:cNvSpPr/>
          <p:nvPr/>
        </p:nvSpPr>
        <p:spPr>
          <a:xfrm>
            <a:off x="4572000" y="3733920"/>
            <a:ext cx="5335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3962160" y="3733920"/>
            <a:ext cx="6094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4572000" y="3733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7"/>
          <p:cNvSpPr/>
          <p:nvPr/>
        </p:nvSpPr>
        <p:spPr>
          <a:xfrm flipH="1">
            <a:off x="2666880" y="373392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18"/>
          <p:cNvSpPr/>
          <p:nvPr/>
        </p:nvSpPr>
        <p:spPr>
          <a:xfrm>
            <a:off x="5334120" y="3733920"/>
            <a:ext cx="4572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19"/>
          <p:cNvSpPr/>
          <p:nvPr/>
        </p:nvSpPr>
        <p:spPr>
          <a:xfrm>
            <a:off x="5334120" y="3733920"/>
            <a:ext cx="114300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20"/>
          <p:cNvSpPr/>
          <p:nvPr/>
        </p:nvSpPr>
        <p:spPr>
          <a:xfrm flipH="1">
            <a:off x="3276720" y="3733920"/>
            <a:ext cx="38088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0" name="Object 21"/>
          <p:cNvGraphicFramePr/>
          <p:nvPr/>
        </p:nvGraphicFramePr>
        <p:xfrm>
          <a:off x="3409920" y="3429000"/>
          <a:ext cx="54288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09920" y="3429000"/>
                    <a:ext cx="542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2"/>
          <p:cNvGraphicFramePr/>
          <p:nvPr/>
        </p:nvGraphicFramePr>
        <p:xfrm>
          <a:off x="4324320" y="3429000"/>
          <a:ext cx="55260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4320" y="3429000"/>
                    <a:ext cx="552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3"/>
          <p:cNvGraphicFramePr/>
          <p:nvPr/>
        </p:nvGraphicFramePr>
        <p:xfrm>
          <a:off x="5086440" y="3429000"/>
          <a:ext cx="552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5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6440" y="3429000"/>
                    <a:ext cx="552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AutoShape 24"/>
          <p:cNvSpPr/>
          <p:nvPr/>
        </p:nvSpPr>
        <p:spPr>
          <a:xfrm>
            <a:off x="1682640" y="844560"/>
            <a:ext cx="5778720" cy="57024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25"/>
          <p:cNvSpPr/>
          <p:nvPr/>
        </p:nvSpPr>
        <p:spPr>
          <a:xfrm flipV="1">
            <a:off x="2521080" y="2595960"/>
            <a:ext cx="4101840" cy="2273400"/>
          </a:xfrm>
          <a:prstGeom prst="pie">
            <a:avLst/>
          </a:pr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572000" y="762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572000" y="2057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0" name="Object 28"/>
          <p:cNvGraphicFramePr/>
          <p:nvPr/>
        </p:nvGraphicFramePr>
        <p:xfrm>
          <a:off x="4191120" y="1623960"/>
          <a:ext cx="828720" cy="814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1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91120" y="1623960"/>
                    <a:ext cx="828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деи для тактики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ин из наиболее популярных способов графического представления плана проекта и графика работ. Диаграмма представляет собой изображение задач в виде отрезков на шкале времени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аграмма Ганта позволяет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зуально оценить последовательность задач, их относительную длительность и протяженность проекта в це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внить планируемый и реальный ход выполнения зада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ально проанализировать реальный ход выполнения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лан-графике отображаются интервалы времени, в течение которых задача: выполнялась, была приостановлена, возвращалась на доработку и т.д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иагр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амма Гант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25440" y="2139840"/>
            <a:ext cx="63720" cy="3340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225440" y="5492880"/>
            <a:ext cx="654048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301760" y="21398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2444760" y="2444760"/>
            <a:ext cx="74916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206880" y="27496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3587760" y="3054240"/>
            <a:ext cx="18921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349880" y="3359160"/>
            <a:ext cx="1739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883040" y="3664080"/>
            <a:ext cx="288288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1"/>
          <p:cNvSpPr/>
          <p:nvPr/>
        </p:nvSpPr>
        <p:spPr>
          <a:xfrm>
            <a:off x="4425840" y="4273560"/>
            <a:ext cx="181620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6330960" y="4883040"/>
            <a:ext cx="52056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13"/>
          <p:cNvSpPr/>
          <p:nvPr/>
        </p:nvSpPr>
        <p:spPr>
          <a:xfrm>
            <a:off x="6864480" y="5187960"/>
            <a:ext cx="9014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5645160" y="3968640"/>
            <a:ext cx="1130400" cy="29232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5721480" y="4578480"/>
            <a:ext cx="1130040" cy="2919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920" y="1268280"/>
            <a:ext cx="659304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ин ветер не является попутным дл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абля, который не знает пункт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го назна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нек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324000" y="1197000"/>
          <a:ext cx="8076960" cy="54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07696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4"/>
          <p:cNvSpPr/>
          <p:nvPr/>
        </p:nvSpPr>
        <p:spPr>
          <a:xfrm>
            <a:off x="539604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ЗГЛЯД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РУКОВОДИТЕЛЯ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ПОДЧИНЕННЫХ НА ВЫПОЛНЯЕМЫЕ ЗАДАЧИ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673360" y="2666880"/>
            <a:ext cx="2179800" cy="2590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994280" y="182880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руководител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подчин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752840" y="198108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822680" y="556272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2673360" y="167652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673360" y="5257800"/>
            <a:ext cx="2179800" cy="10159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1752840" y="36576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4992480" y="5410080"/>
            <a:ext cx="347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ят подчиненные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идят руковод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4926240" y="3429000"/>
            <a:ext cx="398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взгляд на задач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мые персон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714840" y="5265720"/>
            <a:ext cx="2789280" cy="638280"/>
            <a:chOff x="3714840" y="5265720"/>
            <a:chExt cx="2789280" cy="638280"/>
          </a:xfrm>
        </p:grpSpPr>
        <p:sp>
          <p:nvSpPr>
            <p:cNvPr id="481" name="AutoShape 3"/>
            <p:cNvSpPr/>
            <p:nvPr/>
          </p:nvSpPr>
          <p:spPr>
            <a:xfrm>
              <a:off x="3714840" y="5265720"/>
              <a:ext cx="2789280" cy="638280"/>
            </a:xfrm>
            <a:custGeom>
              <a:avLst/>
              <a:gdLst>
                <a:gd name="textAreaLeft" fmla="*/ 507960 w 2789280"/>
                <a:gd name="textAreaRight" fmla="*/ 2281320 w 2789280"/>
                <a:gd name="textAreaTop" fmla="*/ 95040 h 638280"/>
                <a:gd name="textAreaBottom" fmla="*/ 54324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224"/>
                  </a:moveTo>
                  <a:lnTo>
                    <a:pt x="15991" y="3224"/>
                  </a:lnTo>
                  <a:lnTo>
                    <a:pt x="15991" y="0"/>
                  </a:lnTo>
                  <a:lnTo>
                    <a:pt x="21600" y="10800"/>
                  </a:lnTo>
                  <a:lnTo>
                    <a:pt x="15991" y="21600"/>
                  </a:lnTo>
                  <a:lnTo>
                    <a:pt x="15991" y="18376"/>
                  </a:lnTo>
                  <a:lnTo>
                    <a:pt x="0" y="18376"/>
                  </a:lnTo>
                  <a:lnTo>
                    <a:pt x="3935" y="10800"/>
                  </a:lnTo>
                  <a:lnTo>
                    <a:pt x="0" y="3224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46560" y="5288040"/>
              <a:ext cx="2163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елегирование полномоч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2960" y="304920"/>
            <a:ext cx="6389640" cy="13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итуационное лидерство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84" name="Picture 7" descr="atwrk008"/>
          <p:cNvPicPr/>
          <p:nvPr/>
        </p:nvPicPr>
        <p:blipFill>
          <a:blip r:embed="rId1"/>
          <a:stretch/>
        </p:blipFill>
        <p:spPr>
          <a:xfrm>
            <a:off x="1576440" y="1974960"/>
            <a:ext cx="1112760" cy="88560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8"/>
          <p:cNvGrpSpPr/>
          <p:nvPr/>
        </p:nvGrpSpPr>
        <p:grpSpPr>
          <a:xfrm>
            <a:off x="404640" y="3090960"/>
            <a:ext cx="3232080" cy="519120"/>
            <a:chOff x="404640" y="3090960"/>
            <a:chExt cx="3232080" cy="519120"/>
          </a:xfrm>
        </p:grpSpPr>
        <p:pic>
          <p:nvPicPr>
            <p:cNvPr id="486" name="Picture 9" descr="j0078740"/>
            <p:cNvPicPr/>
            <p:nvPr/>
          </p:nvPicPr>
          <p:blipFill>
            <a:blip r:embed="rId2"/>
            <a:stretch/>
          </p:blipFill>
          <p:spPr>
            <a:xfrm>
              <a:off x="1473480" y="3146760"/>
              <a:ext cx="288000" cy="42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 Box 10"/>
            <p:cNvSpPr/>
            <p:nvPr/>
          </p:nvSpPr>
          <p:spPr>
            <a:xfrm>
              <a:off x="998280" y="3211200"/>
              <a:ext cx="25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 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AutoShape 11"/>
            <p:cNvSpPr/>
            <p:nvPr/>
          </p:nvSpPr>
          <p:spPr>
            <a:xfrm>
              <a:off x="404640" y="3090960"/>
              <a:ext cx="3232080" cy="5122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89" name="Group 12"/>
          <p:cNvGrpSpPr/>
          <p:nvPr/>
        </p:nvGrpSpPr>
        <p:grpSpPr>
          <a:xfrm>
            <a:off x="388800" y="3722760"/>
            <a:ext cx="3206520" cy="668160"/>
            <a:chOff x="388800" y="3722760"/>
            <a:chExt cx="3206520" cy="668160"/>
          </a:xfrm>
        </p:grpSpPr>
        <p:pic>
          <p:nvPicPr>
            <p:cNvPr id="490" name="Picture 13" descr="j0078744"/>
            <p:cNvPicPr/>
            <p:nvPr/>
          </p:nvPicPr>
          <p:blipFill>
            <a:blip r:embed="rId3"/>
            <a:stretch/>
          </p:blipFill>
          <p:spPr>
            <a:xfrm>
              <a:off x="436320" y="3779640"/>
              <a:ext cx="57168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14"/>
            <p:cNvSpPr/>
            <p:nvPr/>
          </p:nvSpPr>
          <p:spPr>
            <a:xfrm>
              <a:off x="1093680" y="385128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очет - не может 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AutoShape 15"/>
            <p:cNvSpPr/>
            <p:nvPr/>
          </p:nvSpPr>
          <p:spPr>
            <a:xfrm>
              <a:off x="388800" y="372276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3" name="Group 16"/>
          <p:cNvGrpSpPr/>
          <p:nvPr/>
        </p:nvGrpSpPr>
        <p:grpSpPr>
          <a:xfrm>
            <a:off x="388800" y="4471920"/>
            <a:ext cx="3206520" cy="668160"/>
            <a:chOff x="388800" y="4471920"/>
            <a:chExt cx="3206520" cy="668160"/>
          </a:xfrm>
        </p:grpSpPr>
        <p:pic>
          <p:nvPicPr>
            <p:cNvPr id="494" name="Picture 17" descr="j0288982"/>
            <p:cNvPicPr/>
            <p:nvPr/>
          </p:nvPicPr>
          <p:blipFill>
            <a:blip r:embed="rId4"/>
            <a:stretch/>
          </p:blipFill>
          <p:spPr>
            <a:xfrm>
              <a:off x="450720" y="4582800"/>
              <a:ext cx="699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Text Box 18"/>
            <p:cNvSpPr/>
            <p:nvPr/>
          </p:nvSpPr>
          <p:spPr>
            <a:xfrm>
              <a:off x="1270800" y="463068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не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AutoShape 19"/>
            <p:cNvSpPr/>
            <p:nvPr/>
          </p:nvSpPr>
          <p:spPr>
            <a:xfrm>
              <a:off x="388800" y="4471920"/>
              <a:ext cx="320652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7" name="Group 20"/>
          <p:cNvGrpSpPr/>
          <p:nvPr/>
        </p:nvGrpSpPr>
        <p:grpSpPr>
          <a:xfrm>
            <a:off x="388800" y="5221440"/>
            <a:ext cx="3206880" cy="668160"/>
            <a:chOff x="388800" y="5221440"/>
            <a:chExt cx="3206880" cy="668160"/>
          </a:xfrm>
        </p:grpSpPr>
        <p:pic>
          <p:nvPicPr>
            <p:cNvPr id="498" name="Picture 21" descr="j0078748"/>
            <p:cNvPicPr/>
            <p:nvPr/>
          </p:nvPicPr>
          <p:blipFill>
            <a:blip r:embed="rId5"/>
            <a:stretch/>
          </p:blipFill>
          <p:spPr>
            <a:xfrm>
              <a:off x="568440" y="5248440"/>
              <a:ext cx="371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22"/>
            <p:cNvSpPr/>
            <p:nvPr/>
          </p:nvSpPr>
          <p:spPr>
            <a:xfrm>
              <a:off x="1267920" y="536400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жет - и хочет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AutoShape 23"/>
            <p:cNvSpPr/>
            <p:nvPr/>
          </p:nvSpPr>
          <p:spPr>
            <a:xfrm>
              <a:off x="388800" y="5221440"/>
              <a:ext cx="3206880" cy="668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1" name="Group 24"/>
          <p:cNvGrpSpPr/>
          <p:nvPr/>
        </p:nvGrpSpPr>
        <p:grpSpPr>
          <a:xfrm>
            <a:off x="3713040" y="3019320"/>
            <a:ext cx="2819520" cy="593640"/>
            <a:chOff x="3713040" y="3019320"/>
            <a:chExt cx="2819520" cy="593640"/>
          </a:xfrm>
        </p:grpSpPr>
        <p:sp>
          <p:nvSpPr>
            <p:cNvPr id="502" name="AutoShape 25"/>
            <p:cNvSpPr/>
            <p:nvPr/>
          </p:nvSpPr>
          <p:spPr>
            <a:xfrm>
              <a:off x="3713040" y="3019320"/>
              <a:ext cx="2789280" cy="5936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320 h 593640"/>
                <a:gd name="textAreaBottom" fmla="*/ 4453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Text Box 26"/>
            <p:cNvSpPr/>
            <p:nvPr/>
          </p:nvSpPr>
          <p:spPr>
            <a:xfrm>
              <a:off x="4005000" y="3112920"/>
              <a:ext cx="252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нструктир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27"/>
          <p:cNvGrpSpPr/>
          <p:nvPr/>
        </p:nvGrpSpPr>
        <p:grpSpPr>
          <a:xfrm>
            <a:off x="3714840" y="3787920"/>
            <a:ext cx="2789280" cy="595080"/>
            <a:chOff x="3714840" y="3787920"/>
            <a:chExt cx="2789280" cy="595080"/>
          </a:xfrm>
        </p:grpSpPr>
        <p:sp>
          <p:nvSpPr>
            <p:cNvPr id="505" name="AutoShape 28"/>
            <p:cNvSpPr/>
            <p:nvPr/>
          </p:nvSpPr>
          <p:spPr>
            <a:xfrm>
              <a:off x="3714840" y="3787920"/>
              <a:ext cx="2789280" cy="59508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080"/>
                <a:gd name="textAreaBottom" fmla="*/ 44640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2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Text Box 29"/>
            <p:cNvSpPr/>
            <p:nvPr/>
          </p:nvSpPr>
          <p:spPr>
            <a:xfrm>
              <a:off x="4090680" y="3881520"/>
              <a:ext cx="222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аставничеств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7" name="Group 30"/>
          <p:cNvGrpSpPr/>
          <p:nvPr/>
        </p:nvGrpSpPr>
        <p:grpSpPr>
          <a:xfrm>
            <a:off x="3714840" y="4584600"/>
            <a:ext cx="2789280" cy="595440"/>
            <a:chOff x="3714840" y="4584600"/>
            <a:chExt cx="2789280" cy="595440"/>
          </a:xfrm>
        </p:grpSpPr>
        <p:sp>
          <p:nvSpPr>
            <p:cNvPr id="508" name="AutoShape 31"/>
            <p:cNvSpPr/>
            <p:nvPr/>
          </p:nvSpPr>
          <p:spPr>
            <a:xfrm>
              <a:off x="3714840" y="4584600"/>
              <a:ext cx="2789280" cy="595440"/>
            </a:xfrm>
            <a:custGeom>
              <a:avLst/>
              <a:gdLst>
                <a:gd name="textAreaLeft" fmla="*/ 348480 w 2789280"/>
                <a:gd name="textAreaRight" fmla="*/ 2440800 w 2789280"/>
                <a:gd name="textAreaTop" fmla="*/ 148680 h 595440"/>
                <a:gd name="textAreaBottom" fmla="*/ 44676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Text Box 32"/>
            <p:cNvSpPr/>
            <p:nvPr/>
          </p:nvSpPr>
          <p:spPr>
            <a:xfrm>
              <a:off x="4199760" y="469260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мотив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0" name="WordArt 33"/>
          <p:cNvSpPr txBox="1"/>
          <p:nvPr/>
        </p:nvSpPr>
        <p:spPr>
          <a:xfrm>
            <a:off x="6700680" y="5149800"/>
            <a:ext cx="1865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зульта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11" name="Picture 34" descr="perform"/>
          <p:cNvPicPr/>
          <p:nvPr/>
        </p:nvPicPr>
        <p:blipFill>
          <a:blip r:embed="rId6"/>
          <a:stretch/>
        </p:blipFill>
        <p:spPr>
          <a:xfrm>
            <a:off x="6678720" y="3003480"/>
            <a:ext cx="19875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111320" y="4556160"/>
            <a:ext cx="3708360" cy="449640"/>
            <a:chOff x="1111320" y="4556160"/>
            <a:chExt cx="3708360" cy="449640"/>
          </a:xfrm>
        </p:grpSpPr>
        <p:sp>
          <p:nvSpPr>
            <p:cNvPr id="513" name="AutoShape 3"/>
            <p:cNvSpPr/>
            <p:nvPr/>
          </p:nvSpPr>
          <p:spPr>
            <a:xfrm>
              <a:off x="1111320" y="45561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b7b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4"/>
            <p:cNvSpPr/>
            <p:nvPr/>
          </p:nvSpPr>
          <p:spPr>
            <a:xfrm>
              <a:off x="1302840" y="4606920"/>
              <a:ext cx="35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682308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Роль эмоционального интеллекта </a:t>
            </a:r>
            <a:br>
              <a:rPr sz="2000"/>
            </a:br>
            <a:r>
              <a:rPr b="1" lang="ru-RU" sz="2000" spc="-1" strike="noStrike">
                <a:solidFill>
                  <a:srgbClr val="196666"/>
                </a:solidFill>
                <a:latin typeface="Arial"/>
              </a:rPr>
              <a:t> для менеджеров высшего звена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3549600" y="611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1835280" y="1773360"/>
            <a:ext cx="6352560" cy="2106000"/>
            <a:chOff x="1835280" y="1773360"/>
            <a:chExt cx="6352560" cy="2106000"/>
          </a:xfrm>
        </p:grpSpPr>
        <p:sp>
          <p:nvSpPr>
            <p:cNvPr id="518" name="Rectangle 8"/>
            <p:cNvSpPr/>
            <p:nvPr/>
          </p:nvSpPr>
          <p:spPr>
            <a:xfrm>
              <a:off x="4636800" y="1865880"/>
              <a:ext cx="31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ллект (IQ) 1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9" name="Object 9"/>
            <p:cNvGraphicFramePr/>
            <p:nvPr/>
          </p:nvGraphicFramePr>
          <p:xfrm>
            <a:off x="1835280" y="1773360"/>
            <a:ext cx="3438720" cy="210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1773360"/>
                      <a:ext cx="3438720" cy="21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1" name="Text Box 10"/>
            <p:cNvSpPr/>
            <p:nvPr/>
          </p:nvSpPr>
          <p:spPr>
            <a:xfrm>
              <a:off x="3639240" y="3359160"/>
              <a:ext cx="224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Rectangle 11"/>
            <p:cNvSpPr/>
            <p:nvPr/>
          </p:nvSpPr>
          <p:spPr>
            <a:xfrm>
              <a:off x="4652640" y="2763360"/>
              <a:ext cx="353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 компетентность (EQ) 85%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Line 12"/>
            <p:cNvSpPr/>
            <p:nvPr/>
          </p:nvSpPr>
          <p:spPr>
            <a:xfrm>
              <a:off x="3329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Line 13"/>
            <p:cNvSpPr/>
            <p:nvPr/>
          </p:nvSpPr>
          <p:spPr>
            <a:xfrm>
              <a:off x="3302280" y="244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3277080" y="2297520"/>
              <a:ext cx="3672720" cy="14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3160080" y="3378240"/>
              <a:ext cx="4370400" cy="10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7" name="Rectangle 16"/>
          <p:cNvSpPr/>
          <p:nvPr/>
        </p:nvSpPr>
        <p:spPr>
          <a:xfrm>
            <a:off x="2604600" y="393696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Эмоциональная компетен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8" name="Group 17"/>
          <p:cNvGrpSpPr/>
          <p:nvPr/>
        </p:nvGrpSpPr>
        <p:grpSpPr>
          <a:xfrm>
            <a:off x="4878360" y="4543560"/>
            <a:ext cx="3778560" cy="449640"/>
            <a:chOff x="4878360" y="4543560"/>
            <a:chExt cx="3778560" cy="449640"/>
          </a:xfrm>
        </p:grpSpPr>
        <p:sp>
          <p:nvSpPr>
            <p:cNvPr id="529" name="AutoShape 18"/>
            <p:cNvSpPr/>
            <p:nvPr/>
          </p:nvSpPr>
          <p:spPr>
            <a:xfrm>
              <a:off x="4878360" y="4543560"/>
              <a:ext cx="3627360" cy="441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0" name="Text Box 19"/>
            <p:cNvSpPr/>
            <p:nvPr/>
          </p:nvSpPr>
          <p:spPr>
            <a:xfrm>
              <a:off x="5071680" y="4594320"/>
              <a:ext cx="358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ая компетент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792000" y="5013360"/>
            <a:ext cx="4189680" cy="1205280"/>
            <a:chOff x="792000" y="5013360"/>
            <a:chExt cx="4189680" cy="1205280"/>
          </a:xfrm>
        </p:grpSpPr>
        <p:sp>
          <p:nvSpPr>
            <p:cNvPr id="532" name="Text Box 21"/>
            <p:cNvSpPr/>
            <p:nvPr/>
          </p:nvSpPr>
          <p:spPr>
            <a:xfrm>
              <a:off x="792000" y="5272200"/>
              <a:ext cx="4189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ознание самого себ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собность управлять соб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интересованнос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чувств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3" name="Line 22"/>
            <p:cNvSpPr/>
            <p:nvPr/>
          </p:nvSpPr>
          <p:spPr>
            <a:xfrm>
              <a:off x="2697120" y="501336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4" name="Group 23"/>
          <p:cNvGrpSpPr/>
          <p:nvPr/>
        </p:nvGrpSpPr>
        <p:grpSpPr>
          <a:xfrm>
            <a:off x="4605480" y="4984920"/>
            <a:ext cx="3670200" cy="1204920"/>
            <a:chOff x="4605480" y="4984920"/>
            <a:chExt cx="3670200" cy="1204920"/>
          </a:xfrm>
        </p:grpSpPr>
        <p:sp>
          <p:nvSpPr>
            <p:cNvPr id="535" name="Text Box 24"/>
            <p:cNvSpPr/>
            <p:nvPr/>
          </p:nvSpPr>
          <p:spPr>
            <a:xfrm>
              <a:off x="4605480" y="5243400"/>
              <a:ext cx="3670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становления контакт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наблюдения за языком тел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активного слуш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выки убеж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Line 25"/>
            <p:cNvSpPr/>
            <p:nvPr/>
          </p:nvSpPr>
          <p:spPr>
            <a:xfrm>
              <a:off x="6510240" y="49849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7" name="Line 26"/>
          <p:cNvSpPr/>
          <p:nvPr/>
        </p:nvSpPr>
        <p:spPr>
          <a:xfrm flipH="1">
            <a:off x="2912760" y="4284720"/>
            <a:ext cx="1935000" cy="3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27"/>
          <p:cNvSpPr/>
          <p:nvPr/>
        </p:nvSpPr>
        <p:spPr>
          <a:xfrm>
            <a:off x="4844880" y="4284720"/>
            <a:ext cx="1697040" cy="306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357120" y="1905120"/>
            <a:ext cx="82868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«Мужество зачастую нужно руководителю и для того, чтобы признать достижения подчиненного, «наступающего ему на пятки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196666"/>
                </a:solidFill>
                <a:latin typeface="Verdana"/>
              </a:rPr>
              <a:t>Или признать, что ему не удалось выстроить свои отношения с сильным подчиненны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6565"/>
                </a:solidFill>
                <a:latin typeface="Verdana"/>
              </a:rPr>
              <a:t>Питер Друк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овременные теории организации, рассматривающие проблему УР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2266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«Формирование жизнеспособной структуры» («Структура -5», 1993 г. Генри Минцберг, Канад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организационного потенциала (1970 г. Игорь Ансофф, А. Чандлер -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ория институтов и институциональных изменений (конец 1980 – начало 1990-х г.г - Дуглас Норт, СШ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сурсная теория (теория постоянного поиска и создания конкурентных преимуществ)  -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. Вернефельт, Д.Аакер, П.Шумахер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правленческое решение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продукт управленческого труда, а его принятие—процесс, ведущий к появлению этого продукт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о форма, в которой осуществляется управляющее воздействие субъекта управления на объект управле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этому качество управленческих решений является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критерием эффективности менедж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Если Вы хотите получить посредственные результаты, то установите посредственные цели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”</a:t>
            </a:r>
            <a:br>
              <a:rPr sz="2400"/>
            </a:br>
            <a:br>
              <a:rPr sz="3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А. Томпсон, А.ДЖ. Стрикленд 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Стратегический менеджмент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2467080" y="3886200"/>
            <a:ext cx="1317600" cy="2755800"/>
          </a:xfrm>
          <a:prstGeom prst="rect">
            <a:avLst/>
          </a:prstGeom>
          <a:ln w="0">
            <a:noFill/>
          </a:ln>
        </p:spPr>
      </p:pic>
      <p:sp>
        <p:nvSpPr>
          <p:cNvPr id="203" name="Freeform 4"/>
          <p:cNvSpPr/>
          <p:nvPr/>
        </p:nvSpPr>
        <p:spPr>
          <a:xfrm>
            <a:off x="5219640" y="2781360"/>
            <a:ext cx="3657600" cy="3733920"/>
          </a:xfrm>
          <a:prstGeom prst="pie">
            <a:avLst/>
          </a:prstGeom>
          <a:solidFill>
            <a:srgbClr val="82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5"/>
          <p:cNvSpPr/>
          <p:nvPr/>
        </p:nvSpPr>
        <p:spPr>
          <a:xfrm>
            <a:off x="5249880" y="3413160"/>
            <a:ext cx="3124080" cy="2271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нятие ре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900" spc="-1" strike="noStrike">
                <a:solidFill>
                  <a:srgbClr val="3c6565"/>
                </a:solidFill>
                <a:latin typeface="Verdana"/>
              </a:rPr>
              <a:t>это сознательный выбор из имеющихся вариантов направления действий, позволяющий достичь существующую цел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07:52Z</dcterms:modified>
  <cp:revision>40</cp:revision>
  <dc:subject/>
  <dc:title>Слайд 1</dc:title>
</cp:coreProperties>
</file>