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05AC-AEB1-4BAC-8CEA-E2684AE0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C993-EDDE-4A26-954F-1C061E41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5964-155F-46AD-8D04-222C59B8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3DCE-8023-4248-9B21-5264EAD5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781F-9402-4FFC-AF93-93D31BA7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52EC-5D92-4A6D-B7F1-C3AA3731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9C0B-672A-4B75-A5F5-FDCF98B1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4BB1-AE98-4A3A-A9B2-01722093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637C-2A47-4B14-8430-5EC96559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C89F-E5E3-4053-B502-0D5132B4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A0A4-8768-43F1-9A61-553E31ED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6FA5-8AE8-4CB6-A607-BA27345C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4DEE-19D3-409B-AF52-023C351A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1BCB-D5AE-4F08-929D-2B0170A5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6E76-9B0E-4275-B559-09515738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BF76-9EAE-48A8-9BE3-D7AF870A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9EC4-E316-4467-8E5B-0E3859A1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464B-EA91-46CA-A5EE-ED696022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FF52-2A76-452C-83F4-C70185D6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CA6D-A6BE-4FD1-83DB-5DB967D7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0A7A-55A2-43BB-B544-AFEF31C3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58EA-6F26-48CF-986F-D85FDC01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4365-3B86-4403-9179-14D4B9FD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9B14-A376-4716-AED5-9FFDA201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C510-98F3-42A4-923B-E92F73298E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4A55-9281-4F64-97F2-FCE9166540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Разработка управленческого реше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16000" y="3500280"/>
            <a:ext cx="584676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Book Antiqua"/>
              </a:rPr>
              <a:t>Тема </a:t>
            </a:r>
            <a:r>
              <a:rPr b="0" lang="en-US" sz="34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0" lang="ru-RU" sz="3400" spc="-1" strike="noStrike">
                <a:solidFill>
                  <a:srgbClr val="000000"/>
                </a:solidFill>
                <a:latin typeface="Book Antiqua"/>
              </a:rPr>
              <a:t>. Популярные модели принятия управленческих решени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38648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истемный подход обеспечивается целостностью системы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Целостность системы и ее "отделенность" от окружающего мира обусловлены тем, что взаимосвязи внутри системы существенно сильнее, чем связь какого-либо ее элемента с любым элементом, лежащим все системы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Модель инкрементального процесса принятия решений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2000" y="1628640"/>
            <a:ext cx="706752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снователи – Генри Минцберг и его коллеги (Университет МакГилла в Монреале, Канад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 курса теория организаци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Формирование жизнеспособной структуры»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(«Структура -5», Генри Минцберг, Канада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в книге «Структура в кулаке: создание эффективной организации», которая была издана в 1983 год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еория организационного дизайна в среде теоретиков и практиков, занимающихся проектированием организаций, получила краткое название «структура – 5». 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юбая организованная человеческая деятельность выдвигает два фундаментальных, но противоположных требования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деление труда на отдельные задачи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координация действий по выполнению этих задач в единую деятельность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уктура организации, по Г.Минцбергу, определяется как простая совокупность способов, посредством которых процесс труда сначала разделяется на отдельные рабочие задачи, а затем достигается координация действий по решению задач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ять координационных механизмов раскрывают способы, посредством которых организации координируют свою деятельность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  взаимное согласование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 прямой контроль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 стандартизация рабочих процессов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. стандартизация выпуска 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. стандартизация навыков и зна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взаимном согласовании контроль над процессом труда осуществляется самими работникам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прямом контроле ответственность за работу других людей, определение заданий для них и наблюдение за их действиями возлагается на одного человек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Модель инкрементального процесса принятия решений </a:t>
            </a:r>
            <a:r>
              <a:rPr b="1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(ППР)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Arial"/>
              </a:rPr>
              <a:t>(продолжение)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6920" y="1827000"/>
            <a:ext cx="74962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Сущность метода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нимание акцентируется не на политических и социальных факторах, а на структурной последовательности действий па протяжении всего процесса: с момента обнаружения проблемы –и до момента её решен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Главный выбор складывается из серии мелких выборов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ППР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может натолкнуться на барьеры, и тогда возможно </a:t>
            </a:r>
            <a:r>
              <a:rPr b="0" i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временное прерывание решения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 (пауза)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термин Г. Минцберга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огда эта пауза необходим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735156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ущность метода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инкрементального процесса принятия решений </a:t>
            </a:r>
            <a:r>
              <a:rPr b="1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(ППР)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Arial"/>
              </a:rPr>
              <a:t>(продолжение)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ППР – динамический процесс, с паузами и остановками, но идущий вперед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ППР может идти по нарастающе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ППР проходит множество циклов, пока проблема не будет решен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едостатки методов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кспертного опроса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, модели Карнеги и метода </a:t>
            </a:r>
            <a:r>
              <a:rPr b="0" lang="ru-RU" sz="3000" spc="-1" strike="noStrike">
                <a:solidFill>
                  <a:srgbClr val="006666"/>
                </a:solidFill>
                <a:latin typeface="Arial"/>
              </a:rPr>
              <a:t>инкрементального принятия решений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Фокусируются на конкретной одной проблеме (или двух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е могут одновременно просчитывать десятки решений для многих пробле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рудоемк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зультат часто отдален во временном промежутк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Модель мусорного ящи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Авторы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Майкл Коэн, Джон Олсен,  Джеймс Марч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вспомним: «Теория административного поведения» Д. Марч, Г. Саймон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Повторени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Главные идеи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Теории административного поведения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ем точнее обозначена цель, тем рациональнее поведение в организац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Цели определяются ценностными предпосылками организац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нструирование цепочек «СРЕДСТВА – ЦЕЛИ», где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средств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выбираются руководством посредством принятия реш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веден термин «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организационное повед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642600"/>
            <a:ext cx="7313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c6565"/>
                </a:solidFill>
                <a:latin typeface="Verdana"/>
              </a:rPr>
              <a:t>Модель мусорного ящика опирается на четыре понятия, которые являются своеобразными "атомами" процесса. 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блем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Проблемы — это моменты неудовлетворенности текущей деятельностью и выполнением работы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лагаемые реш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Решение — чья-либо идея, предложение. Такие идеи составляют составляют своеобразные поток альтернативных решений, текущий через организацию.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685008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А также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47640" y="1916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 Участники принятия решения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астники принятия решения — это служащие, которые пришли в организацию и проходят сквозь нее. Люди нанимаются на работу, меняют должности и увольняются. Участники значительно расходятся в своих идеях, восприятии проблему опыте, оценках и образовании. </a:t>
            </a: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4.    Благоприятные возможности для выбора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шения связываются с соответствующими проблемами и участниками — таким образом, делается удачный выбор. Разумеется, не все проблемы решаются, когда делается выбор, но организация движется по направлению снижения числа пробл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6666"/>
                </a:solidFill>
                <a:latin typeface="Book Antiqua"/>
              </a:rPr>
              <a:t>Модель Карнеги</a:t>
            </a: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нователи</a:t>
            </a:r>
            <a:r>
              <a:rPr b="1" lang="ru-RU" sz="2200" spc="-1" strike="noStrike">
                <a:solidFill>
                  <a:srgbClr val="000000"/>
                </a:solidFill>
                <a:latin typeface="Book Antiqua"/>
              </a:rPr>
              <a:t> – Г. Саймон, Джеймс Марч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дход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ограниченно-рациональны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ущност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шения будут эффективны, если они будут приниматься не одним менеджером, а группой (альянсом) менеджер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уппы необходимы, т.к.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ждый из руководителей подразделений хочет быть рациональным, но имеет ограниченную информацию. Больше  информации – больше вариан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 решения будут поддержаны всеми сторонами, а значит, приняты во всех подразделения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одель мусорного ящика (продолжение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ущность метода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та модель имеет дело с системой и потоком проблем внутри организац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та модель рассматривает все внутренние процессы одновременно и решает все проблемы взаимосвязано с изменениями внешней сред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Условия для реализации метод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. Коммуникационные связи должны быть налажены на оптимальный режим функционирова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. Ответственность  участников на всех этапах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Модель мусорного ящика (продолжение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51280" y="1916280"/>
            <a:ext cx="2736720" cy="1871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1979640" y="4076640"/>
            <a:ext cx="2736720" cy="1513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5580000" y="4149720"/>
            <a:ext cx="2808360" cy="1584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3851280" y="2637000"/>
            <a:ext cx="136836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5292720" y="2637000"/>
            <a:ext cx="129528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13"/>
          <p:cNvSpPr/>
          <p:nvPr/>
        </p:nvSpPr>
        <p:spPr>
          <a:xfrm>
            <a:off x="4643280" y="2060640"/>
            <a:ext cx="1440000" cy="71892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14"/>
          <p:cNvSpPr/>
          <p:nvPr/>
        </p:nvSpPr>
        <p:spPr>
          <a:xfrm rot="10503000">
            <a:off x="4716000" y="2852280"/>
            <a:ext cx="1224000" cy="64764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6832080" y="206064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ерхн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ровен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18"/>
          <p:cNvSpPr/>
          <p:nvPr/>
        </p:nvSpPr>
        <p:spPr>
          <a:xfrm flipV="1">
            <a:off x="2556000" y="2997360"/>
            <a:ext cx="1224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19"/>
          <p:cNvSpPr/>
          <p:nvPr/>
        </p:nvSpPr>
        <p:spPr>
          <a:xfrm flipH="1">
            <a:off x="2916000" y="3284640"/>
            <a:ext cx="9349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20"/>
          <p:cNvSpPr/>
          <p:nvPr/>
        </p:nvSpPr>
        <p:spPr>
          <a:xfrm>
            <a:off x="4716360" y="4941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21"/>
          <p:cNvSpPr/>
          <p:nvPr/>
        </p:nvSpPr>
        <p:spPr>
          <a:xfrm flipH="1">
            <a:off x="4716000" y="5157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22"/>
          <p:cNvSpPr/>
          <p:nvPr/>
        </p:nvSpPr>
        <p:spPr>
          <a:xfrm>
            <a:off x="6588000" y="2997360"/>
            <a:ext cx="1224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23"/>
          <p:cNvSpPr/>
          <p:nvPr/>
        </p:nvSpPr>
        <p:spPr>
          <a:xfrm flipH="1" flipV="1">
            <a:off x="6587640" y="2708280"/>
            <a:ext cx="158436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24"/>
          <p:cNvSpPr/>
          <p:nvPr/>
        </p:nvSpPr>
        <p:spPr>
          <a:xfrm>
            <a:off x="2700360" y="4076640"/>
            <a:ext cx="1440000" cy="71928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25"/>
          <p:cNvSpPr/>
          <p:nvPr/>
        </p:nvSpPr>
        <p:spPr>
          <a:xfrm>
            <a:off x="6227640" y="4149720"/>
            <a:ext cx="1440000" cy="71928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AutoShape 26"/>
          <p:cNvSpPr/>
          <p:nvPr/>
        </p:nvSpPr>
        <p:spPr>
          <a:xfrm rot="10503000">
            <a:off x="2771280" y="4869000"/>
            <a:ext cx="1224000" cy="72072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27"/>
          <p:cNvSpPr/>
          <p:nvPr/>
        </p:nvSpPr>
        <p:spPr>
          <a:xfrm rot="10503000">
            <a:off x="6443280" y="5013000"/>
            <a:ext cx="1224000" cy="647640"/>
          </a:xfrm>
          <a:prstGeom prst="pi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28"/>
          <p:cNvSpPr/>
          <p:nvPr/>
        </p:nvSpPr>
        <p:spPr>
          <a:xfrm>
            <a:off x="5508720" y="4797360"/>
            <a:ext cx="136836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29"/>
          <p:cNvSpPr/>
          <p:nvPr/>
        </p:nvSpPr>
        <p:spPr>
          <a:xfrm>
            <a:off x="1908000" y="4724280"/>
            <a:ext cx="136872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30"/>
          <p:cNvSpPr/>
          <p:nvPr/>
        </p:nvSpPr>
        <p:spPr>
          <a:xfrm>
            <a:off x="3419640" y="4724280"/>
            <a:ext cx="129528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31"/>
          <p:cNvSpPr/>
          <p:nvPr/>
        </p:nvSpPr>
        <p:spPr>
          <a:xfrm>
            <a:off x="7093080" y="4797360"/>
            <a:ext cx="129528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6666"/>
                </a:solidFill>
                <a:latin typeface="Book Antiqua"/>
              </a:rPr>
              <a:t>Модель Карнеги (продолжение)</a:t>
            </a: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ложительные последствия группового (коалиционного) метода ПУ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Удовлетворение всех сторон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ыстрое решение проблем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облемно-ориентированный поиск решения конкретен и локален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меется возможность компромиссных решений, а значит – избегание конфликто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 экспертного опроса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7386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ущность – решение проблемы через привлечение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внешних экспертов  и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здание рабочей группы (РГ) внутри организ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ые стадии экспертного опрос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формулировка ЛПР цели экспертного опроса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подбор ЛПР основного состава Рабочей группы (обычно - руководителя и секретаря рабочей группы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разработка РГ и утверждение у ЛПР технического задания на проведение экспертного опрос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) разработка РГ подробного сценария проведения сбора и анализа экспертных мнений (оценок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сновные стадии экспертного опроса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(продолжение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5) подбор экспертов в соответствии с их компетентностью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) формирование экспертной комиссии (целесообразно заключение договоров с экспертами об условиях их работы и ее оплаты, утверждение ЛПР состава экспертной комиссии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) проведение сбора экспертной информации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сновные стадии экспертного опроса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(продолжение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 анализ экспертной информации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9) интерпретация полученных результатов и подготовка заключения для ЛПР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0) официальное окончание деятельности РГ   (в том числе подготовка и утверждение научного и финансового отчетов о проведении экспертного исследования, оплата труда экспертов и сотрудников РГ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28480" y="35676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истемный подход при принятии решений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ть метод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до рассматривать проблему в целом, а не "выдергивать" для обсуждения какую-нибудь одну черту, хотя и важную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"Системный анализ - это дисциплина, занимающаяся проблемами принятия решений в условиях, когда выбор альтернативы требует анализа сложной информации различной физической природы."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Н.Н.Моисеев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6565"/>
                </a:solidFill>
                <a:latin typeface="Arial"/>
              </a:rPr>
              <a:t>Системный подход - методология исследования объектов как систем </a:t>
            </a:r>
            <a:r>
              <a:rPr b="1" lang="ru-RU" sz="2800" spc="-1" strike="noStrike">
                <a:solidFill>
                  <a:srgbClr val="3c6565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н дает возможность при принятии любого решения определить все взаимосвязи и с учетом их установить влияние этого решения на поведение как всей системы, так и отдельных ее част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6565"/>
                </a:solidFill>
                <a:latin typeface="Verdana"/>
              </a:rPr>
              <a:t>Система состоит из двух частей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) внешнее окружение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щее вход и выход, связь с внешней средой, обратную связь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) внутренняя структура -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вокупность взаимосвязанных компонентов, обеспечивающих процесс воздействия субъекта управления на объект, переработку входа в выход и достижение целей системы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3T15:05:53Z</dcterms:created>
  <dc:creator>Константинова</dc:creator>
  <dc:description/>
  <dc:language>en-US</dc:language>
  <cp:lastModifiedBy>AcerNEW-1</cp:lastModifiedBy>
  <dcterms:modified xsi:type="dcterms:W3CDTF">2014-09-14T16:44:42Z</dcterms:modified>
  <cp:revision>52</cp:revision>
  <dc:subject/>
  <dc:title>Слайд 1</dc:title>
</cp:coreProperties>
</file>