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45F-F08E-4729-9D1C-E1FC1D0E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5A3-34BF-4C68-B141-93AE32A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5EB-9559-4FF9-9D8B-78F99B11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B40-D034-4FD6-9CBE-24FFF0A6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8D1-FAB5-41C6-8489-27BF83A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C61-980C-4C15-9DD6-923FC53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0B9-93A6-4C56-9AA2-8C10990B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039-2F13-4EF6-894D-E0ACB10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D98-4854-4992-A01D-D1A7E4E3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BDF-9C9E-4D79-930E-C6017FF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3BD-73BA-4FE2-9BA5-40300F2C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CBE-7F8D-422E-AB74-20601EE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FEE1-0D54-4C95-8EC6-0610300E0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цент КМ ГОАУ ИР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пс. на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ус перечисляет приемы влия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Увеличить личную выгоду достижения подчиненными цели данной работ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делать путь к этой выгоде более легким, объясняя средства ее достижения, убирая помехи и ловушки и увеличивая возможности для личной удовлетворенности на пути к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помощью следующих средст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Разъяснение того, что ожидается от подчинен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Оказание поддержки, наставничество и устранение сковывающих поме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Направление усилий подчиненных на достижение цел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оздание у подчиненных таких потребностей, находящихся в компетенции руководителя, которые он может удовлетвори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довлетворение потребностей подчиненных, когда цель достигну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зь с теорией Фидле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воей концепции профессор Хаус рассматривал четыре основных стиля управления: стиль поддержки, инструментальный стиль, стиль, поощряющий участие подчиненных в принятии решений и стиль, ориентированный на дости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иль поддержки аналогичен стилю, ориентированному на человека или на человеческие отно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струментальный стиль аналогичен стилю, ориентированному на работу или на зад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ус отмечает, что стили управления довольно условны и преобладание того или иного стиля должно зависеть от ситу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 поддержки подразумевает дружелюбное отношение руководителя к подчиненным, он беспокоится об их статусе, благополучии и потребностя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альный стиль руководства проявляется в том, что руководитель сообщает подчиненным, что хочет от них, дает им конкретные указания, что и как нужно делать. При этом руководитель следит за исполнением трудовой дисциплины и поддерживает определенные стандарты исполн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поощряющий участие, характеризуется тем, что руководитель делится имеющейся у него информации со своими подчиненными и использует их идеи и предложения для принятия решени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иль, ориентированный на достижения подразумевает получение результатов любым путем [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дель принятия решений             Врума-Йетт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точке зрения авторов модели, имеется пять стилей руководства, которые может использовать руководитель в зависимости от того, в какой степени подчиненным разрешается участвовать в принятии реш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и пять стилей представляют континуум, начиная с автократического стиля принятия решений (AI и АН), затем идет консультативный (CI и СИ), и, наконец, завершается полным участием (Gil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нение каждого из этих стилей зависит от характеристик ситуация или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1. Вы сами решаете проблему или принимаете решение, используя имеющуюся у вас на данный момент информацию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2. Вы получаете необходимую информацию от своих и затем сам принимает решение. Работники привлекаются только на этапе сбора информации. Выработку решения и его принятие осуществляет руководител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1. Вы излагаете проблему индивидуально тем подчиненным, кого это касается, и выслушиваете их идеи и предложения, но не собираете их вместе в одну группу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2. Вы излагаете проблему группе ваших подчиненных, и весь коллектив выслушивает все идеи и предложения. Затем вы принимаете решение, которое отражает или не отражает влияние ваших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I руководитель делится соображениями по проблеме с оценивают альтернативы и пытаются достичь консенсуса относительно реш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ль, выполняемая при этом руководителем, больше похожа на роль председателя собрания, координирующего дискуссию, концентрирующего внимание на проблеме и делающего все для того, чтобы рассматривались наиболее важные аспекты проблем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ь не пытается влиять на группу с тем, чтобы она приняла его решение, и проявляет готовность принять и выполнить любое - решение, получившее поддержку всей групп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й из отличительных особенностей модели является то, что в целом она делает больший упор на изучение ситуации, чем на изучение личности лид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тельно, может быть, имеет больше смысла говорить об автократической ситуации и ситуации участия, чем об автократическом лидере или участвующем лид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онная модель руководства Ф. Фид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 фактора, влияющие на поведение руководител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между руководителем и подчиненными (степень доверия и уважени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задачи (регламентация труд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ласть руководителя (объем должностных полномочи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ория Фидлера установила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ва важных факта, связанных с обеспечением эффективного руковод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оводители, ориентированные на выполнение задачи, обеспечивают более высокую производительность группы в благоприятных и неблагоприятных ситуациях. Руководители, ориентированные на отношения, обеспечивают более высокую производительность группы в промежуточных состояния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ффективность работы руководителя зависит как от степени благоприятности ситуации, так и от стиля лидер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шающим фактором является соответствие стиля руководства и ситуации, в которой работает коллектив. Добиться этого можно двумя способам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способить лидера к ситуации (посредством его подбора, стимулирования, обучения, переобучения, в крайнем случае — замены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менить ситуацию (путем наделения руководителя дополнительными полномочиями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х в готовности использовать оба сти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ловием оптимальности стилей управления являе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риентация на решение производственных задач и на установление благоприятных взаимоотношений в коллектив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ая теория утверждает, чт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ффективный руководитель должен демонстрировать оба стил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применять их в зависимости от характера текущей управленческой ситу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ждая ситуация, в которой проявляется руководство, всегда есть сочетание действий руководителя, поведения его подчиненных, времени, места и других обстоятельств. И это сочетание чаще неблагоприятно, чем благоприятн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я жизненного цикла Херси и Бланшарда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этой теории, самые эффективные стили лидерства зависят от «зрелости» исполнител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релость не следует определять в категории возраста. Зрелость отдельных лиц и групп подразумевает способность нести ответственность за свое поведение, желание достигнуть поставленной цели, а также образование и опыт в отношении конкретной задачи, которую необходимо выполни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Херси и Бланшарду, понятие зрелости не является постоянным качеством лица или группы, а скорее характеристикой конкретной ситу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ень зрелости задает стиль лидер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гими словами, в зависимости от выполняемой задачи, отдельные лица и группы проявляют различный уровень «зрелост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ответственно, руководитель может менять и свое поведение в зависимости от относительной зрелости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 определяет эту зрелость, оценивая стремление к достижению, способность нести ответственность за поведение, а также уровень образования и опыт прошлой работы над порученными зада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этой субъективной оценки руководитель и определяет сравнительную зрелость конкретного лица или групп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ся четыре стиля лидерства, которые соответствуют конкретному уровню зрелости исполнителей: давать указания, «продавать», участвовать, делегиров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ория «путь-цель» Митчела и Хаус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197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туационная модель «путь - цель» Теренса Митчела и Роберта Хауса во многом схожа с моделью Фидлера. Она также указывает на необходимость применения ситуативного стиля управления в зависимости от ситуаци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 названием «путь - цель» авторы имели ввиду «усилие - производительность – результат (вознаграждение) - ощущаемая ценность вознаграждения в глазах подчиненного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тивационный смысл те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торы этой модели пытаются дать объяснение тому, как поведение руководителя воздействует на мотивацию, удовлетворенность и производительность труда подчине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мысль этого подхода в том, что руководитель может побуждать подчиненных к достижению целей организации, воздействуя на пути достижения этих целей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44:55Z</dcterms:created>
  <dc:creator>Рашид Минасхатович Гайнутдинов</dc:creator>
  <dc:description/>
  <dc:language>en-US</dc:language>
  <cp:lastModifiedBy>Рашид Минасхатович Гайнутдинов</cp:lastModifiedBy>
  <dcterms:modified xsi:type="dcterms:W3CDTF">2014-02-19T10:48:05Z</dcterms:modified>
  <cp:revision>7</cp:revision>
  <dc:subject/>
  <dc:title>Презентация PowerPoint</dc:title>
</cp:coreProperties>
</file>