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EC56-7414-4BFF-9F19-33F079E93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BC73-F2C8-4C9D-AED3-145A50C75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6F7-885B-4B25-A3C4-7FEC02140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8F9C-F49B-474F-B2D8-BAD9C805F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844-4C8D-401A-B578-D408FD0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3D4-224C-405D-A6AE-41BEBA41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C62-680A-4FEC-976B-F4E43D0E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308-59D6-44FD-BC78-D1D09349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BC1A-E5EB-424B-A044-5E2A5224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4FCB-6B89-430E-A647-8FA96B08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E20-00EF-4CF8-8065-743D4A31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E0A9-1DEA-46F7-AB09-810B3EA5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A4CA-1280-4E43-B6BF-ED5921A3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CF97-C327-4B75-A363-19010E0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46D9-B3AC-4D80-A182-3693BD4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6DB-4F11-4DCA-90E6-E4ED5BB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DC3B-F9FC-4BC7-A9A7-6EBA4E0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5A3-DCDB-4302-AA02-D49376E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2DAE-E002-4752-A915-D01CC04B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A80-8265-4AC5-8BBE-DB2C8E8F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214-B469-455F-9DB8-342BB7CC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B9B-F5B9-4EE8-8147-5F5940C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B8B-CE27-48EC-9905-C83E540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164-B623-4294-88B9-E46A08CC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94F-54CD-46C0-BB84-41505820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51A-8B32-40C2-9138-501B058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1AB-B3AA-4EB5-8510-AB4A1EC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E18-05DD-4D5D-BF90-1F89BD5A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6A2-D08B-45F5-B54C-280FA23FF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AF0E-7722-4E7A-BC63-F47314D3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text=&#1087;&#1086;&#1074;&#1099;&#1096;&#1077;&#1085;&#1080;&#1077;%20&#1087;&#1088;&#1080;&#1074;&#1083;&#1077;&#1082;&#1072;&#1090;&#1077;&#1083;&#1100;&#1085;&#1086;&#1089;&#1090;&#1080;%20&#1096;&#1082;&#1086;&#1083;&#1099;&amp;fp=0&amp;img_url=http%3A%2F%2Ftrud22.ru%2Ffiles%2Ffck%2FImage%2Fnews%2FVOL_8146_.jpg&amp;pos=22&amp;rpt=simage&amp;lr=1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ld.acconcept.ru/strategy/spac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fp=3&amp;img_url=http%3A%2F%2Fria.ru%2Fimages%2F4091%2F56%2F40915681.jpg&amp;uinfo=ww-1010-wh-564-fw-785-fh-448-pd-1&amp;p=3&amp;text=&#1087;&#1086;&#1074;&#1099;&#1096;&#1077;&#1085;&#1080;&#1077;%20&#1087;&#1088;&#1080;&#1074;&#1083;&#1077;&#1082;&#1072;&#1090;&#1077;&#1083;&#1100;&#1085;&#1086;&#1089;&#1090;&#1080;%20&#1096;&#1082;&#1086;&#1083;&#1099;&amp;pos=104&amp;lr=16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765000"/>
            <a:ext cx="640872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сновы маркетинга  и маркетинговой стратегии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айнутдинов Рашид Минасхат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доцент кафедры менедж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ГОАУ ЯО ИРО, к.пс. на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im2-tub-ru.yandex.net/i?id=13684312-6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42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ссия – это «визитная карточка»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должна быть привлекательна, понятна для всех, кто может воспользоваться образовательными услугами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ключевым вопросом для определения миссии является «Кому и зачем все это нужно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тимально сформулировать миссию своей организации, желательно найти ответы на несколько вопросов «зачем?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чем это учреждение учре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 на этот вопрос помогает понять ожидания учредителей и учесть их в выборе развития ОО; с одной стороны, сохранить свое лицо, с другой – быть в русле изменений, происходящих в системе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миссия ОО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словий для успешной социализации (в широком смысле слова) ребенка (челове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социализации представляет собой совокупность всех социальных процессов, благодаря которым индивид усваивает определенную систему норм и ценностей, осваивает необходимые компетенции, позволяющие ему жить и функционировать в качестве члена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, семья, ДОО, ОДО – все работают на решение указанной цели, но каждый из этих институтов делает это с помощью только ему присущих средст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О – это вариативная часть государственных институтов социализации ребенка, обеспечивающая развитие личности, преемственность и взаимосвязь поколений и ОО, причем делает это в самой тесной связи с семь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это образовательное учреждение обществу (социуму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дшие ответ на этот вопрос получают массу серьезных преимуществ. В первую очередь — точное понимание клиента, тех, на кого ориентирована их деятельность, а также определение того, что и как предлагается в ответ на его за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чем эта организация людям, которые в ней работаю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ный поиск ответа на этот вопрос помогает создать атмосферу сопричастности ко всему происходящему в школе, соучастия в ее делах, столь важное в наше время чувство социальной принадлежности, позволяет обнаружить то, что отличает сотрудников вашего ОУ от оста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 на эти вопросы позволя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ссию ОО образно представить как «флаг», который нужен для ее презентации внешнему миру (в первую очередь клиентам), и, в то же время, «знамя», под которое собираются люди, чтобы сплоченной командой воплощать в жизнь дела, которых ждет от ОУ внешний ми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отметить, что выбор миссии ДОО в обязательном порядке должен быть согласован с субъектами муниципальной  системы образования, которые выражают интересы всего населения данной территор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ссия всегда индивидуальна, уникальна, неординарна, в ней заключена основная «изюминка», образ «новизны», неповторимости коллектива, предназначение ОО в мире в целом, и в мире образования, в час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пытайтесь сформулировать миссию свое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задач ОО – снизить «прессинг инкультурации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отором говорит А.Маслоу, приводящий к фрустрации и ограничениям естественного права ребенка на развитие в процессе социал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синг инкультурации, т.е. воспитания, дисциплины, формирования социальных навыков, подготовки к будущей взрослой жизни, осознания потребностей и желаний других людей в какой-то степени, разумеется, необходим, но процесс воспитания перестанет раздражать нас и ребенка только тогда, когда его будет окружать атмосфера приязни, любви и уважения друг к друг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ное выражение миссии центра «Л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веренность в будущем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дость в настоящем!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тив стремится к тому, чтобы дети и взрослые получали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деятельности и общения с нами и друг с другом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годн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благодаря усвоению полезных знаний и навыков, а также иным средствам и механизмам социализации увеличивали бы шансы на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вер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собственном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будущ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овое 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Что такое маркетинг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Зачем он нужен дошкольным образовательным организациям (ДОО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акие у ДОО существуют возможности и ограничения для осуществления данной деятель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ЛАД» это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чность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птация.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уг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ственное имя центра «ЛАД» указывает не только на приоритет социально-психологических отношений в коллективе сотрудников и детей, но является аббревиатурой основного предназначения данной О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вободного времени (радость в настоящем!) для развития личности с целью повышения ее адаптивных качеств (уверенность в будущем!) в атмосфере принятия друг друга и взаимоуважения (лад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яя функция ми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пределить статус ДОО, его имидж, так как различные виды и варианты ОО существенно отличаются друг от друга именно по принимаемой на себя ми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о заявляя о своей миссии, ОУ как бы предъявляет потенциальным заказчикам, клиентам, партнерам свою визитную карточку, что очень важно для установления будущих отношений социального партне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четании с ясно сформулированной миссией девиз можно поместить «снаружи», чтобы дать клиентам и работодателям первоначальное представление о том, чего можно ждать от эт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если ясно сформулированной миссии нет, девиз вскоре может превратиться в пустую, бесполезную ф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овы средства маркетин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пция 4 П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укт (особенности и конкурентные преимущества предлагаемых услуг или «товара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ажная цена (затраты, которые несет обществ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вижение (реклам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ребители (особенности сегмен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П (к 4 П добавляются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(воспитательно-образовательный процесс: содержание и технологи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сонал (качество и приверженно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ш продукт (это качество образовательных услуг и «товара») есть нечто ценное, что есть у вас и что вы можете обменять на то, что нужно вам – содержание и развитие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двинуть ваш продукт на рынок, вам нужно так описать его, чтобы люди, которым вы его предлагаете, могли ясно понять, что Это и как Это отвечает их потребност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ует ли ваш продукт потребностям вашей целевой группы по качеству и удовлетворяет ли он ее специфические потре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ечно, ДОО находятся на позиции монополиста услуг в сфере ДО в большинстве районов, однако, это не должно вас успокаивать: во-первых, это не навсегда; во-вторых, есть ещё «имя», которое формирует отношение к ДОО, ценность в глазах Клиента, и, соответственно, желание или нежелание сотрудничать, помогать; испытывать благодарность и рекомендовать или 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а/зат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имость произведенной услуги на 1 воспитанника (сформулируйте 2-3 показателя, вычислите их и сравните с показателями своих коллег/конкуре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раты здоровья персонала, родителей и детей на то качество услуг («товара»), которое обеспечивается в процессе совместного «производств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данные практически не учитываются, однако мы все понимаем, что можно одного и того же результата добиваться за счет сверхусилий персонала и напряженных отношений с родителями, а можно за счет энергии, возникающей в условиях взаимного доверия и сотрудни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виж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епень использования маркетинговых коммуникаций в О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:…Интернет: сайт, соц. сети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…Интернет: сайт, соц. сети; эвент (событи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ирование:…Интернет: сайт, соц. с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й маркетинг: формирование КК детоцентризма, взаимоуважения, вовлеченности и сотрудничества; эвент (события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ребите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, знание особенностей и предпочтений потенциального и реального контингента/клиента, а также ЛПР (лица принимающего решен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успеха - знание потребителя чаще всего в лице родителя, его запросов, возможностей и огранич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о – воспитательно-образовательный 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ество и соответствие поставленным целям со сторо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а (ФГОС), учред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/воспитателей/специалистов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ов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трудники должны обладать маркетинговым мышлением, быть профессионально готовыми к достижению поставленных целей, удовлетворению спроса на обеспечение качества образования в сотрудничестве с семьей, чтобы не формировались, по образному выражению А.Г.Асмолова «невротические салочки» воспитатель-род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понятия кур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ид человеческой деятельности, направленной на удовлетворение нужд и потребностей посредством обмена» (Ф.Котлер). Существует более 2000 опреде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редлагаем определ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ркетинг в сфере 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згляд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ую организацию и её персонал)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базовый бизнес- процесс – воспитательно-образовательный)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образовательный, включающий обученность и воспитанность ребенка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точки зрения его Потребител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первую очередь родителя, а также других О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ДОО: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обенное, уникаль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907920"/>
          <a:ext cx="8604360" cy="5492880"/>
        </p:xfrm>
        <a:graphic>
          <a:graphicData uri="http://schemas.openxmlformats.org/drawingml/2006/table">
            <a:tbl>
              <a:tblPr/>
              <a:tblGrid>
                <a:gridCol w="2470320"/>
                <a:gridCol w="2947680"/>
                <a:gridCol w="3186360"/>
              </a:tblGrid>
              <a:tr h="64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е для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никальное для конкретной Д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дук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Цена»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требите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оизводство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апы маркетинговой стратег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6 шаг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работка образа организации и концепции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внешн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конкур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потребител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собственной ситуации, позиционирование организации на рынке образовательных услу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улирование целей и разработка стратегии и тактики комплекса маркетинга и маркетингов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1. Образ ОО – его куль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ов в вашем представлении желаемый образ ДОО, например, в 2015 году (в соответствии с миссией О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гда внешнее представление о вашей организации совпадает с представлением о нем сотрудников (внешний и внутренний маркетинг), меры по формированию индивидуальности ОО, а значит, и сама деятельность учреждения будут эффектив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ффективными становятся те ОО, которым удается создать долговременные конкурентные преимущества благодаря культуре управления (они в отличие от технических ноу-хау имеют большую защищенность от повторения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2. Диагностиче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ализ внешней среды и его основные инструмен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ключевых вопросов: кто? что? зачем? где? чем? как? когд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O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 -  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Е - матрица стратегического положения и оценки действий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ld.acconcept.ru/strategy/space.htm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PEST-анализ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составления профиля среды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bibliotekar.ru/upravlenie-4/42.htm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VRIO анализ  Дж. Барни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ttp://www.creativeconomy.ru/articles/12440/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ческие методы анализа реальной позици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1557000"/>
            <a:ext cx="807552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роведения стратегического анализа включает два основных этапа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анализ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нализ внешней среды: возможности и угрозы внешних воз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Анализ внутренней среды: сильные и слабые стороны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c4271"/>
                </a:solidFill>
                <a:latin typeface="Calibri"/>
              </a:rPr>
              <a:t>VRIO анализ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, разработанны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ж. Барни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 для анализа ресурсов и  способностей, определения их ценности и эффективности исполь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Ценность (value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озволяют ли ДОО ресурсы и способности использовать внешние возможности (например использование инноваций или участие в конкурсах и получение грантов) и нейтрализовать угрозы (например, угрозу резкого снижения контингента в силу потери экономических субъектов в данном населенном пункте, или активности соседней О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дкость (rarenes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колько конкурентов обладают аналогичными ресурсами и способностями (например, природной уникальностью, выгодным местоположением, эффективным воспитательно-образовательным процессом, хорошей МТБ, готовностью педколлектива работать с детьми с ОВЗ и пр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спроизводимость (imitability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насколько сложно и дорого получить доступ к данным ресурсам и способностям, использовать  их в текущей образовательной деятельности (например, возможно ли быстро организовать учебный процесс на современном уровне с учетом требований нового ФГОС, осуществить модернизацию воспитательно-образовательного процесса в соответствии с требованиями учредителя, повысить имидж образовательного учреждения, освоить технологии работы с детьми с ОВЗ и др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271"/>
                </a:solidFill>
                <a:latin typeface="Calibri"/>
              </a:rPr>
              <a:t>Критерии анализа ресурсов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нность (organization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полной ли мере ДОО задействует эти ресурсы и способности для реализации своего конкурентного потенци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блема может быть в том, что ресурсы образовательного учреждения могут быть никак не задействованы в образовательном процессе, либо не используются или неправильно используются при  позиционировании и продвижении своей организ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– это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ософия дел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деятельности в условиях рынк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тегия и тактика поведения на рынке услуг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организации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бор инструментов повышения эффективности управления чем(кем)-либ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маркетинг ни в коем случае не представляет собой манипулирования клиент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3. Анализ конкурентов (бенчмаркинг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сильные и слабые стороны существующих и потенциальных конкурентов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ую сферу образовательной деятельности не стоит вторгаться в связи с сильными позициями там других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«ахиллесова пята» вашего основного конкурент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ет быть вам лучше наладить сотрудничество, чем конкурировать с конкретными ОО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кторы успеха (Ф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утренние достижения ОО, не проявляющиеся на рынке непосредственным образом, например, владение новейшими педтехнологиями, активная методическая работа, инновационная активность коллектива, квалификация и дисциплина персонала, хорошо поставленный документооборот… - все это очень важно, но большинство родителей, и уж тем более детей, могут об этом даже не догадываться, более того – им это не интересн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удить о ДОО они будут по тем достоинствам, которые доходят до них непосредственно и являются для них потребительской ценн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акторы успеха могут переходить в конкурентные преимущества, а могут оставаться лишь внутренним достоянием организации, зато очень важным и необходимым для порождения конкурентных преимуще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даже утверждать, что любое конкурентное преимущество ОУ коренится в определенных факторах успеха организ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кус конкуренции (Ф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кус конкуренции – это приоритеты, которыми пользуются клиенты (родители прежде всего) при выборе ДОО или принятии решения о его с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конкурентные преимущества ОО вырабатывают сами, то фокус конкуренции – это критерии, которые вырабатывает потребитель навстречу этим К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пы ФУ и их составляющие</a:t>
            </a:r>
            <a:r>
              <a:rPr b="0" lang="ru-RU" sz="4000" spc="-1" strike="noStrike">
                <a:solidFill>
                  <a:srgbClr val="ccc1da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и личными качествами воспитателей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валификацией специалистов и медиков ДОО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педагогическими технологиями: компетентность в новых технологиях; способность к инновациям; роль экспертов в данной технологии; признание в проф. сообществе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МТБ, обеспечивающей современные возможности ухода и присмотра, здоровьесохранения и развития дет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образовательным процессом:  реализация системно-деятельностного подхода при формировании личности ребенка;  оптимальное сочетание воспитательной и обучающей деятельности…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 информированием и продвижением услуг и имиджа ДОО (свой сайт, СМИ, информационные листки, встречи с родителями…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акторы, связанные с компетентностью руководителя ДОО и наличие управляющих ноу-хау (например, изменение оргструктуры; формирование групп переменного состава…;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Подумайте и конкретизируйте, какие факторы вашего ДОО могут стать или уже являются факторами успех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ые преимущества (К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те достижения ОО, факторы успеха, которые попадают в фокус конкуренции и обеспечивают конкурентные преимуществ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П (или ключевые факторы успеха) не только напрямую воспринимаются и оцениваются клиентами, но являются дифференцирующими признаками их потребительского вы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ркетологи ещё иногда называют их «продающими моментам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м больше у вас продающих моментов, тем луч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о вертикали впишите характеристику элементов ММ ОО и б) по графам произведите оценку своих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981000"/>
          <a:ext cx="8964720" cy="5543640"/>
        </p:xfrm>
        <a:graphic>
          <a:graphicData uri="http://schemas.openxmlformats.org/drawingml/2006/table">
            <a:tbl>
              <a:tblPr/>
              <a:tblGrid>
                <a:gridCol w="1979640"/>
                <a:gridCol w="1606680"/>
                <a:gridCol w="1792080"/>
                <a:gridCol w="1792440"/>
                <a:gridCol w="1793880"/>
              </a:tblGrid>
              <a:tr h="13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маркетинг-ми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кальное конкурентное преиму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му уровню  по региону/рай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/допустимый  урове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изменя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(затрат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im1-tub-ru.yandex.net/i?id=441066139-02-72&amp;n=21"/>
          <p:cNvPicPr/>
          <p:nvPr/>
        </p:nvPicPr>
        <p:blipFill>
          <a:blip r:embed="rId1"/>
          <a:stretch/>
        </p:blipFill>
        <p:spPr>
          <a:xfrm>
            <a:off x="0" y="0"/>
            <a:ext cx="30592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5627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 конкурентному преимущест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92000" y="1700280"/>
            <a:ext cx="6994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относиться все перечисленные выше факторы, позволяющие успешно конкурировать на рынке и побеждать в конкурентной борьб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группах подготовьте свои суждени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в настоящий момент в фокусе конкуренции на рынке ОУ в крупных городах среди ДО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что будет сдвигаться ФК в недалеком будуще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51444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попадет в ФК в дальней перспектив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г 4. Анализ потреб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4000" y="1341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добиться успеха, думай не о себе, а о другом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ментирование рынка и позиционирование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учетом данных о состоянии рынка образовательных услуг необходимо анализировать сильные и слабые стороны своего учреждения, выявлять потребности, прогнозировать тенденции, искать сильные пози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5. Анализ собственной ситуации и определение позиции на рын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надо ответить на вопрос: «Что нам мешает в данный момент удовлетворить образовательные потребности наших клиентов лучше, чем конкурен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есь осуществляется переход от аналитического раздела к практической разработке страте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уется ориентация на перспективные направления рынка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аг 6. Формируется маркетинговая стратегия и тактика О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предыдущих шагов формулируются конкретные, мотивационные цели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основе разработанных концепций и определенных целей маркетинговой стратегии начинается оперативное маркетинговое планир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ечаете комплекс маркетинговых мероприятий, в т.ч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игрыш – выигрыш; выигрыш-потеря или потеря - поте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обеспечение для ОО и потребителя (родителя/школы) ситуации «выигрыш-выигры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ям (и детям) нужны не образовательные услуги как таковые, а удовлетворенные потребности и решенные пробл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отребности мы помогаем им удовлетворя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блемы помогаем реш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blic Relation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вязи с обществен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-бытия/мероприятия  (ивент/эв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im4-tub-ru.yandex.net/i?id=194040097-71-72&amp;n=21"/>
          <p:cNvPicPr/>
          <p:nvPr/>
        </p:nvPicPr>
        <p:blipFill>
          <a:blip r:embed="rId1"/>
          <a:stretch/>
        </p:blipFill>
        <p:spPr>
          <a:xfrm>
            <a:off x="155520" y="0"/>
            <a:ext cx="1428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ительно к ОУ – это попытка удовлетворить интерес к нему и его услугам путем передачи имеющейся информации через различные каналы, организация общественного мнения в целях повышения репутации и привлекательности организации в глазах потребителей, учредителя, 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привлекатель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ность ОО привлекать расположение и позитивное внимание со стороны учредителя и потенциальных/реальных пользователей образовательных услуг (обучения, воспитания, социализации): детей, родителей, социальных партнеров, коллег; а также потребителей их «товара»: средней школы прежде вс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чем нужна привлекательность ДОО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«Там, где нет конкуренци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спится лучше, но живется хуже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онополизм ДОО вредит их развитию и отвлекает внимание от качества их работы, т.к. концентрирует на дефиците мест в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оложение может выражаться в таких формах как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56000" y="1699920"/>
            <a:ext cx="613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бильно позитивный имидж организа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рост  континген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лее высокие уровни инвестиций (внимания, финансов) со стороны учредителя, спонсоров,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верие и готовность к сотрудничеству со стороны социальных партнеров, в т.ч. СОШ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im2-tub-ru.yandex.net/i?id=508414093-44-72&amp;n=21"/>
          <p:cNvPicPr/>
          <p:nvPr/>
        </p:nvPicPr>
        <p:blipFill>
          <a:blip r:embed="rId1"/>
          <a:stretch/>
        </p:blipFill>
        <p:spPr>
          <a:xfrm>
            <a:off x="0" y="2421000"/>
            <a:ext cx="22986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разместить информацию в С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25000"/>
            <a:ext cx="8362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ществует мнение, что разместить информацию об ОО можно только за деньги. Это часто верно, но не всег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в ОО происходят социально значимые события, интересные за пределами школы – это может вызвать интерес журналистов газет и 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ить о событиях можно рассылая пресс-релизы в печатные, электронные и ТВ С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главии пресс-релиза необходимо обязательно указать: кто проводит мероприятие, для кого и с какой целью, место и сроки пр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е содержание д.б. посвящено краткому описанию структуры и содержания мероприят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исании текста нужно использовать те слова и выражения, которые не требуют от читателя знания специальных пед. зн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яду с рассылкой пресс-релизов необходимо лично приглашать журналистов (легче районных и городских, сложней региональных и федераль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ение представителей ТВ потребует наибольшей предварительной подготовки со стороны О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работы с Т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работы корреспондента уточните, в какой передаче и в какой рубрике будет представлен ваш материал, сколько времени в эфире займет рассказ. Важно узнать, сколько по времени и как планируют снимать сюжет, согласуйте свои предложения с планами журнал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у бригады ограниченное, поэтому смогут уделить вашей школе ограниченное время. Заранее определите ответственного, кто будет сопровождать корреспондента, комментировать происходящее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жите корреспонденту и оператору наиболее яркие моменты праздника, события. ТВ это прежде всего динамичная карти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умайте о постановочных кад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се события можно запечатлеть в реальном времени и тем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полне уместно будет попросить участников специально для ТВ спеть песню, поиграть в игру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приезд журналистов и создание постановочного сюжета не мешали проведению 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епортаж предполагает выступ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анее подготовь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, чтобы текст был кратким, содержательным и понятным любому челове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ветах на вопросы интервью будьте краткими и отвечайте без длинных вводных фраз – это все равно выреж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вершение работы с корреспонден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ите ему пресс-релиз, в котором будет описано прошедшее событие, а также имена, отчества, фамилии и должности всех, кто был активным участником репортаж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опросить проверить Ф.и.о., должности участников, которые корреспондент мог записать на слух с ошибками, неточност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точните время выхода репортажа и договоритесь о возможности переписать итоговый репортаж и черновой материал для архива учреждения (его надо использовать для других мероприятий, выложить на сай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что нацелен маркетинг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ести исследования, направленные на понимание потребностей и особенностей клиента, выявление и сравнение с конкурент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ить целевой рынок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довлетворить потреб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стичь конкурентного преимуще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дача маркетинга быть там, где есть аудитор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если наш сегмент все больше времени проводит в Интернете и социальных сетях, значит и думающим руководителям ПОО следует воспользоваться возможностями этих ресурсов, и одновременно понимать какие угрозы порождает это явл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 (Pablic Relations)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и странно, но это также вполне привыч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ьские собра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жителями микрорайо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школами-партнерами по работе с будущими первокласс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о спонсорами, с шефами, с работодателями, депута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08000" y="0"/>
          <a:ext cx="9036000" cy="6800760"/>
        </p:xfrm>
        <a:graphic>
          <a:graphicData uri="http://schemas.openxmlformats.org/drawingml/2006/table">
            <a:tbl>
              <a:tblPr/>
              <a:tblGrid>
                <a:gridCol w="1047600"/>
                <a:gridCol w="1141560"/>
                <a:gridCol w="1141200"/>
                <a:gridCol w="1140120"/>
                <a:gridCol w="1141200"/>
                <a:gridCol w="1141560"/>
                <a:gridCol w="1141200"/>
                <a:gridCol w="1141560"/>
              </a:tblGrid>
              <a:tr h="1618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уп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та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требов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сбоев в передаче инф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ность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ая встреч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ка объя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мя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р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3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и С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ежегодной презентации в различных районах города, на площадках других учреждений, приурочивание проведения презентаций к большим праздникам: день района/улицы/города, День учителя, Новый год, Последний звонок, День рождения ДОО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талоги и букл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одителей, партнеров, попечителей, спонсоров необходима правильная расстановка акцентов, но при этом не стоит забывать об учете сложившегося имиджа школы и соответствия разработанной стратегии развития Д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кламные щиты и наружная рекл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необходимого согласования (ГИБДД, администрация, собственник, отдел рекламы) можно использовать имеющийся автобус, штендеры или растяжки на территории школы, её фасаде, а также на оживленных перекрестках, пешеходных зонах в па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лефонный маркетинг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ведение телефонного анкетирования среди родителей, попечителей, спонсоров и т.п. накануне нового учебного года или его оконч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рменные сувениры: вручение детям, родителям, выпускникам, гостям ДОО ручек, календариков, поделок воспитанников и т.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зитные карточки, методическая литература с рекламой ДОО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лама в школьных СМИ партне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ГОУ управления Д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формировании положительного образа ДОО может существенную роль играть его Попечительский совет, важнейшей функцией которого является лоббирование интересов О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и, правильно понимающие значение данного органа, активно привлекают к его работе родителей, депутатов, представителей общественных организаций, бизнесменов и т.п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в рамках его деятельности крайне важно проводи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акции, привлекающие внимание, а затем, возможно, и финансы, для ДО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ценка эффективности маркетингов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я численности контингента на фоне демографических изменений райо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ыпускников ДОО со стороны партнеров-шко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изменений характеристик имиджа ОО: узнаваемости и привлекательности организации, наличия и оценки имени, «торговой марки», «бренда»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тиворечивость, конгруэнтность внутреннего и внешнего маркетинга, содержания и формы, адекватность имиджа реа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реализации проекта, позволяющая фиксировать результаты выполненных работ, произошедшие изменения во внутренней культуре школы, элементах имиджа О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 целевой аудитории теми формами работы, в которые они были вовлече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намика удовлетворенности работой ОО со стороны: учредителя, родителей, персона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братной связи в т.ч. неорганизованной (соц. сети, форумы, чаты, блоги…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кетинг и повышение привлекательности Д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7920"/>
            <a:ext cx="8507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овокупность способов воздействия на клиента принято называть маркетинговыми коммуникациями или интегрированными маркетинговыми коммуникациями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аще всего к ним относя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екла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связи с общественностью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омоушн (продвижени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я думаю, что все, что воздействует на потребителя (потенциального в т.ч.) можно отнести в широком смысле слова к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C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от улыбки вахтера и гардеробщицы до запахов в туалете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жде всего вы должны научиться думать, как клиент и смотреть на свою организацию и её услуги глазами клиент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такое правило-занятие в маркетинге: представьте себя посетителем (родителем, партнером, учителем из соседней школы) и посмотрите на свое заведение (от дорожки к зданию до разговора с сотрудниками) его глазам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ться маркетингом означает все врем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483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мать о своем кли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имать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ть потребности своего кли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о радовать 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инляндии есть музей, где взрослым предлагается посмотреть на окружающий мир глазами детей: «Дети видят мир на уровне наших коленок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im4-tub-ru.yandex.net/i?id=126237263-5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07920"/>
            <a:ext cx="291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оориентированность О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вся организация «заражена» клиентоманией, то ее называют клиенто-ориентированной. Здесь буквально все рассматривают только с одной позиции — с позиции Клиент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 – это незримое присутствие Клиента буквально везде в орган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маркетинговое мышление само собой не возникает, его нужно воспитывать и разви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йте подумаем как это следует делать в ваших конкретных условиях: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в группах разработайте мини-проекты средств формирования ММ сотрудников ДОО - 20 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1:21:02Z</dcterms:created>
  <dc:creator>gainutdinova</dc:creator>
  <dc:description/>
  <dc:language>en-US</dc:language>
  <cp:lastModifiedBy>Рашид Минасхатович Гайнутдинов</cp:lastModifiedBy>
  <dcterms:modified xsi:type="dcterms:W3CDTF">2014-02-24T10:16:25Z</dcterms:modified>
  <cp:revision>71</cp:revision>
  <dc:subject/>
  <dc:title>Технологии повышения привлекательности  образовательной организации</dc:title>
</cp:coreProperties>
</file>