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A7B6-C902-432A-BB06-D183F4F2D8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7477-E084-4878-9CE4-08E664466E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720C-6FA4-4AB8-9143-229A95BC7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8F0D-AF56-4B63-84A8-B8092937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311E-0101-4BED-A171-AD19C261D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0CD0-476C-4361-BC29-815158BA1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FB01-1648-4EDE-8091-099B2F58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8E3F-DD62-458F-831A-D8B8F814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F28C-9A52-4D43-AF98-22573F0E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3ED4-ABB6-44EE-8BD2-305B1C74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1F22-E6A3-4F57-8D13-2C668B08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8C8E-F8C7-46FB-BAC2-5F0BF880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675B-734C-4DE1-B481-F55F0D7B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D0D0-ED42-452E-9D80-1EAD9A54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96C4-29D0-414A-92C0-A9E4D8C528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ркетинг внебюджетной деятель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айнутдинов Рашид Минасхат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цент каф. менеджмен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АУ ИРО, к.пс.н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сихологические проблемы внедрения платных услуг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жду коллегами, зачастую подругами пролегли финансовые расчеты и отношени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многих необходимость брать деньги за свою работу с реальных людей, глядя им в глаза, а не получать минимальную, но гарантированную зарплату от государства была сложной психологической проблемо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которые оказались не готовы к повышенной планке требований со стороны заказчиков, терялись, когда им предъявляли претензии или задавали вопросы по содержанию, форме, условиям занят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то-то испытывал тревогу в связи с необходимостью вступать в деловые переговоры со своими коллегами, руководителями и родителями, принимать на себя ответственность за реализацию своих же инициатив, отстаивать свои условия и требовани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актически для всех возникли проблемы освоения новых навыков, в частности проведения расчетов, ведения новой документации, а также повышенная требовательность к оформлению документации, в т.ч. финансовой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ркетинг – это всегда движение, причем в двухстороннем направлен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197000"/>
            <a:ext cx="84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цесс стратегического управления и формирования определенной маркетинговой политики ОО - интерактивный по своей внутренней сущност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стоянное движение и обмен происходит в процессе систематического обмена информации с субъектами извне, получения внутренней и внешней обратной связи, осуществления тактических управленческих действий на их основ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о, чего мы зачастую избегаем и ограничиваем в своей традиционной работе – общение с родителями и учениками по поводу образовательного процесса и его условий - должно стать нормой взаимодействия при маркетинговом подход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х отношение, их жалобы и претензии – это средство наших корректирующих действий, основа улучшений на каждом рабочем месте и в системе управления организацией в целом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апность в организации внебюджетной дея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чинали в центре  с организации эпизодических платных мероприятий, которыми занимались 2-3 челове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жно было на пилотных проектах учесть изменения, происходящие в коллективе, у родителей, у учредителя, выявить отношение к этой деятель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нешняя ситуация в финансовом отношении не давала надежды на улучшение, в тоже время в коллективе стали проявляться люди, готовые к новой для себя рол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того, чтобы сформировать позитивное отношение к внебюджетной деятельности и постепенно формировать маркетинговое мышление у сотрудников ОО была разработана серия мероприяти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ключение через обу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ыл проведен ряд деловых игр, семинаров, с подключением к этой работе все новых сотрудников, поддержкой их усилий и при поощрении перспективных ид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айне важно, чтобы сотрудники поняли и приняли как собственную установку, что и в бюджетной организации,  необходимо, прежде всего, учитывать реальные запросы людей, потребности детей и их родител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ркетинговое мышл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обходимо, чтобы  люди пришли к мысли о том, что все определяющие решения должны приниматься с позиции обеспечения общего успеха организации на рынке социальных, в первую очередь образовательных, потребностей и интересов детей и взрослых район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т эпизода к системе платных услу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течение двух лет сформировалась большая группа работников, которые получали за работу по реализации платных услуг почти столько же, сколько по основной работе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роме того они приносили существенный доход центру, благодаря которому получали развитие наиболее перспективные направления его образовательной деятельности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/3 сотрудников учреждения было задействовано в реализации дополнительных образовательных услуг к моменту, когда я закончил свою работу в центре «Лад»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8920" y="44280"/>
            <a:ext cx="87138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 платных услуг к «солидарному финансированию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этой основе было также показано родителям, что в данной организации заработанные средства идут на улучшение условий обучения, коллектив имеет квалифицированные кадры, приемлемые условия и высокую мотивацию на совместную работ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этому вполне логично было согласие родителей участвовать в схеме так называемого «солидарного финансирования» образовательной деятельности путем привлечения добровольных родительских взнос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в этом механизме расширения каналов финансирования организации участвовали уже практически все сотрудник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позволило не только поддерживать существующий уровень, но и постоянно развивать учебно-материальную базу цент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заимосвязь маркетинга и оргкультур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оме того, привлечение сотрудников к разработке и реализации новых видов деятельности стало одним из условий повышения субъектности коллектива,  направленной на формирование характеристик организационной культуры саморазвивающейся системы: активности и инновационности с принятием персональной ответственности за развитие орган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т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циологические и маркетинговые исследования среди детей, родителей, населения микрорайона служили информационной основой для контроля, анализа, планирования и коррекции деятельности всего коллекти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 эти средства коллективной рефлексии позволяют сравнивать то, как выглядит учреждение в глазах потребителей, с тем как мы хотим выглядеть, и какими видим себ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жно, особенно в первые годы, сформировать позитивный образ нового образовательного центр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ыночные основы деятельности О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фера профессионального, а также дополнительного образования  рыночна по определению, т.к. это зона свободного выбора и самоопределения личности, и может существовать только тогда, когда отвечает на потребности населения и соответствует требованиям рынка труд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нятно, что в таких условиях необходимо повышать конкурентоспособность учреждения и главный здесь ресурс – это люди, коллекти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Крючок» на будущие контак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ервые 3 года коллектив работает на свой имидж, затем имидж начинает работать на коллектив, принося, образно говоря, организационно-психологические дивиденды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ормирование позитивного имиджа организации было одной из управленческих целей в первое время работы центр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то вкладывается в данное понятие, какова его роль в управлении ОО, а главное как заниматься его формированием – это тема отдельного курса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«Технологии повышения привлекательности ОО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одель конкурентоспособной О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одель конкурентоспособной организации включает в себя: конкурентоспособные результаты, на основе конкурентоспособного процесса, построенного на конкурентоспособных условиях, в конечном счете при условии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конкурентоспособного Управления.   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еализованная в период моей управленческой деятельности модель образовательного учреждения ДОД показывает возможность создания и функционирования вполне конкурентоспособного учреждения, в том числе и в условиях ограничений бюджетного финансирования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правленческие факторы влияния на личность и организацию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00200"/>
          <a:ext cx="8507520" cy="4924440"/>
        </p:xfrm>
        <a:graphic>
          <a:graphicData uri="http://schemas.openxmlformats.org/drawingml/2006/table">
            <a:tbl>
              <a:tblPr/>
              <a:tblGrid>
                <a:gridCol w="1522440"/>
                <a:gridCol w="3322440"/>
                <a:gridCol w="3662640"/>
              </a:tblGrid>
              <a:tr h="1158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аракт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риальные стимулы (положительные и отрицательны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оральные стиму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положительные и отрицательны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58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ям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 стимул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ы и прав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жения и приказ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ции и догово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 стимул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ности и нор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жения и приказ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ции и догово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606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све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онно-материальная среда; изменение структуры, функций управляемых элементов;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аркетинговая позиция руководителя; внутренний  и внешний «сервис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социально- психологического климата; обучение персонала, его оценка; культивирование норм и ценностей;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ормирование имиджа организации, реклама и «продвижение» услуг; система «внутренней и внешней» обратной свя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свенные материальные факторы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аркетинговая позиция руководителя играет существенную стимулирующую роль в повышении активность других сотрудников в привлечении дополнительных средств, формировании «рыночного» мышления персонала ОО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ля того, чтобы эффективно реализовать свои цели, организация должна  выстроить «внутренний сервис», как основу формирования «клиентцентрированного внешнего сервиса»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обходимо стремиться добиться такого информационного и организационного положения, которое позволяет не только реализовать ОО свои задачи, но и выполняет функцию рекламно-имиджевой поддержки учреждени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свенные моральные факто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мидж и имиджеобразующая деятельность также приобретают регулятивный характер, оказывают влияние на отношения, поведение и настроения людей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ам образ ОО, который создавался усилиями самих же сотрудников, постепенно приобретает влияние самостоятельного фактора регуляции их поведения и отношения к организации и своей работ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истема «внутренней и внешней» обратной связи играет существенную роль как для эффективности индивидуальной и групповой деятельности (значимый маркетинговый элемент модели конкурентоспособной организации), так и для внутри- и межличностных чувств, состояний и отношений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 основе анализа собственного опы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учитывая данные, представленные в литературе, приходим к выводу, что управление с помощью косвенных средств осуществлять сложнее (в т.ч. по временным затратам и «тонкости» инструмента), но одновременно психологически более эффективно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акое управление позволяет достигать системного синергетического эффекта, оно профессиональней и экономически выгодней, в частности в условиях ограниченности финансовых ресурсо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отдельный элемент данной модели – это организация внебюджетной дея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ормирование такого направления как внебюджетная деятельность в рамках бюджетного образовательного учреждения, прошло в организации, которой я руководил 7 лет, несколько этапов и было, с одной стороны, инициировано мной, с другой – это был ответ на вызов ситуации (1993-2000 г.г.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сновные особенности ситуации тех лет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отсутствие средств даже на текущее функционирование ОО, не говоря о его развити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относительная свобода руководителя ОО при существенных законодательных «прорехах» и отсутствии «удушающего» внимания контрольно-надзорных органов и лояльности руководства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 «просто» родителя и обучающегося к Клиен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на материальной заинтересованности и только с учетом реального спроса, поиск возможностей  удовлетворения реальных потребностей и работа с реальными клиентами, имиджевая и товарная реклама, продвижение своей услуги и организации в целом – все это требовало иных качеств от сотрудников и иного стиля взаимоотношений в организации как по «вертикали», так и по «горизонтали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6T09:09:58Z</dcterms:created>
  <dc:creator>Рашид Минасхатович Гайнутдинов</dc:creator>
  <dc:description/>
  <dc:language>en-US</dc:language>
  <cp:lastModifiedBy>gainutdinova</cp:lastModifiedBy>
  <dcterms:modified xsi:type="dcterms:W3CDTF">2014-02-11T14:27:31Z</dcterms:modified>
  <cp:revision>9</cp:revision>
  <dc:subject/>
  <dc:title>Маркетинг внебюджетной деятельности</dc:title>
</cp:coreProperties>
</file>