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8C0-AE31-431C-B328-9CBE4B4D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705-5328-40B5-98C0-6814523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8A6-EFF2-4CA4-966B-BEDC5AA3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A21-0F2E-4C13-A6D5-E1DE7B0F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757-3713-40F2-B39F-19AC50B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A6E-1B61-417C-93D0-11068015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3EDC-4E37-4AA6-84BF-8F4DA65E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818B-A248-4932-8416-31FFD76B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699D-A0EE-40B4-A028-BBF91AEB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768B-F991-4169-BE04-5CB8437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8E58-9512-4738-88B2-835B6F50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5BE-6FB5-4717-8F89-BD0C6768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3A1C-24D0-4636-A7CA-F95D772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85B1-3438-4B6C-A909-D59EB8B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A75A-7C3D-42F8-BB22-C1DF62D1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9F90-C7A0-4B9F-925B-DBECF4A1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FB8-BD6D-4270-B6A6-60B4372A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457-1D02-4D20-9CBB-E57AE3C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11A-79BF-482D-ADE0-36C415F9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18D-F5D8-4838-A6BC-415944AB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645-A886-4B63-946D-EDDBFF45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001-9404-418F-9ACF-FDEBC881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B37-3014-4C1A-8D62-834678E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03A-4620-45CD-BB26-3E1E568A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2AB8-D534-44E9-8D51-683438134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405-99A5-469C-AE31-98D47A1E1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организаций профессионального образования (ОП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http://im6-tub-ru.yandex.net/i?id=84236651-66-72&amp;n=21"/>
          <p:cNvPicPr/>
          <p:nvPr/>
        </p:nvPicPr>
        <p:blipFill>
          <a:blip r:embed="rId1"/>
          <a:stretch/>
        </p:blipFill>
        <p:spPr>
          <a:xfrm>
            <a:off x="5651640" y="1700280"/>
            <a:ext cx="2808000" cy="23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студентом, родителем, потенциальным сотрудником, работодателем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интервью президента гр. компаний Cognitive Technologies Ольги Уск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мы всегда, даже в тяжелые времена, «держали» кафедры 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Физтехе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ИСиС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ели научную работу и читали в университет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нас есть жесткая рекомендация для подразделений ― 15% штата комплектовать стажерами из числа студен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жер ― это напряжение. Но те, кто не тратит силы на стажеров, потом испытывают кадровые сложности. Лучшие кадры выращиваются у себ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9-2010-х годах по нескольким проектам скорость экономического роста сильно выросла, потребовалось много людей, поэтому мы вложились системно ― я пошла в МИСиС уже завкафедрой. Теперь освежаем кадры систематиче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 Усково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х систем мотивации я ни разу не видела. Все, что ты можешь сделать для своих партнеров и сотрудников, ― это минимально их трогать, дать возможность шев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тяжелое ― когда ты можешь, а тебе не дают. Когда тебе дают, а ты не можешь, ― это тоже тяжело, но такого человека не так жалко. А когда он может, а ему не дают ― вот это пробл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2060280"/>
            <a:ext cx="5483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в группах разработайте проекты формирования ММ сотрудников ОП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в т.ч. ОП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ПО; 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http://im2-tub-ru.yandex.net/i?id=5018066-70-72&amp;n=21"/>
          <p:cNvPicPr/>
          <p:nvPr/>
        </p:nvPicPr>
        <p:blipFill>
          <a:blip r:embed="rId1"/>
          <a:stretch/>
        </p:blipFill>
        <p:spPr>
          <a:xfrm>
            <a:off x="34920" y="0"/>
            <a:ext cx="1944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П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профессионализации и социализации выпускн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профессиональные и социальные компетенции, позволяющие ему жить и функционировать в качестве члена об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СПО, соучастия в ее делах, столь важное в наше время чувство социальной принадлежности, позволяет обнаружить то, что отличает сотрудников вашей ОО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профессиональным образовательным организациям (ОП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ОСП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ПО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СПО в обязательном порядке должен быть согласован с субъектами 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979640" y="549000"/>
            <a:ext cx="662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http://im2-tub-ru.yandex.net/i?id=171394413-58-72&amp;n=21"/>
          <p:cNvPicPr/>
          <p:nvPr/>
        </p:nvPicPr>
        <p:blipFill>
          <a:blip r:embed="rId1"/>
          <a:stretch/>
        </p:blipFill>
        <p:spPr>
          <a:xfrm>
            <a:off x="155520" y="1916280"/>
            <a:ext cx="175248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П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О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родвинуть ваш продукт (обр. услугу и выпускника) на рынок (рынок ОУ и рынок труда), вам нужно так описать его, чтобы люди, которым вы его предлагаете (абитуриенты и их родители, а также работодатели), могли ясно понять, что Это и как Это отвечает их потребностям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ветствует ли ваш продукт/услуга потребностям вашей целевой группы (какой?) по качеству и удовлетворяет ли он ее специфические потреб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 (сформулируйте 2-3 показателя, вычислите их и сравните с показателями своих коллег/конкурентов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im2-tub-ru.yandex.net/i?id=27149425-18-72&amp;n=21"/>
          <p:cNvPicPr/>
          <p:nvPr/>
        </p:nvPicPr>
        <p:blipFill>
          <a:blip r:embed="rId1"/>
          <a:stretch/>
        </p:blipFill>
        <p:spPr>
          <a:xfrm>
            <a:off x="0" y="28440"/>
            <a:ext cx="2627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0" y="274680"/>
            <a:ext cx="64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560" y="1628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ММ, профессионализма, взаимоуважения и вовлеченнос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Любой контакт вашей организации с внешним мир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проф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ПО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щий уровень развития и уровень квалификации студентов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лиен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Кто у нас его Величество Клиен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im7-tub-ru.yandex.net/i?id=414655962-68-72&amp;n=21"/>
          <p:cNvPicPr/>
          <p:nvPr/>
        </p:nvPicPr>
        <p:blipFill>
          <a:blip r:embed="rId1"/>
          <a:stretch/>
        </p:blipFill>
        <p:spPr>
          <a:xfrm>
            <a:off x="155520" y="44280"/>
            <a:ext cx="14288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масте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Т, возможных и реальных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П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07920"/>
          <a:ext cx="8459640" cy="5492880"/>
        </p:xfrm>
        <a:graphic>
          <a:graphicData uri="http://schemas.openxmlformats.org/drawingml/2006/table">
            <a:tbl>
              <a:tblPr/>
              <a:tblGrid>
                <a:gridCol w="2428920"/>
                <a:gridCol w="2897280"/>
                <a:gridCol w="3133440"/>
              </a:tblGrid>
              <a:tr h="64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П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П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ПОО, например,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её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НП, или активности соседней П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4271"/>
                </a:solidFill>
                <a:latin typeface="Calibri"/>
              </a:rPr>
              <a:t>Критерии анализа ресурсов П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уникальностью местоположения, эффективным образовательным процессом, сотрудничеством с бизнес-структурами и наличием базы для полноценной практики, хорошей МТБ, обеспечивают повышенные разряды выпускников СПО и их трудоустройство, готовностью педколлектива работать со студентами с ОВЗ и п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профессиональной образовательной организации, освоить технологии работы со студента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сколько менеджмент ОО осознает сильные и слабые стороны своей организации, управляет ими для повышения результативности и снижения затратности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, в т.ч. при  позиционировании и продвижении своей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студентов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ПОО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и абитуриенты) при выборе П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: мастеров, педагог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стойчивые, конструктивные связи с работодателями и наличие базы для прак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: лаборатории, мастерские, с наличием соответствующего оборуд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быта и учебы: благоустроенное общежитие, столовая, спортивный и актовый залы, укомплектованные соответствующим оборудованием, для активного проведения занятий и досуга студент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подходов, способствующих формированию профессиональных и личностных компетенций;  оптимальное сочетание общеобразовательной и профессиональной, урочной и производственной деятельности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способность коллектива к инновациям; признание в проф. сообществе…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миджевые факторы, в т.ч. связанные с  информированием и продвижением (сайт, СМИ, иные ИК технологии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проектных групп…;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широкий выбор дополнительных программ профессионального образов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бное месторасполож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й ПОО могут стать или уже являются факторами успех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ФУ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ПО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для П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ПОО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ПОО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ПО и потребителя (студента/ро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обучающимся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отребности мы помогаем им удовлетворять в ОПО?  Наши возмож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гментирование рынка (какая группа потенциально является нашими потребителями, каков их соц.-дем. портрет и псих. особенности, особенности их потребительского поведени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зиционирование ПОО: в чем мы сильны, каковы наши особенности и приоритеты, какие потребности с точки зрения клиентов мы можем удовлетворять, чем мы можем быть интересны выпускникам школ, их родителям, работодателям…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, на основе 1-5 шаг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(т.е. достижимые, совпадающие с интересами потребителя и сильными сторонами ПОО, в тоже время содержащие вызов) цели организ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(миссии, видения будущего своей ПОО) и определенных целей маркетинговой стратегии начинается оперативное маркетинговое планирован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П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работодателя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студентов, родителей, социальных партнеров, коллег; а также потребителей их «товара»: Вузов, субъектов рынка труда – работод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ю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ПОО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ОСП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ориентационная работа с ООШ, СО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МИ, Интерне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образовательной организации, поздравительных открыток, благодарственных писем родител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, днях трудоустройства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профессии, Новый год, Последний звонок, День рождения П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ПОО и соответствия разработанной стратегии развития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ПОО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енности ОСП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ыявленные в групповой работе), которые влияют на маркетинговую стратегию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im4-tub-ru.yandex.net/i?id=1916380-08-72&amp;n=21"/>
          <p:cNvPicPr/>
          <p:nvPr/>
        </p:nvPicPr>
        <p:blipFill>
          <a:blip r:embed="rId1"/>
          <a:stretch/>
        </p:blipFill>
        <p:spPr>
          <a:xfrm>
            <a:off x="3564000" y="2637000"/>
            <a:ext cx="252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работодателей, выпускник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студентам, родителям, выпускникам, гостям П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собствен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П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ОУ может существенную роль играть его Попечительский совет, важнейшей функцией которого является лоббирование интересов П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обеспечение плана набора/конкурс на отдельные професси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рос на выпускников профессионального ОУ со стороны крупных, работодател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ПОО, элементах имиджа ОО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ОСП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освоения профессии и социализа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уденто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ключевых профессиональных и социальных компетенций для адаптации их к производству и успешной интеграции в обще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ОС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ОП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34:48Z</dcterms:modified>
  <cp:revision>85</cp:revision>
  <dc:subject/>
  <dc:title>Технологии повышения привлекательности  образовательной организации</dc:title>
</cp:coreProperties>
</file>