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28D4-91E3-4A0A-95EB-44C2CB77BE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54DC-46DB-4E01-84A8-F6009514BC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232B-8F11-4B0D-930A-A4981F53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E428-5B71-4F64-A59A-12C0E788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472C-6D0A-402C-B274-0E4AF1E1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BAEC-E9E9-400C-BC1F-63843307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D2DA-3CF5-40D6-9F73-0CCBB8C4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C7B2-F118-41A2-8B38-8E59A451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52D9-F057-4ABC-80ED-5BCC403A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995F-5A48-4DCF-90E7-35A01DB7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E30A-ACD2-4768-AEC1-A17A87BB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ECA6-A0FF-49E1-AD7B-22B119D7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1F51-5365-4A2C-B7DD-EC37F861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18B1-BBC3-4C4A-8775-DF0D2607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8FF9-610C-4E35-82C4-D5C60759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347D-0D75-46A6-88AB-2FD87316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730B-7745-4414-99D6-13E6075A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FAB5-10FC-436E-86C9-B60E051D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E6D0-B65F-47A1-9A99-D13CA100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A1AC-9FD1-4616-A1F4-3EDE06D7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8B4D-1439-4A13-BC36-FC8C9873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00CE-343E-4B71-AA46-6951308F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855A-3B5A-4E9A-8812-D182EAB9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4D2D-CF31-47D9-8833-C0F86A35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2443-C900-4C8D-8A22-32867E0B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CA3-A2A5-4346-8090-EDB6F0F8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1940-9A3F-4E5C-A19F-1F5FF12B86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AA5C-8CE6-4EFF-87C6-B8A91EDD8B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87;&#1086;&#1074;&#1099;&#1096;&#1077;&#1085;&#1080;&#1077;%20&#1087;&#1088;&#1080;&#1074;&#1083;&#1077;&#1082;&#1072;&#1090;&#1077;&#1083;&#1100;&#1085;&#1086;&#1089;&#1090;&#1080;%20&#1096;&#1082;&#1086;&#1083;&#1099;&amp;fp=0&amp;img_url=http%3A%2F%2Ftrud22.ru%2Ffiles%2Ffck%2FImage%2Fnews%2FVOL_8146_.jpg&amp;pos=22&amp;rpt=simage&amp;lr=1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fp=1&amp;img_url=http%3A%2F%2Fozvest.ru%2Fwp-content%2Fuploads%2F2013%2F02%2Fgagarina_4-300x200.jpg&amp;uinfo=ww-1010-wh-564-fw-785-fh-448-pd-1&amp;p=1&amp;text=&#1087;&#1086;&#1074;&#1099;&#1096;&#1077;&#1085;&#1080;&#1077;%20&#1087;&#1088;&#1080;&#1074;&#1083;&#1077;&#1082;&#1072;&#1090;&#1077;&#1083;&#1100;&#1085;&#1086;&#1089;&#1090;&#1080;%20&#1096;&#1082;&#1086;&#1083;&#1099;&amp;pos=41&amp;lr=16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765000"/>
            <a:ext cx="640872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Основы маркетинга  и маркетинговой стратегии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айнутдинов Рашид Минасхат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доцент кафедры менеджм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ОАУ ЯО ИРО, к.пс. на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http://im2-tub-ru.yandex.net/i?id=13684312-6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42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и повышение привлекательности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267920"/>
            <a:ext cx="8507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сть способов воздействия на клиента принято называть маркетинговыми коммуникациями или интегрированными маркетинговыми коммуникациями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ще всего к ним относя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кла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связи с общественностью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моушн (продвиж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я думаю, что все, что воздействует на потребителя (потенциального в т.ч.) можно отнести в широком смысле слова 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т улыбки вахтера и гардеробщицы до запахов в туалет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всего вы должны научиться думать, как клиент и смотреть на свою организацию и её услуги глазами кли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привлекатель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0920" y="1341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ность ОО привлекать расположение и позитивное внимание со стороны учредителя и потенциальных/реальных пользователей образовательных услуг (обучения, воспитания, социализации): детей, родителей, социальных партнеров, коллег; а также потребителей их «товара»: УПО, субъектов рынка труда – работод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оложение может выражаться в таких формах как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56000" y="1699920"/>
            <a:ext cx="613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абильно позитивный имидж организаци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рост  контингент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олее высокие уровни инвестиций (внимания, финансов) со стороны учредителя, спонсоров, работодателя, родителе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верие и готовность к сотрудничеству со стороны социальных партнеров, в т.ч. УПО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im2-tub-ru.yandex.net/i?id=508414093-4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421000"/>
            <a:ext cx="22986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ниматься маркетингом означает все врем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03280" y="2060280"/>
            <a:ext cx="5483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мать о своем клие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ть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еть потребности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о радовать е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im4-tub-ru.yandex.net/i?id=126237263-58-72&amp;n=21"/>
          <p:cNvPicPr/>
          <p:nvPr/>
        </p:nvPicPr>
        <p:blipFill>
          <a:blip r:embed="rId1"/>
          <a:stretch/>
        </p:blipFill>
        <p:spPr>
          <a:xfrm>
            <a:off x="0" y="907920"/>
            <a:ext cx="291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ентоориентирован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вся организация «заражена» клиентоманией, то ее называют клиенто-ориентированной. Здесь буквально все рассматривают только с одной позиции — с позиции Клиент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 – это незримое присутствие Клиента буквально везде в организ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поративное маркетинговое мышление само собой не возникает, его нужно воспитывать и разви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йте подумаем как это следует делать в ваших конкретных условиях: 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в группах разработайте мини-проекты средств формирования ММ сотрудников ОО - 20 мину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ссия – это «визитная карточка»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должна быть привлекательна, понятна для всех, кто может воспользоваться образовательными услугами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ключевым вопросом для определения миссии является «Кому и зачем все это нужно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оптимально сформулировать миссию своей организации, желательно найти ответы на несколько вопросов «зачем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чем это учреждение учредителя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 на этот вопрос помогает понять ожидания учредителей и учесть их в выборе развития ОО; с одной стороны, сохранить свое лицо, с другой – быть в русле изменений, происходящих в системе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ая миссия ОО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условий для успешной социализации (в широком смысле слова) ребенка (человек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социализации представляет собой совокупность всех социальных процессов, благодаря которым индивид усваивает определенную систему норм и ценностей, осваивает необходимые компетенции, позволяющие ему жить и функционировать в качестве члена об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, семья, ДОУ, УДО, УПО – все работают на решение указанной цели, но каждый из этих институтов делает это с помощью только ему присущих средст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 – это инвариантная часть государственных институтов социализации ребенка, обеспечивающая временную и пространственную преемственность и взаимосвязь поколений и регион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Внешкольные образовательные учреждения (ДОО; ОДО; ОПО)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вариативная часть государственно-общественных институтов социализации ребенк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ни призваны создавать условия для обеспечения современного для данного общества и актуального для данной личности целостного ее развития (от раннего дошкольного, до профессиональной подготовки в зрелом возрасте); «достраивания» путем предоставления ей выбора и создания «территории успеха»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необходимости оказывают социально-психологическую поддержку и осуществляют психолого-педагогическую коррекцию и реабилитацию ребенк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упповое обсужд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Что такое маркетинг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Зачем он нужен образовательным организациям (ОО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Какие у ОО существуют возможности и ограничения для осуществления данной деятельно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ем это образовательное учреждение обществу (социуму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едшие ответ на этот вопрос получают массу серьезных преимуществ. В первую очередь — точное понимание клиента, тех, на кого ориентирована их деятельность, а также определение того, что и как предлагается в ответ на его за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чем эта организация людям, которые в ней работаю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ный поиск ответа на этот вопрос помогает создать атмосферу сопричастности ко всему происходящему в школе, соучастия в ее делах, столь важное в наше время чувство социальной принадлежности, позволяет обнаружить то, что отличает сотрудников вашей ОО от оста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 на эти вопросы позволя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ссию ОО образно представить как «флаг», который нужен для ее презентации внешнему миру (в первую очередь клиентам), и, в то же время, «знамя», под которое собираются люди, чтобы сплоченной командой воплощать в жизнь дела, которых ждет от ОО внешний ми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о отметить, что выбор миссии ОО в обязательном порядке должен быть согласован с субъектами муниципальной/региональной  системы образования, которые выражают интересы всего населения данной территор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Попытайтесь сформулировать миссию своей организ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ссия всегда индивидуальна, уникальна, неординарна, в ней заключена основная «изюминка», образ «новизны», неповторимости коллектива, предназначение ОО в мире в целом, и в мире образования, в час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 из задач ОО – снизить «прессинг инкультурации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котором говорит А.Маслоу, приводящий к фрустрации и ограничениям естественного права ребенка на развитие в процессе социализ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рессинг инкультурации, т.е. воспитания, дисциплины, формирования социальных навыков, подготовки к будущей взрослой жизни, осознания потребностей и желаний других людей в какой-то степени, разумеется, необходим, но процесс воспитания перестанет раздражать нас и ребенка только тогда, когда его будет окружать атмосфера приязни, любви и уважения друг к друг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ное выражение миссии центра «Л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4000" y="105264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Уверенность в будущем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 в настоящем!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 стремится к тому, чтобы дети и взрослые получал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д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 деятельности и общения с нами и друг с другом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егод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благодаря усвоению полезных знаний и навыков, а также иным средствам и механизмам социализации увеличивали бы шансы на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вере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собственном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будущ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ЛАД» это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чность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птация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уг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ственное имя центра «ЛАД» указывает не только на приоритет социально-психологических отношений в коллективе сотрудников и детей, но является аббревиатурой основного предназначения данной О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свободного времени (радость в настоящем!) для развития личности с целью повышения ее адаптивных качеств (уверенность в будущем!) в атмосфере принятия друг друга и взаимоуважения (лада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шняя функция ми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яет определить статус ОУ, его имидж, так как различные виды и варианты ОО существенно отличаются друг от друга именно по принимаемой на себя мисс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сно заявляя о своей миссии, ОУ как бы предъявляет потенциальным заказчикам, клиентам, партнерам свою визитную карточку, что очень важно для установления будущих отношений социального партне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четании с ясно сформулированной миссией девиз можно поместить «снаружи», чтобы дать клиентам и работодателям первоначальное представление о том, чего можно ждать от этой шко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если ясно сформулированной миссии нет, девиз вскоре может превратиться в пустую, бесполезную фра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овы средства маркетин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пция 4 П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укт (особенности и конкурентные преимущества предлагаемых услуг или товар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ажная цена (затраты, которые несет общество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вижение (реклама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ребители (особенности сегмен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П (к 4 П добавляются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ство (образовательный процесс: содержание и технологи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сонал (качество и приверженнос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понятия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ид человеческой деятельности, направленной на удовлетворение нужд и потребностей посредством обмена» (Ф.Котлер). Существует более 2000 определ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предлагаем 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в сфере 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згляд 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ую организацию и её персонал)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цес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базовый бизнес процесс - образовательный)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ый, включающий обученность и воспитанность ребенка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точки зрения его Потребител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Клиен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ук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ш продукт (это качество образовательных услуг и «товара») есть нечто ценное, что есть у вас и что вы можете обменять на то, что нужно вам – содержание и развитие О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бы продвинуть ваш продукт на рынок, вам нужно так описать его, чтобы люди, которым вы его предлагаете (в первую очередь ЛПР о выборе или смене ОО - родители), могли ясно понять, что Это и как Это отвечает их потребностям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ответствует ли ваш продукт потребностям вашей целевой группы по качеству и удовлетворяет ли он ее специфические потреб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а/зат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имость произведенной услуги на 1 обучающегося (сформулируйте 2-3 показателя, вычислите их и сравните с показателями своих коллег/конкурент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траты здоровья персонала, детей и родителей на то качество услуг («товара»), которое обеспечивается в процессе совместного «производств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и данные практически не учитываются, однако мы все понимаем, что можно одного и того же результата добиваться за счет сверхусилий персонала и напряженных отношений с родителями и детьми, а можно за счет энергии вовлеченности и сотрудничества, возникающей в условиях сильной ОК субъектного ти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виж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362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епень использования маркетинговых коммуникаций в О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:..; Интернет: сайт, соц. сети; эвент (со-быти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…Интернет: сайт, соц. сети; эвент (со-быти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формирование:…Интернет: сайт, соц. сет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утренний маркетинг: формирование ОК субъектного типа;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требител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ментирование, знание особенностей и предпочтений потенциального и реального контингента, а также ЛПР (лица принимающего решения): родителя и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успеха - знание потребителя, его возможностей и огранич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ство – образовательный 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и соответствие поставленным целям со сторо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а (ФГОС)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ода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сон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трудники должны обладать маркетинговым мышлением, быть профессионально готовыми к достижению поставленных целей, удовлетворению спроса на обеспечение качества образования (пример, стандарт учител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нобрнауки.рф/%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0%B4%D0%BE%D0%BA%D1%83%D0%BC%D0%B5%D0%BD%D1%82%D1%8B/307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ОО: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общее, особенное, уникально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907920"/>
          <a:ext cx="8229600" cy="5739120"/>
        </p:xfrm>
        <a:graphic>
          <a:graphicData uri="http://schemas.openxmlformats.org/drawingml/2006/table">
            <a:tbl>
              <a:tblPr/>
              <a:tblGrid>
                <a:gridCol w="1917720"/>
                <a:gridCol w="1361880"/>
                <a:gridCol w="2475000"/>
                <a:gridCol w="2475000"/>
              </a:tblGrid>
              <a:tr h="72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ее для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обенное для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никальное для конкретной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6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апы маркетинговой стратег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6 шагов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работка образа организации и концепции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внешней сред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конкурен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потребител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собственной ситуации, позиционирование организации на рынке образовательных услу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улирование целей и разработка стратегии и тактики комплекса маркетинга и маркетинговых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1. Образ ОО – его куль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в в вашем представлении желаемый образ ОО, например, в 2015 год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гда внешнее представление о вашей организации совпадает с представлением о нем сотрудников (внешний и внутренний маркетинг), меры по формированию индивидуальности ОО, а значит, и сама деятельность учреждения будут эффектив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ффективными становятся те ОО, которым удается создать долговременные конкурентные преимущества благодаря культуре управления (они в отличие от технических ноу-хау имеют большую защищенность от повторения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2. Диагностиче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нализ внешней среды и его основные инструмен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ключевых вопросов: кто? что? зачем? где? чем? как? когда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O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 -  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Е - матрица стратегического положения и оценки действий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old.acconcept.ru/strategy/space.html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PEST-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составления профиля среды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bibliotekar.ru/upravlenie-4/42.htm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VRIO анализ  Дж. Барни 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creativeconomy.ru/articles/12440/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– это 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лософия бизнеса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ология рыночной деятельности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тегия и тактика поведения на рынке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организации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инструментов повышения эффективности управления чем(кем)-либ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 маркетинг ни в коем случае не представляет собой манипулирования клиентам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ческие методы анализа реальной позиции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1557000"/>
            <a:ext cx="807552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роведения стратегического анализа включает два основных этапа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O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анализ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нализ внешней среды: возможности и угрозы внешних воздейств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 Анализ внутренней среды: сильные и слабые стороны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4271"/>
                </a:solidFill>
                <a:latin typeface="Calibri"/>
              </a:rPr>
              <a:t>VRIO анализ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разработанны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ж. Барни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 для анализа ресурсов и  способностей, определения их ценности и эффективности исполь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Ценность (valu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озволяют ли фирме ресурсы и способности использовать внешние возможности (например использование инноваций или участие в конкурсах и получение грантов) и нейтрализовать угрозы (например, угрозу резкого снижения контингента в силу потери ликвидации экономических субъектов в данном НП, или активности соседнего ОУ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дкость (rarenes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колько конкурентов обладают аналогичными ресурсами и способностями (например, природной уникальностью и местоположением; наличием редких специалистов и опытом; эффективным образовательным процессом; хорошей МТБ; готовностью педколлектива работать с детьми с ОВЗ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ида и пр.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оспроизводимость (imitability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насколько сложно и дорого получить доступ к данным ресурсам и способностям, использовать  их в текущей образовательной деятельности (например, возможно ли быстро организовать учебный процесс на современном уровне, осуществить модернизацию учебного процесса в соответствии с требованиями ФГОС; повысить имидж образовательного учреждения; освоить педтехнологии работы с детьми с ОВЗ и др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рганизованность (organization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 полной ли мере ОУ задействует эти ресурсы и способности для реализации своего конкурентного потенци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блема может быть в том, что ресурсы образовательного учреждения могут быть никак не задействованы в образовательном процессе, либо не используются или неправильно используются при  позиционировании и продвижении своей организаци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3. Анализ конкурентов (бенчмаркинг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сильные и слабые стороны существующих и потенциальных конкурентов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какую сферу образовательной деятельности не стоит вторгаться в связи с сильными позициями там других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«ахиллесова пята» вашего основного конкурент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жет быть вам лучше наладить сотрудничество, чем конкурировать с конкретными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акторы успеха (Ф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утренние достижения ОО, не проявляющиеся на рынке непосредственным образом, например, владение новейшими педтехнологиями, активная методическая работа, инновационная активность коллектива, квалификация и дисциплина персонала, хорошо поставленный документооборот… - все это очень важно, но большинство родителей, да и детей могут об этом даже не догадываться, более того – им это не интересн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удить об ОО они будут по тем достоинствам, которые доходят до них непосредственно и являются для них потребительской ценность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акторы успеха могут переходить в конкурентные преимущества, а могут оставаться лишь внутренним достоянием организации, зато очень важным и необходимым для порождения конкурентных преимуще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даже утверждать, что любое конкурентное преимущество ОУ коренится в определенных факторах успеха организ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кус конкуренции (Ф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кус конкуренции – это приоритеты, которыми пользуются клиенты (родители прежде всего) при выборе ОУ или принятии решения о его с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конкурентные преимущества ОО вырабатывают сами, то фокус конкуренции – это критерии, которые вырабатывает потребитель навстречу этим К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пы ФУ и их составляющие</a:t>
            </a:r>
            <a:r>
              <a:rPr b="0" lang="ru-RU" sz="4000" spc="-1" strike="noStrike">
                <a:solidFill>
                  <a:srgbClr val="ccc1da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квалификацией и личностными особенностями педагогического персонала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технологиями: компетентность в новых проектных, исследовательских технологиях; способность к инновациям; роль экспертов в данной технологии; признание в проф. сообществе…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Наличие МТБ, обеспечивающей современные возможности освоения ФГОС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образовательным процессом:  реализация системно-деятельностного подхода при формировании УУД, метапредметных, личностных компетенций;  оптимальное сочетание урочной и внеурочной деятельности…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 информированием и продвижением (сайт, СМИ, иные ИК технологии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компетентностью в управлении и наличие управляющих ноу-хау (например, изменение оргструктуры; формирование классов переменного состава…;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 информированием и продвижением услуг и имиджа ОО (свой сайт, СМИ, информационные листки, встречи с родителями…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Подумайте и конкретизируйте, какие факторы вашего ДОО могут стать или уже являются факторами успех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игрыш – выигрыш; выигрыш-потеря или потеря - поте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 – это обеспечение для ОО и потребителя (родителя/школы) ситуации «выигрыш-выигры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ям (и детям) нужны не образовательные услуги как таковые, а удовлетворенные потребности и решенные пробле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потребности мы помогаем им удовлетворя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проблемы помогаем реш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курентные преимущества (К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те достижения ОО, факторы успеха, которые попадают в фокус конкуренции и обеспечивают конкурентные преимуществ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П (или ключевые факторы успеха) не только напрямую воспринимаются и оцениваются клиентами, но являются дифференцирующими признаками их потребительского выб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ркетологи ещё иногда называют их «продающими моментам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м больше у вас продающих моментов, тем лучш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по вертикали впишите характеристику элементов ММ ОО и б) по графам произведите оценку своих О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981000"/>
          <a:ext cx="8964720" cy="5543640"/>
        </p:xfrm>
        <a:graphic>
          <a:graphicData uri="http://schemas.openxmlformats.org/drawingml/2006/table">
            <a:tbl>
              <a:tblPr/>
              <a:tblGrid>
                <a:gridCol w="1979640"/>
                <a:gridCol w="1606680"/>
                <a:gridCol w="1792080"/>
                <a:gridCol w="1792440"/>
                <a:gridCol w="1793880"/>
              </a:tblGrid>
              <a:tr h="13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ы маркетинг-мик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кальное конкурентное преиму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му уровню  по региону/рай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/допустимый  уров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 изменя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ttp://im1-tub-ru.yandex.net/i?id=441066139-02-72&amp;n=21"/>
          <p:cNvPicPr/>
          <p:nvPr/>
        </p:nvPicPr>
        <p:blipFill>
          <a:blip r:embed="rId1"/>
          <a:stretch/>
        </p:blipFill>
        <p:spPr>
          <a:xfrm>
            <a:off x="0" y="0"/>
            <a:ext cx="3059280" cy="3141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5627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 конкурентному преимуществ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92000" y="1700280"/>
            <a:ext cx="6994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гут относиться все перечисленные выше факторы, позволяющие успешно конкурировать на рынке и побеждать в конкурентной борьб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группах подготовьте свои суждени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в настоящий момент в фокусе конкуренции на рынке ОУ в крупных городах (НШ, СШ; УДО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что будет сдвигаться ФК в недалеком будущем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попадет в ФК в дальней перспектив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4. Анализ потреб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341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бы добиться успеха, думай не о себе, а о другом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гментирование рынка (какая группа потенциально является нашими потребителями, каков их соц.-дем. портрет и псих. особенности, особенности их потребительского поведения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учетом данных о состоянии рынка образовательных услуг необходимо анализировать сильные и слабые стороны своего учреждения, выявлять потребности, прогнозировать тенденции, искать сильные позиции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5. Анализ собственной ситуации и определение позиции на ры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десь надо ответить на вопрос: «Что нам мешает в данный момент удовлетворить образовательные потребности наших клиентов лучше, чем конкурент?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зиционирование ОО: в чем мы сильны, каковы наши особенности и приоритеты, какие потребности с точки зрения клиентов мы можем удовлетворять, чем мы можем быть интересны родителям, детям, партерам...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десь осуществляется переход от аналитического раздела к практической разработке стратег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ормируется ориентация на перспективные направления рынка ОУ, на основе 1-5 шаг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6. Формируется маркетинговая стратегия и тактика О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предыдущих шагов формулируются конкретные, мотивационные цели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разработанных концепций и определенных целей маркетинговой стратегии начинается оперативное маркетинговое планир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мечаете комплекс маркетинговых мероприятий, в т.ч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продв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blic Relation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вязи с обществен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ытия/мероприятия  (ивент/эв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http://im4-tub-ru.yandex.net/i?id=194040097-71-72&amp;n=21"/>
          <p:cNvPicPr/>
          <p:nvPr/>
        </p:nvPicPr>
        <p:blipFill>
          <a:blip r:embed="rId1"/>
          <a:stretch/>
        </p:blipFill>
        <p:spPr>
          <a:xfrm>
            <a:off x="155520" y="0"/>
            <a:ext cx="14288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ительно к ОУ – это попытка удовлетворить интерес к нему и его услугам путем передачи имеющейся информации через различные каналы, организация общественного мнения в целях повышения репутации и привлекательности организации в глазах потребителей, работодателя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разместить информацию в С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12500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ществует мнение, что разместить информацию об ОО можно только за деньги. Это часто верно, но не всег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в ОО происходят социально значимые события, интересные за пределами школы – это может вызвать интерес журналистов газет и Т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бщить о событиях можно рассылая пресс-релизы в печатные, электронные и ТВ С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главии пресс-релиза необходимо обязательно указать: кто проводит мероприятие, для кого и с какой целью, место и сроки пр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е содержание д.б. посвящено краткому описанию структуры и содержания меропри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аписании текста нужно использовать те слова и выражения, которые не требуют от читателя знания специальных пед. зн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яду с рассылкой пресс-релизов необходимо лично приглашать журналистов (легче районных и городских, сложней региональных и федеральны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глашение представителей ТВ потребует наибольшей предварительной подготовки со стороны О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а работы с Т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чале работы корреспондента уточните, в какой передаче и в какой рубрике будет представлен ваш материал, сколько времени в эфире займет рассказ. Важно узнать, сколько по времени и как планируют снимать сюжет, согласуйте свои предложения с планами журналис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у бригады ограниченное, поэтому смогут уделить вашей школе ограниченное время. Заранее определите ответственного, кто будет сопровождать корреспондента, комментировать происходящее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жите корреспонденту и оператору наиболее яркие моменты праздника, события. ТВ это прежде всего динамичная карти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476000" y="981000"/>
            <a:ext cx="67532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йте в группах особенности работы  ваших ОО, которые, с вашей точки зрения, важно учесть при использовании маркетингового подхода в управлен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умайте о постановочных кадр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все события можно запечатлеть в реальном времени и тем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вполне уместно будет попросить участников специально для ТВ спеть песню, поиграть в игру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приезд журналистов и создание постановочного сюжета не мешали проведению 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репортаж предполагает выступ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анее подготовьте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текст был кратким, содержательным и понятным любому челове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тветах на вопросы интервью будьте краткими и отвечайте без длинных вводных фраз – это все равно выреж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завершение работы с корреспонден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учите ему пресс-релиз, в котором будет описано прошедшее событие, а также имена, отчества, фамилии и должности всех, кто был активным участником репортаж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попросить проверить Ф.и.о., должности участников, которые корреспондент мог записать на слух с ошибками, неточностя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точните время выхода репортажа и договоритесь о возможности переписать итоговый репортаж и черновой материал для архива учреждения (его надо использовать для других мероприятий, выложить на сай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и странно, но это также вполне привыч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ьские собра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 жителями микрорайо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скими садами по работе с будущими первоклассник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спонсорами, с шефами, с работодателями, депутат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08000" y="0"/>
          <a:ext cx="9036000" cy="6800760"/>
        </p:xfrm>
        <a:graphic>
          <a:graphicData uri="http://schemas.openxmlformats.org/drawingml/2006/table">
            <a:tbl>
              <a:tblPr/>
              <a:tblGrid>
                <a:gridCol w="1047600"/>
                <a:gridCol w="1141560"/>
                <a:gridCol w="1141200"/>
                <a:gridCol w="1140120"/>
                <a:gridCol w="1141200"/>
                <a:gridCol w="1141560"/>
                <a:gridCol w="1141200"/>
                <a:gridCol w="1141560"/>
              </a:tblGrid>
              <a:tr h="1618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уп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одич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та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требова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сбоев в передаче инф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тратность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ая встреч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ка объяв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мят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р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3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и С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ямая (адресная) почтовая рассыл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жегодная рассылка бывшим выпускникам красочно оформленных календарей с символикой школы, поздравительных открыток, благодарственных писем родител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ставки и семина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остранение рекламной продукции, касающейся основной деятельности ОО во время проведения и участия в конференциях, выставках и др. массовых мероприят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ежегодной презентации в различных районах города, на площадках других учреждений, приурочивание проведения презентаций к большим праздникам: день района/улицы/города, День учителя, Новый год, Последний звонок, День рождения школы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талоги и букл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одителей, партнеров, попечителей, спонсоров необходима правильная расстановка акцентов, но при этом не стоит забывать об учете сложившегося имиджа школы и соответствия разработанной стратегии развития 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кламные щиты и наружная рекл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необходимого согласования (ГИБДД, администрация, собственник, отдел рекламы) можно использовать имеющийся автобус, штендеры или растяжки на территории школы, её фасаде, а также на оживленных перекрестках, пешеходных зонах в пар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обенности О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ыявленные в групповой работе), которые могут влиять на маркетинговую стратегию О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лефонный маркетинг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ведение телефонного анкетирования среди родителей, попечителей, спонсоров и т.п. накануне нового учебного года или его оконч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ирменные сувениры: вручение детям, родителям, выпускникам, гостям школы ручек, календариков, поделок воспитанников и т.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зитные карточки, методическая литература с рекламой школы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 в школьных С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ль ого управления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формировании положительного образа ОУ может существенную роль играть его Попечительский совет, важнейшей функцией которого является лоббирование интересов О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уководители, правильно понимающие значение данного органа, активно привлекают к его работе родителей, депутатов, представителей общественных организаций, бизнесменов и т.п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в рамках его деятельности крайне важно проводить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акции, привлекающие внимание, а затем, возможно, и финансы, для О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ценка эффективности маркетинг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я численности контингента на фоне демографических изменений района; обеспечение плана набора/конкурс на отдельные професс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й характеристик имиджа ОО: узнаваемости и привлекательности организации, наличия и оценки имени, «торговой марки», «бренда» О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отиворечивость, конгруэнтность внутреннего и внешнего маркетинга, содержания и формы, адекватность имиджа реа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реализации проекта, позволяющая фиксировать результаты выполненных работ, произошедшие изменения во внутренней культуре школы, элементах имиджа О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енность целевой аудитории теми формами работы, в которые они были вовлече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удовлетворенности работой ОО со стороны: учредителя, родителей, обучающихся, персона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обратной связи в т.ч. неорганизованной (соц. сети, форумы, чаты, блоги…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чем нужна привлекательность ОО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Там, где нет конкуренци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пится лучше, но живется хуже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что нацелен маркетин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ести исследова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пределить целевой рынок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довлетворить потреб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стичь конкурентного преимуще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дача маркетинга быть там, где есть аудитор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если наш сегмент все больше времени проводит в Интернете и социальных сетях, значит и думающим руководителям ОУ следует воспользоваться возможностями этих ресурсов, и одновременно понимать какие угрозы порождает это явлени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1:21:02Z</dcterms:created>
  <dc:creator>gainutdinova</dc:creator>
  <dc:description/>
  <dc:language>en-US</dc:language>
  <cp:lastModifiedBy>Рашид Минасхатович Гайнутдинов</cp:lastModifiedBy>
  <dcterms:modified xsi:type="dcterms:W3CDTF">2014-02-24T10:14:54Z</dcterms:modified>
  <cp:revision>61</cp:revision>
  <dc:subject/>
  <dc:title>Технологии повышения привлекательности  образовательной организации</dc:title>
</cp:coreProperties>
</file>