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34FAB-65C8-4BC4-AE43-4F1C04607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BBDDA-5DA6-43CB-97C4-1BBCAEA6E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80CE4-E2C5-4584-AF18-0ECEF0E16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E2899-5AEC-440A-8863-912809061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FBB15-EBD4-431E-BB63-DCE0A532C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C1EDD-98D4-4821-AA65-CBDBE38F0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A9BB6-AF48-4433-8CF8-99426F6C2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2382C-4484-4CA8-8DFA-93D61C916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68379-E89C-4CE5-9911-0CFD9E180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9166C-FB08-49D2-BD69-B1A23F376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2426C-A280-4160-BA81-07D21F0E0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2FC52-2192-488B-93D1-CEA954998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64D0A-EADE-44FB-8DAB-DD6D213F3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158ED-F853-4DD6-A409-7868F1ED1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215E3-8F29-465D-805B-2B1E185C5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8BD38-4A4D-4FE3-8EBA-D7DE52000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EDA7C-87E9-479A-BE93-7682E57FA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D89A5-9EC6-412B-BCC9-237507548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D8DDC-350C-41AF-9CEA-6D69C8409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AC2EF-1D71-4786-AC57-FC8D33168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464B8-5012-4C6B-BECB-17897D265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2D39D-C600-4634-97FF-DFA3D1C1A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71CEC-E4EF-4F4A-B355-695C17E61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6CBF9-8D95-4C34-83BD-6C9612950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CA5E4-624D-429E-8186-1A757947222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4C79A-C127-4C38-A624-9EAC5A32F3C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source=psearch&amp;text=&#1087;&#1086;&#1074;&#1099;&#1096;&#1077;&#1085;&#1080;&#1077;%20&#1087;&#1088;&#1080;&#1074;&#1083;&#1077;&#1082;&#1072;&#1090;&#1077;&#1083;&#1100;&#1085;&#1086;&#1089;&#1090;&#1080;%20&#1096;&#1082;&#1086;&#1083;&#1099;&amp;fp=0&amp;img_url=http%3A%2F%2Ftrud22.ru%2Ffiles%2Ffck%2FImage%2Fnews%2FVOL_8146_.jpg&amp;pos=22&amp;rpt=simage&amp;lr=16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source=psearch&amp;fp=1&amp;img_url=http%3A%2F%2Fozvest.ru%2Fwp-content%2Fuploads%2F2013%2F02%2Fgagarina_4-300x200.jpg&amp;uinfo=ww-1010-wh-564-fw-785-fh-448-pd-1&amp;p=1&amp;text=&#1087;&#1086;&#1074;&#1099;&#1096;&#1077;&#1085;&#1080;&#1077;%20&#1087;&#1088;&#1080;&#1074;&#1083;&#1077;&#1082;&#1072;&#1090;&#1077;&#1083;&#1100;&#1085;&#1086;&#1089;&#1090;&#1080;%20&#1096;&#1082;&#1086;&#1083;&#1099;&amp;pos=41&amp;lr=16&amp;rpt=simage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340000" y="765000"/>
            <a:ext cx="6408720" cy="283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istral"/>
              </a:rPr>
              <a:t>Основы маркетинга  и маркетинговой стратегии </a:t>
            </a:r>
            <a:r>
              <a:rPr b="0" lang="en-US" sz="4400" spc="-1" strike="noStrike">
                <a:solidFill>
                  <a:srgbClr val="000000"/>
                </a:solidFill>
                <a:latin typeface="Mistral"/>
              </a:rPr>
              <a:t>C(</a:t>
            </a:r>
            <a:r>
              <a:rPr b="0" lang="ru-RU" sz="4400" spc="-1" strike="noStrike">
                <a:solidFill>
                  <a:srgbClr val="000000"/>
                </a:solidFill>
                <a:latin typeface="Mistral"/>
              </a:rPr>
              <a:t>К)ОО; Д/Д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73771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istral"/>
              </a:rPr>
              <a:t>Гайнутдинов Рашид Минасхатови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istral"/>
              </a:rPr>
              <a:t>доцент кафедры менеджмента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istral"/>
              </a:rPr>
              <a:t>ГОАУ ЯО ИРО, к.пс. наук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4" descr="http://im2-tub-ru.yandex.net/i?id=13684312-63-72&amp;n=2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2422440" cy="30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собенности - 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связи с обострившимся вниманием к внутренней жизни в учреждениях интернатного типа, кроме формирования открытости, необходимо особое внимание уделить развитию т.н. внутреннего маркетинга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.е. если мы хотим, чтобы сотрудники были сосредоточены на индивидуализации развития и поддержке детей, необходимо проявить вниманием к потребностям и развитию сотрудников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собенности - 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 детей-сирот, а также детей с ОВЗ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нарушается связь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с: а) социумом, б) культурой как источником развития; в) родителя и ребенка, т.к. взрослый носитель культуры не знает, каким образом передать тот социальный опыт, который каждый нормально развивающийся ребенок приобретает самостоятельн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собенности - 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.к. С(К)ОО имеют дело с большим разнообразием ОВЗ, а Д/д чаще всего с психологически травмированными детьми, значит это требует достаточно глубокой специализации и высокой квалификации кадров, а т.к. с кадрами в РСО вообще туго, то для С(К)ОО и Д/д это сверхсложная проблема, т.к. специалисты такого профиля и уровня зачастую «штучный» товар на Р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Цель маркетинга для С(К)ОО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редствами маркетинга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оздать условия способствующие оптимизации процесса социализации детей с ОВЗ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 основе формирования необходимых базовых навыков в сфере жизнеобеспечения, самообслуживания, социализации, коммуникации и рекреации, для адаптации их к обществу и интеграции (реинтеграции) в общество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79280" y="115920"/>
            <a:ext cx="878544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Средства маркетинга: </a:t>
            </a:r>
            <a:br>
              <a:rPr sz="36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; продвижение; партнерство; внутренний маркетинг; персона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26792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Формирование образа открытой организации, в т.ч. через элементы ГОУ, информационной открытости и активности: взаимодействие со СМИ, ведение своего сайта, использование ресурсов соц. сетей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звитие партнерских отношений: с учреждениями культуры; ОО всех типов: ОДО, ОПО; учреждениями спорта, досуга…; поддержка и инициирование интегративных процессов с социумо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 партнерстве с другими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052640"/>
            <a:ext cx="836280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здание условий для профессионального образования детей, нуждающихся в специальном (коррекционном) образовании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спользование возможностей учреждений дополнительного образования детей для оказания помощи детям с ограниченными возможностями здоровья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звитие системы раннего выявления отклонений в развитии и ранней помощи детям с ОВЗ в рамках межведомственного партнерств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ддержка деятельности общественных организаций, занимающихся оказанием помощи и защитой прав детей, нуждающихся в С(К)О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ограммы поддержки выпускников С(К) О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Развитие партнерства с семье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Формирование отношений с семьей и помощь родителям в освоении приемов и методов работы с детьми с ОВЗ, может быть, в т.ч., через поддержку муниципальных клубов, объединений родителей, имеющих детей с ОВЗ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язательное включение родителей в коррекционный процесс на основе выявления положительных сторон семьи и активизации ее реабилитационного потенциал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Внутренний маркетинг;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развитие персонал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24000" y="1268280"/>
            <a:ext cx="84960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здание условий труда и отдыха, способствующих «ребенкоориентированности» сотрудников (внутренний маркетинг), напр. комнаты психологической разгрузки, помощь психологов по профилактике проф. выгорания, работа с супервизорами; организация региональной/муниципальной службы коучинга специалистов и руководителей С(К)ОО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звитие и обучение персонала: квалификация и готовность работать с иными детьми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Готовность включает не только соответствующий уровень квалификации, но и мотивацию и ценности работы с детьми, имеющими ОВЗ: доброта, любовь к детям, терпение и терпимость, а не только и не столько стремление работать из-за наличия надбавок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 основе эффективного вн. маркетинга гораздо легче выстроить внешний маркетинг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68360" y="1196640"/>
            <a:ext cx="820728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Целью связи с общественностью является формирование у широкой общественности позитивного имиджа организации. Работа с общественностью служит созданию доверия и понимания целей и мероприятий, реализуемых организацией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нешний маркетинг направлен на формирование привлекательного образа С(К)ОО, Д\д в глазах социума, т.е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способность С(К)ОО привлекать расположение и позитивное внимание со стороны учредителя и потенциальных/реальных пользователей образовательных услуг (обучения, воспитания, социализации): детей, родителей, социальных партнеров, коллег; а также потребителей их «товара»: ОПО, субъектов рынка труда – работодателей и потенциальных сотрудников, как привлекательный работодатель;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9640" y="115920"/>
            <a:ext cx="8229600" cy="63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Маркетинг персонал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зучение рынка труда: Рабочая сила рассматривается маркетингом с двух сторон: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) как товар, где главным являются потребительские свойства работников;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2) как покупатель, который покупает рабочее место в обмен на свой труд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адачи: формирования имиджа ОО, как работодателя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нформирования субъектов РТ о вакансиях: сегментирование РТ и источников информации, а также позиционирование своей организации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пример, реклама привлекательности С(К)ОО-работодателя во время учебы/стажировки студентов СПО, ВП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Групповое обсуждение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Calibri"/>
              </a:rPr>
              <a:t>Что такое маркетинг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Calibri"/>
              </a:rPr>
              <a:t>Зачем он нужен специальным (коррекционным) образовательным организациям (СОО)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Calibri"/>
              </a:rPr>
              <a:t>Какие у СОО существуют возможности и ограничения для осуществления данной деятельности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Расположение может выражаться в таких формах как: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2556000" y="1699920"/>
            <a:ext cx="61308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Стабильно позитивный имидж организации, в т.ч. как работодателя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Более высокие уровни инвестиций (внимания, финансов) со стороны учредителя, спонсоров, работодателя, родителей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Доверие и готовность к сотрудничеству со стороны социальных партнеров, в т.ч. ОСПО; ОДОД; ОВПО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Picture 2" descr="http://im2-tub-ru.yandex.net/i?id=508414093-44-72&amp;n=2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2421000"/>
            <a:ext cx="229860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Маркетинг и повышение привлекательности ОО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267920"/>
            <a:ext cx="850752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вокупность способов воздействия на клиента принято называть маркетинговыми коммуникациями или интегрированными маркетинговыми коммуникациями (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MC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Чаще всего к ним относят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еклам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(связи с общественностью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омоушн (продвижение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нтерне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о я думаю, что все, что воздействует на потребителя (потенциального в т.ч.) можно отнести в широком смысле слова к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MC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(от улыбки вахтера и гардеробщицы до запахов в туалете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ежде всего вы должны научиться думать, как клиент и смотреть на свою организацию и её услуги глазами клиент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700000" y="274320"/>
            <a:ext cx="5986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Заниматься маркетингом означает все время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203280" y="1341000"/>
            <a:ext cx="548316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умать о своем клиент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нимать своего клиен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идеть потребности своего клиен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стоянно радовать ег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Финляндии есть музей, где взрослым предлагается посмотреть на окружающий мир глазами детей: «Дети видят мир на уровне наших коленок»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Picture 2" descr="http://im4-tub-ru.yandex.net/i?id=126237263-58-72&amp;n=21"/>
          <p:cNvPicPr/>
          <p:nvPr/>
        </p:nvPicPr>
        <p:blipFill>
          <a:blip r:embed="rId1"/>
          <a:stretch/>
        </p:blipFill>
        <p:spPr>
          <a:xfrm>
            <a:off x="0" y="907920"/>
            <a:ext cx="291636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лиентоориентированность О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Если вся организация «заражена» клиентоманией, то ее называют клиенто-ориентированной. Здесь буквально все рассматривают только с одной позиции — с позиции Клиента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аркетинг – это незримое присутствие Клиента буквально везде в организации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орпоративное маркетинговое мышление само собой не возникает, его нужно воспитывать и развиват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авайте подумаем как это следует делать в ваших конкретных условиях: </a:t>
            </a:r>
            <a:r>
              <a:rPr b="0" lang="ru-RU" sz="2400" spc="-1" strike="noStrike">
                <a:solidFill>
                  <a:srgbClr val="00b050"/>
                </a:solidFill>
                <a:latin typeface="Calibri"/>
              </a:rPr>
              <a:t>в группах разработайте мини-проекты средств формирования ММ сотрудников Д/д, С(К)ОО - 20 минут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Миссия – это «визитная карточка» ОО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Она должна быть привлекательна, понятна для всех, кто может воспользоваться образовательными услугами организации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Миссия д.б. индивидуальна, уникальна, неординарна, в ней заключена основная «изюминка», образ «новизны», неповторимости коллектива, предназначение ОО в мире в целом, и в мире образования, в частности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Поэтому ключевым вопросом для определения миссии является «Кому и зачем все это нужно?»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Чтобы оптимально сформулировать миссию своей организации, желательно найти ответы на несколько вопросов «зачем?»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Зачем эта организация учредителям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твет на этот вопрос помогает понять ожидания учредителей и учесть их в выборе развития ОО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 одной стороны, сохранить свое лицо, с другой – быть в курсе изменений, происходящих в системе образован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сновная миссия ОО -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95280" y="1268280"/>
            <a:ext cx="82296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оздание условий для успешной социализации (в широком смысле слова) ребенка (человека)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цесс социализации представляет собой совокупность всех социальных процессов, благодаря которым индивид усваивает определенную систему норм и ценностей, осваивает необходимые компетенции, позволяющие ему жить и быть успешным  членом обществ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8920" y="274680"/>
            <a:ext cx="87138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Место и роль ОО в социализации личности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Школа, С(К)ОО, ОДО, ДОО, ОПО – все работают на решение указанной цели, но каждый из них  делает это с помощью только ему присущих средств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Школа, а для детей с ОВЗ С(К)ОО – это инвариантная часть государственных институтов социализации ребенка, обеспечивающая временную и пространственную преемственность и взаимосвязь поколений и регионов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Calibri"/>
              </a:rPr>
              <a:t>Внешкольные образовательные учреждения (ДОО; ОДО; ОПО)-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6840" y="1268280"/>
            <a:ext cx="84358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это вариативная часть государственно-общественных институтов социализации ребенка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ни призваны создавать условия для обеспечения современного для данного общества и актуального для данной личности целостного ее развития (от раннего дошкольного, до профессиональной подготовки в зрелом возрасте)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и необходимости оказывают социально-психологическую поддержку и осуществляют психолого-педагогическую коррекцию и реабилитацию ребенка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ачем это образовательное учреждение обществу (социуму)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шедшие ответ на этот вопрос получают массу серьезных преимуществ. В первую очередь — точное понимание Клиента </a:t>
            </a:r>
            <a:r>
              <a:rPr b="0" lang="ru-RU" sz="3200" spc="-1" strike="noStrike">
                <a:solidFill>
                  <a:srgbClr val="00b050"/>
                </a:solidFill>
                <a:latin typeface="Calibri"/>
              </a:rPr>
              <a:t>(ещё раз зададимся вопросом - кто у нас Клиент?),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ех, на кого ориентирована их деятельность, а также определение того, что и как предлагается в ответ на его запрос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сновные понятия курс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6840" y="1052280"/>
            <a:ext cx="843588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Маркетинг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«вид человеческой деятельности, направленной на удовлетворение нужд и потребностей посредством обмена» (Ф.Котлер). Существует более 2000 определений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ы предлагаем определить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Маркетинг в сфере образования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ак взгляд на </a:t>
            </a:r>
            <a:r>
              <a:rPr b="0" i="1" lang="ru-RU" sz="2400" spc="-1" strike="noStrike">
                <a:solidFill>
                  <a:srgbClr val="00b050"/>
                </a:solidFill>
                <a:latin typeface="Calibri"/>
              </a:rPr>
              <a:t>объект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(образовательную организацию и её персонал), </a:t>
            </a:r>
            <a:r>
              <a:rPr b="0" i="1" lang="ru-RU" sz="2400" spc="-1" strike="noStrike">
                <a:solidFill>
                  <a:srgbClr val="00b050"/>
                </a:solidFill>
                <a:latin typeface="Calibri"/>
              </a:rPr>
              <a:t>процесс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(базовый бизнес-процесс - образовательный) и </a:t>
            </a:r>
            <a:r>
              <a:rPr b="0" i="1" lang="ru-RU" sz="2400" spc="-1" strike="noStrike">
                <a:solidFill>
                  <a:srgbClr val="00b050"/>
                </a:solidFill>
                <a:latin typeface="Calibri"/>
              </a:rPr>
              <a:t>результат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(для С(К)ОО, Д/д в первую очередь, уровень социализации, включенности в социум ребенка (в т.ч. с ОВЗ) на основе формирования необходимых базовых навыков в сфере жизнеобеспечения, самообслуживания и коммуникации) </a:t>
            </a:r>
            <a:r>
              <a:rPr b="1" lang="ru-RU" sz="2400" spc="-1" strike="noStrike">
                <a:solidFill>
                  <a:srgbClr val="00b050"/>
                </a:solidFill>
                <a:latin typeface="Calibri"/>
              </a:rPr>
              <a:t>с точки зрения его Потребителя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родителя, ребенка, учредителя, общества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Зачем эта организация людям, которые в ней работают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94920" y="1267920"/>
            <a:ext cx="8497800" cy="459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оллективный поиск ответа на этот вопрос помогает создать атмосферу сопричастности ко всему происходящему в организации, соучастия в ее делах, столь важное в наше время чувство социальной принадлежности, позволяет обнаружить то, что отличает сотрудников вашего С(К)ОУ, Д/д от остальны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Calibri"/>
              </a:rPr>
              <a:t>Отвечая последовательно на эти Зачем? Попытайтесь сформулировать миссию своей организац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Ответы на эти вопросы позволяю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иссию ОО образно представить как «флаг», который нужен для ее презентации внешнему миру (в первую очередь клиентам), и, в то же время, «знамя», под которое собираются люди, чтобы сплоченной командой воплощать в жизнь дела, которых ждет от ОУ внешний мир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ажно отметить, что выбор миссии ОО в обязательном порядке должен быть согласован с субъектами муниципальной/региональной  системы образования, которые выражают интересы всего населения данной территори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дна из задач С(К)ОО – снизить «прессинг инкультурации»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 котором говорит А.Маслоу, приводящий к фрустрации и ограничениям естественного права ребенка на развитие в процессе социализаци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«Прессинг инкультурации, т.е. воспитания, дисциплины, формирования социальных навыков, подготовки к будущей взрослой жизни, осознания потребностей и желаний других людей в какой-то степени, разумеется, необходим, но процесс воспитания перестанет раздражать нас и ребенка только тогда, когда его будет окружать атмосфера приязни, любви и уважения друг к другу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Я думаю, что для С(К)ОО это особенно значимая позиция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имер родной для меня ОДОД – центр «ЛАД»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разное выражение миссии центра «ЛАД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24000" y="907920"/>
            <a:ext cx="8640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«Уверенность в будущем!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Радость в настоящем!»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оллектив стремится к тому, чтобы дети и взрослые получали </a:t>
            </a: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радость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от деятельности и общения с нами и друг с другом </a:t>
            </a: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сегодня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, а благодаря усвоению полезных знаний и навыков, а также иным средствам и механизмам социализации увеличивали бы шансы на </a:t>
            </a:r>
            <a:r>
              <a:rPr b="0" lang="ru-RU" sz="3200" spc="-1" strike="noStrike">
                <a:solidFill>
                  <a:srgbClr val="00b050"/>
                </a:solidFill>
                <a:latin typeface="Calibri"/>
              </a:rPr>
              <a:t>уверенность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в собственном </a:t>
            </a:r>
            <a:r>
              <a:rPr b="0" lang="ru-RU" sz="3200" spc="-1" strike="noStrike">
                <a:solidFill>
                  <a:srgbClr val="00b050"/>
                </a:solidFill>
                <a:latin typeface="Calibri"/>
              </a:rPr>
              <a:t>будущем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«ЛАД» это:</a:t>
            </a:r>
            <a:br>
              <a:rPr sz="4400"/>
            </a:b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Л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ичность. </a:t>
            </a: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А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даптация. </a:t>
            </a: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Д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суг.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обственное имя центра «ЛАД» указывает не только на приоритет социально-психологических отношений в коллективе сотрудников и детей, но является аббревиатурой основного предназначения данной ОО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спользование свободного времени (радость в настоящем!) для развития личности с целью повышения ее адаптивных качеств (уверенность в будущем!) в атмосфере принятия друг друга и взаимоуважения (лада!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нешняя функция мисси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зволяет определить статус ОУ, его имидж, так как различные виды и варианты ОО существенно отличаются друг от друга именно по принимаемой на себя миссии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Гласно заявляя о своей миссии, ОУ как бы предъявляет потенциальным заказчикам, клиентам, партнерам свою визитную карточку, что очень важно для установления будущих отношений социального партнерств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пасность противоречий между миссией и действительностью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В сочетании с ясно сформулированной миссией девиз можно поместить «снаружи», чтобы дать клиентам и работодателям первоначальное представление о том, чего можно ждать от этой школы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Но если ясно сформулированной миссии нет, или внутренние процессы и отношения в организации вступают в противоречие с заявленным «знаменем», девиз вскоре может превратиться в пустую, бесполезную и даже раздражающую всех фразу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23640" y="274680"/>
            <a:ext cx="856908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ссмотрим основные средства, инструменты маркетинга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(т.н. маркетинг-микс)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78920" y="1413000"/>
            <a:ext cx="87138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онцепция 4 П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одукт (особенности и конкурентные преимущества предлагаемых услуг или товара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одажная цена (затраты, которые несет общество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одвижение (реклама,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требители (особенности сегмента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6 П (к 4 П добавляются)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оизводство (образовательный процесс: содержание и технология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ерсонал (качество и приверженность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одукт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аш продукт (это качество образовательных услуг и «товара») есть нечто ценное, что есть у вас и что вы можете обменять на то, что нужно вам – содержание и развитие ОО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Чтобы продвинуть ваш продукт на рынок, вам нужно так описать его, чтобы люди, которым вы его предлагаете, могли ясно понять, что это и как это отвечает их потребностям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оответствует ли ваш продукт потребностям вашей целевой группы по качеству и удовлетворяет ли он ее специфические потребност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Цена/затрат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тоимость произведенной услуги на 1 обучающегося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атраты здоровья персонала и обучающихся на то качество услуг («товара»), которое обеспечивается в процессе совместного «производства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Маркетинг – это 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79280" y="980640"/>
            <a:ext cx="864072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Философия дела – идти от Клиента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етодология деятельности с обязательным учетом внешних условий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тратегия и тактика поведения на рынке образовательных услуг на основе его изучения и знания потребностей Клиента, перспектив изменений внешних условий, своей миссии и возможностей коллектива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Функция организации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бор инструментов повышения эффективности управления чем(кем)-либо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одвижение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тепень использования маркетинговых коммуникаций в ОО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еклам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моуш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нтерне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нутренний маркетинг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отребители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егментирование, знание особенностей и предпочтений потенциального и реального контингента, а также ЛПР (лица принимающего решения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основе успеха - знание потребителя, его возможностей и ограничен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роизводство – образовательный процесс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чество и соответствие поставленным целям со стороны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осударства (ФГОС), учредител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одителе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ете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едагог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ботодател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ществ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ерсона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отрудники должны обладать маркетинговым мышлением, быть профессионально готовыми к достижению поставленных целей, удовлетворению спроса на обеспечение качества образования (пример, стандарт учителя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инобрнауки.рф/%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0%B4%D0%BE%D0%BA%D1%83%D0%BC%D0%B5%D0%BD%D1%82%D1%8B/3071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Маркетинг ОО: </a:t>
            </a:r>
            <a:r>
              <a:rPr b="0" lang="ru-RU" sz="3100" spc="-1" strike="noStrike">
                <a:solidFill>
                  <a:srgbClr val="0070c0"/>
                </a:solidFill>
                <a:latin typeface="Calibri"/>
              </a:rPr>
              <a:t>общее</a:t>
            </a:r>
            <a:r>
              <a:rPr b="0" lang="ru-RU" sz="3100" spc="-1" strike="noStrike">
                <a:solidFill>
                  <a:srgbClr val="000000"/>
                </a:solidFill>
                <a:latin typeface="Calibri"/>
              </a:rPr>
              <a:t>, особенное, уникальное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457200" y="907920"/>
          <a:ext cx="8291520" cy="5739120"/>
        </p:xfrm>
        <a:graphic>
          <a:graphicData uri="http://schemas.openxmlformats.org/drawingml/2006/table">
            <a:tbl>
              <a:tblPr/>
              <a:tblGrid>
                <a:gridCol w="2316240"/>
                <a:gridCol w="2987640"/>
                <a:gridCol w="2987640"/>
              </a:tblGrid>
              <a:tr h="72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собенное для С(К)О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Уникальное для конкретной О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865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дук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948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ена (затраты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8647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движ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65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требител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8647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изводство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650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сонал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Этапы маркетинговой стратегии </a:t>
            </a:r>
            <a:br>
              <a:rPr sz="40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(6 шагов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Разработка образа организации и концепции коммуникаций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Анализ внешней среды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Анализ конкурентов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Анализ потребителей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Анализ собственной ситуации, позиционирование организации на рынке образовательных услуг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Формулирование целей и разработка стратегии и тактики комплекса маркетинга и маркетинговых коммуникаций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50752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Шаг 1. Образ ОО – его культур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Каков в вашем представлении желаемый образ ОУ в 2015 году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Когда внешнее представление о вашей организации совпадает с представлением о нем сотрудников, меры по формированию индивидуальности ОО, а значит, и сама деятельность учреждения будут эффективны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Эффективными становятся те ОО, которым удается создать долговременные конкурентные преимущества благодаря культуре управления (они в отличие от технических ноу-хау имеют большую защищенность от повторения)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Шаг 2. Диагностически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Анализ внешней среды и его основные инструменты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Метод ключевых вопросов: кто? что? зачем? где? чем? как? когда?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Метод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SWO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Т -  анализ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Метод 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РАСЕ - матрица стратегического положения и оценки действий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http://old.acconcept.ru/strategy/space.html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PEST-анализ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Метод составления профиля среды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http://www.bibliotekar.ru/upravlenie-4/42.htm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VRIO анализ  Дж. Барни (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http://www.creativeconomy.ru/articles/12440/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актические методы анализа реальной позиции организации </a:t>
            </a:r>
            <a:br>
              <a:rPr sz="32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опора на курс «Основы менеджмента»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611280" y="1773000"/>
            <a:ext cx="8075520" cy="458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оцесс проведения стратегического анализа включает два основных этапа (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WOT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анализ)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. Анализ внешней среды: возможности и угрозы внешних воздействий: степень их влияния и вероятность наступлен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2.  Анализ внутренней среды: сильные и слабые стороны организации: вычленить приоритетные направления с помощью которых можно сформировать стратегию ОО на рынке ОУ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c4271"/>
                </a:solidFill>
                <a:latin typeface="Calibri"/>
              </a:rPr>
              <a:t>VRIO анализ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, разработанный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Дж. Барни -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нструмент для анализа ресурсов и  способностей, определения их ценности и эффективности использова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ыигрыш – выигрыш; выигрыш-потеря или потеря - потер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аркетинг – это обеспечение для С(К)ОО и потребителя (в лице родителя/учредителя) ситуации «выигрыш-выигрыш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одителям (и детям) нужны не образовательные услуги как таковые, а удовлетворенные потребности и решенные проблемы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050"/>
                </a:solidFill>
                <a:latin typeface="Calibri"/>
              </a:rPr>
              <a:t>Какие потребности мы помогаем им удовлетворять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050"/>
                </a:solidFill>
                <a:latin typeface="Calibri"/>
              </a:rPr>
              <a:t>Какие проблемы помогаем решать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1c4271"/>
                </a:solidFill>
                <a:latin typeface="Calibri"/>
              </a:rPr>
              <a:t>Критерии анализа ресурсов О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1. Ценность (value)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– позволяют ли ОО ресурсы и способности использовать внешние возможности (например использование инноваций или участие в конкурсах и получение грантов) и нейтрализовать угрозы (например, угрозу резкого снижения контингента в силу потери ликвидации экономических субъектов в данном МР, или активности соседней ОО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1c4271"/>
                </a:solidFill>
                <a:latin typeface="Calibri"/>
              </a:rPr>
              <a:t>Критерии анализа ресурсов О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Редкость (rareness)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– сколько конкурентов обладают аналогичными ресурсами и способностями (например, природной уникальностью, эффективным образовательным процессом, хорошей МТБ, обеспечение повышенных разрядов выпускников СПО, готовностью педколлектива работать с детьми с ОВЗ,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II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III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вида и пр.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1c4271"/>
                </a:solidFill>
                <a:latin typeface="Calibri"/>
              </a:rPr>
              <a:t>Критерии анализа ресурсов О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7200" y="1413000"/>
            <a:ext cx="83628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Воспроизводимость (imitability)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– насколько сложно и дорого получить доступ к данным ресурсам и способностям, использовать  их в текущей образовательной деятельности (например, возможно ли быстро организовать учебный процесс на современном уровне, осуществить модернизацию учебного процесса в соответствии с требованиями работодателя, повысить имидж образовательного учреждения, освоить педтехнологии работы с детьми с ОВЗ и др.)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1c4271"/>
                </a:solidFill>
                <a:latin typeface="Calibri"/>
              </a:rPr>
              <a:t>Критерии анализа ресурсов О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4. </a:t>
            </a: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Организованность (organization)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в полной ли мере ОО задействует эти ресурсы и способности для реализации своего конкурентного потенциала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Проблема может быть в том, что ресурсы образовательного учреждения могут быть никак не задействованы в образовательном процессе, либо не используются или неправильно используются при  позиционировании и продвижении своей организации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Шаг 3. Анализ конкурентов (бенчмаркинг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Каковы сильные и слабые стороны существующих и потенциальных конкурентов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В какую сферу образовательной деятельности не стоит вторгаться в связи с сильными позициями там других ОО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В чем «ахиллесова пята» вашего основного конкурента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Может быть вам лучше наладить сотрудничество, чем конкурировать с конкретными ОО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Факторы успеха (ФУ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57200" y="119664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нутренние достижения ОО, не проявляющиеся на рынке непосредственным образом, например, владение новейшими педтехнологиями, активная методическая работа, инновационная активность коллектива, квалификация и дисциплина персонала, хорошо поставленный документооборот… - все это очень важно, но большинство родителей, да и детей могут об этом даже не догадываться, более того – им это не интересно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Судить об ОО они будут по тем достоинствам, которые доходят до них непосредственно и являются для них потребительской ценностью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Факторы успеха могут переходить в конкурентные преимущества (КП), а могут оставаться лишь внутренним достоянием организации, зато очень важным и необходимым для порождения конкурентных преимуществ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Можно даже утверждать, что любое конкурентное преимущество ОУ коренится в определенных факторах успеха организаци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Фокус конкуренции (ФК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Фокус конкуренции – это приоритеты, которыми пользуются клиенты (родители прежде всего) при выборе ОО или принятии решения о его смен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Если конкурентные преимущества ОО вырабатывают сами, то фокус конкуренции – это критерии, которые вырабатывает потребитель навстречу этим КП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Типы ФУ и их составляющие</a:t>
            </a:r>
            <a:r>
              <a:rPr b="0" lang="ru-RU" sz="4000" spc="-1" strike="noStrike">
                <a:solidFill>
                  <a:srgbClr val="ccc1da"/>
                </a:solidFill>
                <a:latin typeface="Calibri"/>
              </a:rPr>
              <a:t>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250920" y="1052280"/>
            <a:ext cx="864216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факторы, связанные с технологиями: компетентность в новых проектных, исследовательских технологиях; способность к инновациям; роль экспертов в данной технологии; признание в проф. сообществе…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личие МТБ, обеспечивающей современные возможности освоения передовых технологий для рынка труда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факторы, связанные с образовательным процессом:  реализация системно-деятельностного подхода при формировании УУД, метапредметных, личностных компетенций;  оптимальное сочетание урочной и внеурочной деятельности…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факторы, связанные с  информированием и продвижением (сайт, СМИ, иные ИК технологии)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факторы, связанные с квалификацией основного персонала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факторы, связанные с компетентностью в управлении и наличие управляющих ноу-хау (например, изменение оргструктуры; формирование классов переменного состава…;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брендовые и имиджевые фактор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7138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) по вертикали впишите характеристику элементов ММ ОО и б) по графам произведите оценку своих О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0" y="981000"/>
          <a:ext cx="8964720" cy="5543640"/>
        </p:xfrm>
        <a:graphic>
          <a:graphicData uri="http://schemas.openxmlformats.org/drawingml/2006/table">
            <a:tbl>
              <a:tblPr/>
              <a:tblGrid>
                <a:gridCol w="1979640"/>
                <a:gridCol w="1606680"/>
                <a:gridCol w="1792080"/>
                <a:gridCol w="1792440"/>
                <a:gridCol w="1793880"/>
              </a:tblGrid>
              <a:tr h="138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лементы маркетинг-микс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никальное конкурентное преимуществ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ответств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еднему уровню  по региону/район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азовый/допустимый  уровень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обходимо изменять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дук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ена (затраты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9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движ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требители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изводство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сонал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Конкурентные преимущества (КП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Это те достижения ОО, факторы успеха, которые попадают в фокус конкуренции и обеспечивают конкурентные преимущества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КП (или ключевые факторы успеха) не только напрямую воспринимаются и оцениваются клиентами, но являются дифференцирующими признаками их потребительского выбор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Маркетологи ещё иногда называют их «продающими моментами»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Чем больше у вас продающих моментов, тем лучше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1476000" y="981000"/>
            <a:ext cx="675324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зработайте в группах особенности работы  С(К)ОО, которые, с вашей точки зрения, важно учесть при использовании маркетингового подхода в управлени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2" descr="http://im1-tub-ru.yandex.net/i?id=441066139-02-72&amp;n=21"/>
          <p:cNvPicPr/>
          <p:nvPr/>
        </p:nvPicPr>
        <p:blipFill>
          <a:blip r:embed="rId1"/>
          <a:stretch/>
        </p:blipFill>
        <p:spPr>
          <a:xfrm>
            <a:off x="0" y="0"/>
            <a:ext cx="3059280" cy="314172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59280" y="-360"/>
            <a:ext cx="562752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К конкурентному преимуществу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1692000" y="1700280"/>
            <a:ext cx="6994440" cy="44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7800" indent="-5144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могут относиться все перечисленные выше факторы, позволяющие успешно конкурировать на рынке и побеждать в конкурентной борьбе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77800" indent="-5144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В группах подготовьте свои суждения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77800" indent="-514440"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Что в настоящий момент в фокусе конкуренции на рынке образовательных услуг в крупных городах (ДОО, СОО; С(К)ОО; ОДО; ОПО)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77800" indent="-514440"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На что будет сдвигаться ФК в недалеком будущем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77800" indent="-514440"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Что попадет в ФК в дальней перспективе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Шаг 4. Анализ потребителе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24000" y="1341000"/>
            <a:ext cx="8496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тобы добиться успеха, думай не о себе, а о другом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то такое сегментирование рынка и позиционирование О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 учетом данных о состоянии рынка образовательных услуг необходимо анализировать сильные и слабые стороны своего учреждения, выявлять потребности, прогнозировать тенденции, искать сильные позици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Шаг 5. Анализ собственной ситуации и определение позиции на рынк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десь надо ответить на вопрос: «Что нам мешает в данный момент удовлетворить образовательные потребности наших клиентов лучше, чем конкурент?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десь осуществляется переход от аналитического раздела к практической разработке стратег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Формируется ориентация на перспективные направления рынка О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Шаг 6. Формируется маркетинговая стратегия и тактика ОО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На основе предыдущих шагов формулируются конкретные, мотивационные цели организаци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На основе разработанных концепций и определенных целей маркетинговой стратегии начинается оперативное маркетинговое планирование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Намечаете комплекс маркетинговых мероприятий, в т.ч. интегрированные маркетинговые коммуникации (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MC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Методы продвиже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Pablic Relations)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– связи с общественностью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еклам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нформирова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обытия/мероприятия  (ивент/эвент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3" name="Picture 2" descr="http://im4-tub-ru.yandex.net/i?id=194040097-71-72&amp;n=21"/>
          <p:cNvPicPr/>
          <p:nvPr/>
        </p:nvPicPr>
        <p:blipFill>
          <a:blip r:embed="rId1"/>
          <a:stretch/>
        </p:blipFill>
        <p:spPr>
          <a:xfrm>
            <a:off x="155520" y="0"/>
            <a:ext cx="1428840" cy="15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 (Pablic Relations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именительно к С(К)ОО – это попытка удовлетворить интерес к нему и его услугам путем передачи имеющейся информации через различные каналы, организация общественного мнения в целях формирования образа открытого, экологичного в широком смысле слова учреждения, повышения репутации и привлекательности организации в глазах родителей (опекунов), учредителя, социум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к разместить информацию в СМ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125000"/>
            <a:ext cx="83628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ществует мнение, что разместить информацию об ОО можно только за деньги. Это часто верно, но не всегда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Если в ОО происходят социально значимые события, интересные за пределами школы – это может вызвать интерес журналистов газет и ТВ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ообщить о событиях можно рассылая пресс-релизы в печатные, электронные и ТВ СМ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заглавии пресс-релиза необходимо обязательно указать: кто проводит мероприятие, для кого и с какой целью, место и сроки проведени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сновное содержание д.б. посвящено краткому описанию структуры и содержания мероприяти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и написании текста нужно использовать те слова и выражения, которые не требуют от читателя знания специальных пед. знани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ряду с рассылкой пресс-релизов необходимо лично приглашать журналистов (легче районных и городских, сложней региональных и федеральных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иглашение представителей ТВ потребует наибольшей предварительной подготовки со стороны О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равила работы с ТВ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начале работы корреспондента уточните, в какой передаче и в какой рубрике будет представлен ваш материал, сколько времени в эфире займет рассказ. Важно узнать, сколько по времени и как планируют снимать сюжет, согласуйте свои предложения с планами журналист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ремя у бригады ограниченное, поэтому они смогут уделить вашей школе ограниченное время. Заранее определите ответственного, кто будет сопровождать корреспондента, комментировать происходящее и т.п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кажите корреспонденту и оператору наиболее яркие моменты праздника, события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мните, что ТВ это прежде всего динамичная картинк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одумайте о постановочных кадрах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е все события можно запечатлеть в реальном времени и темп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этому вполне уместно будет попросить участников специально для ТВ спеть песню, поиграть в игру и т.д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лавное, чтобы приезд журналистов и создание постановочного сюжета не мешали проведению мероприят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Если репортаж предполагает выступлени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аранее подготовьте его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лавное, чтобы текст был кратким, содержательным и понятным любому человек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и ответах на вопросы интервью будьте краткими и отвечайте без длинных вводных фраз – это все равно вырежу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собенности С(К)ОО </a:t>
            </a:r>
            <a:br>
              <a:rPr sz="4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моя точка зрения – ГРМ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Эти организации до последнего времени имели закрытый характер и ограниченный выход детей в социум, а сейчас речь идет об интеграции не только этих организаций, но и детей (включение, инклюзия), а значит стоит задача выстраивания отношений с другими («дорожная карта» партнерства и интеграции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роме того достаточно остро стоит проблема формирования «бытовой» толерантности, принятия «иных» детей и взрослых в социум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В завершение работы с корреспондентом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Вручите ему пресс-релиз, в котором будет описано прошедшее событие, а также имена, отчества, фамилии и должности всех, кто был активным участником репортажа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Лучше попросить проверить Ф.и.о., должности участников, которые корреспондент мог записать на слух с ошибками, неточностями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Уточните время выхода репортажа и договоритесь о возможности переписать итоговый репортаж и черновой материал для архива учреждения (его надо использовать для других мероприятий, выложить на сайт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Инструменты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 (Pablic Relations)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к ни странно, но это также вполне привычные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одительские собрания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бота с жителями микрорайона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етскими садами по работе с будущими первоклассниками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бота со спонсорами, с шефами, с работодателями, депутатами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8" name=""/>
          <p:cNvGraphicFramePr/>
          <p:nvPr/>
        </p:nvGraphicFramePr>
        <p:xfrm>
          <a:off x="108000" y="0"/>
          <a:ext cx="9036000" cy="6800760"/>
        </p:xfrm>
        <a:graphic>
          <a:graphicData uri="http://schemas.openxmlformats.org/drawingml/2006/table">
            <a:tbl>
              <a:tblPr/>
              <a:tblGrid>
                <a:gridCol w="1047600"/>
                <a:gridCol w="1141560"/>
                <a:gridCol w="1141200"/>
                <a:gridCol w="1140120"/>
                <a:gridCol w="1141200"/>
                <a:gridCol w="1141560"/>
                <a:gridCol w="1141200"/>
                <a:gridCol w="1141560"/>
              </a:tblGrid>
              <a:tr h="161856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ступность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ериодичность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лнота информац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остребованность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тсутствие сбоев в передаче инф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изка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тратность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	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умма балл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70380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ичная встреч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087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ска объявлен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0380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амятки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444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обрани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1876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ай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3956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M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0630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вои СМ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Прямая (адресная) почтовая рассылк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Ежегодная рассылка бывшим выпускникам красочно оформленных календарей с символикой С(К)ОО, поздравительных открыток, благодарственных писем родителям, спонсорам, партнера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ыставки и семинар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спространение рекламной продукции, касающейся основной деятельности ОО во время проведения и участия в конференциях, выставках и др. массовых мероприятия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езентации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ведение ежегодной презентации в различных районах города, на площадках других учреждений, приурочивание проведения презентаций к большим праздникам: день района/улицы/города, День учителя, Новый год, Последний звонок, День рождения С(К)ОО и т.п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аталоги и буклет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ля родителей, партнеров, попечителей, спонсоров необходима правильная расстановка акцентов, но при этом не стоит забывать об учете сложившегося имиджа ОО и соответствия разработанной стратегии её развития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713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Рекламные щиты и наружная реклам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сле необходимого согласования (ГИБДД, администрация, собственник, отдел рекламы) можно использовать имеющийся автобус, штендеры или растяжки на территории школы, её фасаде, а также на оживленных перекрестках, пешеходных зонах в парка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Телефонный маркетинг+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Проведение телефонного анкетирования среди родителей, попечителей, спонсоров и т.п. накануне нового учебного года или его окончания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Фирменные сувениры: вручение детям, родителям, выпускникам, гостям школы ручек, календариков, поделок воспитанников и т.п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Визитные карточки, методическая литература с рекламой школы;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Реклама в школьных СМ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Роль органов государственно-общественного управления С(К)ОО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В формировании положительного образа С(К)ОО может существенную роль играть его Попечительский совет, важнейшей функцией которого является лоббирование интересов ОО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Руководители, правильно понимающие значение данного органа, активно привлекают к его работе родителей, депутатов, представителей общественных организаций, бизнесменов и т.п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Поэтому в рамках его деятельности крайне важно проводить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PR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-акции, привлекающие внимание, а затем, возможно, и финансы, для ОО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собенности -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силу ограниченности имеющихся ресурсов, а также отхода от патерналистской позиции со стороны государства, необходима активизация деятельности, направленной на вовлечение в процесс социализации детей с ОВЗ: меценатов, волонтеров; дополнительные усилия по «лоббированию» интересов СОО, Д\д в ОИ и ЗВ, в т.ч. законодательных изменений; поиск опоры среди работодателей, в бизнесе, системы ПО, …; расширения сфер стимулирования и реализации собственной социальной активности детей, включая детей с ОВЗ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Оценка эффективности маркетинговой деятельност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инамика изменения численности контингента на фоне демографических изменений района; для ОПО - обеспечение плана набора/конкурс на отдельные профессии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инамика изменений характеристик имиджа ОО: узнаваемости и привлекательности организации, наличия и оценки имени, позитивное отношение к С(К)ОО и её выпускникам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епротиворечивость, конгруэнтность внутреннего и внешнего маркетинга, содержания и формы, адекватность имиджа реальности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инамика реализации проекта, позволяющая фиксировать результаты выполненных работ, произошедшие изменения во внутренней культуре школы, элементах имиджа ОО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довлетворенность целевой аудитории теми формами работы, в которые они были вовлечены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инамика удовлетворенности работой ОО со стороны: учредителя, родителей, обучающихся, персонала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Анализ обратной связи в т.ч. неорганизованной (соц. сети, форумы, чаты, блоги…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собенности -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 Д/д, и С(К)ОО в настоящее время наблюдается пристальное внимание с точки зрения соблюдения общечеловеческих прав и достоинства детей, обеспечения ухода, обучения и воспитания детей-сирот, а также детей с ОВЗ - это ставит задачу формирования образа открытого, учреждения, готового к сотрудничеству и нацеленного на реализацию интересов детей с учетом их индивидуальных возможносте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15T11:21:02Z</dcterms:created>
  <dc:creator>gainutdinova</dc:creator>
  <dc:description/>
  <dc:language>en-US</dc:language>
  <cp:lastModifiedBy>Рашид Минасхатович Гайнутдинов</cp:lastModifiedBy>
  <dcterms:modified xsi:type="dcterms:W3CDTF">2014-02-24T14:00:13Z</dcterms:modified>
  <cp:revision>81</cp:revision>
  <dc:subject/>
  <dc:title>Технологии повышения привлекательности  образовательной организации</dc:title>
</cp:coreProperties>
</file>