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6.gif" ContentType="image/gif"/>
  <Override PartName="/ppt/media/image1.wmf" ContentType="image/x-wmf"/>
  <Override PartName="/ppt/media/image11.jpeg" ContentType="image/jpeg"/>
  <Override PartName="/ppt/media/image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14.jpeg" ContentType="image/jpeg"/>
  <Override PartName="/ppt/media/image16.wmf" ContentType="image/x-wmf"/>
  <Override PartName="/ppt/media/image8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BAA-3090-47E9-BC43-E783B484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30F-92FB-41EB-B1CC-A33FC35A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B68-6FAD-4B4F-87D6-2E146592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7C8-5E07-427A-9376-7B804563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A7E1A-A761-486A-A07A-752C2A4E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98CDF-FFC9-43E1-9108-80D83851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08129-B0D4-4D69-B35B-D430F9D9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C8FFA-D871-45C9-AFBF-7CF2E4E7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7CBA6-0C40-46E1-AE97-54881AEE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01342-796D-412C-8886-41A37477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58A79-0B16-42B1-8B66-9F340068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D59-4AB7-46FE-AB68-E22A1B23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66EC0-387D-463D-AAC9-35CF09E9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D67F4-A52A-4E9D-B65C-A435BB38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95078-BEF6-4BE7-B1ED-DA83F194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836AE-E613-4243-BCD7-DEB75109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A78D5-E60C-4DC4-B85C-5AD35994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C1F4A-0A70-4E99-8478-635982BB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6172C-222D-4A55-8CF5-5CE07194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5384C-5772-4985-A1AA-1E9ADA67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2E4AE-696E-414E-9699-01F66D95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36CDC-A895-4568-8EE0-C1397E35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581-7FF6-4547-BF62-267F4517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A70D2-59AF-4EFF-965F-9FDD60AB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68D69-8044-487D-9654-B5385434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EE2CE-ABEA-480D-98A2-7652D5CA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ABECF-9C6C-438C-82A0-6F15A573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9194B-956F-44DC-AD26-B14D0262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26653-BF49-4FC2-98BC-E3136A75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0DCEF-52B0-4E3B-A465-3EC6304C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D517A-2B77-4872-9846-8C90D0B8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0953E-D32C-4F89-A1DA-936C126F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54809-4675-4138-8F61-76F0273F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A5C-9196-4C18-BD3C-D8DD14AF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3FA3E-2B2B-4C2A-B19A-902A8642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F4775-0F72-417C-A376-A77733B5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11A33-1932-47F3-96AA-CC4B7BC1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F1840-0237-40E8-82DD-BBA22DA0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31292-2858-4541-A263-27477730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E5C12-AF33-4564-8AF1-BB074570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49EF6-C034-4212-A744-664E5668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E658C-58E2-4D82-BF50-F8F9324A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799F7-02D7-43D5-BB9F-5B7DB35A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B6ECF-6591-42F2-B8CB-026C0B84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D62-B8B2-49F2-AD77-EF139021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2DC35-8BE8-48B7-97BD-24D7B0BB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6AE80-9E15-4EAD-984C-0C2A747B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5FBFF-601A-48D7-99ED-0FC7E7F0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6A8BA-E12F-4748-BB24-0AFCC96B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9A7F9-E331-476E-9248-557BB73B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A2DC4-12EA-46A5-9FC8-C4F441FC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1462E-4B47-4AB5-B574-C73527E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3A324-EEB4-4A0D-BF4E-2291D5AF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978E1-5A35-46CA-8DEB-515A62F3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D1969-FB2B-4B7D-8FB7-D739A977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EC8-F523-4352-9C9F-ED145DDC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AE3F8-101E-440B-9C1C-2814461F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7C6-8C80-47E7-B33B-5DE95DAF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1F1-F0C8-4D6E-9CC8-F80D3895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17D-BCE3-47BC-8E54-A76187C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A3F8-654F-4FA2-AB57-3CCD2B276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1038-895B-4145-9067-B58F27A63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CA23-B8F4-4898-B489-078ED4CB2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889B-6EC0-4EDB-B995-51EAF479E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B39E-5452-421F-9679-9E7543D4E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ЧЕСКИЕ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356920" y="4581000"/>
            <a:ext cx="6527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зор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фимов Евгений Федо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вопросы при выборе метода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 ли проблема комплексного реш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облема или возмож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классифицировать пробл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еально существующая или надуманная пробл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финансовая проблема или она связана с отношениями между людь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зойдет, если не принимать никакого реш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уникальность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ли последовательность решения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Задачи руководителя при продумывании пробл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круг лиц, способных разработать и реализовать способы ее решения и получения положительного ис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рок разрешения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ть и утвердить способы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ть выделение требуемых средств решения проблемы (трудовых, материальных, финансов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внутренние элементы проблемы, установить степень их влияния на реше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критерию принятия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9"/>
          <p:cNvSpPr/>
          <p:nvPr/>
        </p:nvSpPr>
        <p:spPr>
          <a:xfrm>
            <a:off x="1100880" y="1007640"/>
            <a:ext cx="671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й должен выражаться чи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й должен принимать одно из следующих знач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243080" y="1628640"/>
            <a:ext cx="5829120" cy="2521080"/>
            <a:chOff x="1243080" y="1628640"/>
            <a:chExt cx="5829120" cy="2521080"/>
          </a:xfrm>
        </p:grpSpPr>
        <p:sp>
          <p:nvSpPr>
            <p:cNvPr id="332" name="AutoShape 38"/>
            <p:cNvSpPr/>
            <p:nvPr/>
          </p:nvSpPr>
          <p:spPr>
            <a:xfrm>
              <a:off x="1243080" y="1628640"/>
              <a:ext cx="582912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35"/>
            <p:cNvGrpSpPr/>
            <p:nvPr/>
          </p:nvGrpSpPr>
          <p:grpSpPr>
            <a:xfrm>
              <a:off x="1700280" y="2035440"/>
              <a:ext cx="1142280" cy="1382400"/>
              <a:chOff x="1700280" y="2035440"/>
              <a:chExt cx="1142280" cy="1382400"/>
            </a:xfrm>
          </p:grpSpPr>
          <p:sp>
            <p:nvSpPr>
              <p:cNvPr id="334" name="Line 37"/>
              <p:cNvSpPr/>
              <p:nvPr/>
            </p:nvSpPr>
            <p:spPr>
              <a:xfrm flipV="1">
                <a:off x="170028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6"/>
              <p:cNvSpPr/>
              <p:nvPr/>
            </p:nvSpPr>
            <p:spPr>
              <a:xfrm>
                <a:off x="170028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2"/>
            <p:cNvGrpSpPr/>
            <p:nvPr/>
          </p:nvGrpSpPr>
          <p:grpSpPr>
            <a:xfrm>
              <a:off x="3529440" y="2035440"/>
              <a:ext cx="1142280" cy="1382400"/>
              <a:chOff x="3529440" y="2035440"/>
              <a:chExt cx="1142280" cy="1382400"/>
            </a:xfrm>
          </p:grpSpPr>
          <p:sp>
            <p:nvSpPr>
              <p:cNvPr id="337" name="Line 34"/>
              <p:cNvSpPr/>
              <p:nvPr/>
            </p:nvSpPr>
            <p:spPr>
              <a:xfrm flipV="1">
                <a:off x="352944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3"/>
              <p:cNvSpPr/>
              <p:nvPr/>
            </p:nvSpPr>
            <p:spPr>
              <a:xfrm>
                <a:off x="352944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9"/>
            <p:cNvGrpSpPr/>
            <p:nvPr/>
          </p:nvGrpSpPr>
          <p:grpSpPr>
            <a:xfrm>
              <a:off x="5472360" y="2035440"/>
              <a:ext cx="1142280" cy="1382400"/>
              <a:chOff x="5472360" y="2035440"/>
              <a:chExt cx="1142280" cy="1382400"/>
            </a:xfrm>
          </p:grpSpPr>
          <p:sp>
            <p:nvSpPr>
              <p:cNvPr id="340" name="Line 31"/>
              <p:cNvSpPr/>
              <p:nvPr/>
            </p:nvSpPr>
            <p:spPr>
              <a:xfrm flipV="1">
                <a:off x="547236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0"/>
              <p:cNvSpPr/>
              <p:nvPr/>
            </p:nvSpPr>
            <p:spPr>
              <a:xfrm>
                <a:off x="547236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Freeform 28"/>
            <p:cNvSpPr/>
            <p:nvPr/>
          </p:nvSpPr>
          <p:spPr>
            <a:xfrm>
              <a:off x="1800720" y="2474280"/>
              <a:ext cx="819360" cy="79524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1290" h="1760">
                  <a:moveTo>
                    <a:pt x="0" y="1670"/>
                  </a:moveTo>
                  <a:cubicBezTo>
                    <a:pt x="133" y="1470"/>
                    <a:pt x="54" y="1622"/>
                    <a:pt x="75" y="1190"/>
                  </a:cubicBezTo>
                  <a:cubicBezTo>
                    <a:pt x="80" y="1090"/>
                    <a:pt x="60" y="980"/>
                    <a:pt x="105" y="890"/>
                  </a:cubicBezTo>
                  <a:cubicBezTo>
                    <a:pt x="141" y="818"/>
                    <a:pt x="161" y="804"/>
                    <a:pt x="210" y="755"/>
                  </a:cubicBezTo>
                  <a:cubicBezTo>
                    <a:pt x="222" y="719"/>
                    <a:pt x="246" y="687"/>
                    <a:pt x="255" y="650"/>
                  </a:cubicBezTo>
                  <a:cubicBezTo>
                    <a:pt x="265" y="611"/>
                    <a:pt x="257" y="568"/>
                    <a:pt x="270" y="530"/>
                  </a:cubicBezTo>
                  <a:cubicBezTo>
                    <a:pt x="284" y="489"/>
                    <a:pt x="326" y="463"/>
                    <a:pt x="345" y="425"/>
                  </a:cubicBezTo>
                  <a:cubicBezTo>
                    <a:pt x="357" y="401"/>
                    <a:pt x="369" y="342"/>
                    <a:pt x="375" y="320"/>
                  </a:cubicBezTo>
                  <a:cubicBezTo>
                    <a:pt x="400" y="232"/>
                    <a:pt x="376" y="318"/>
                    <a:pt x="420" y="230"/>
                  </a:cubicBezTo>
                  <a:cubicBezTo>
                    <a:pt x="443" y="183"/>
                    <a:pt x="426" y="172"/>
                    <a:pt x="465" y="125"/>
                  </a:cubicBezTo>
                  <a:cubicBezTo>
                    <a:pt x="477" y="111"/>
                    <a:pt x="495" y="105"/>
                    <a:pt x="510" y="95"/>
                  </a:cubicBezTo>
                  <a:cubicBezTo>
                    <a:pt x="553" y="30"/>
                    <a:pt x="567" y="47"/>
                    <a:pt x="630" y="5"/>
                  </a:cubicBezTo>
                  <a:cubicBezTo>
                    <a:pt x="685" y="12"/>
                    <a:pt x="751" y="0"/>
                    <a:pt x="795" y="35"/>
                  </a:cubicBezTo>
                  <a:cubicBezTo>
                    <a:pt x="827" y="61"/>
                    <a:pt x="846" y="142"/>
                    <a:pt x="855" y="170"/>
                  </a:cubicBezTo>
                  <a:cubicBezTo>
                    <a:pt x="877" y="235"/>
                    <a:pt x="892" y="293"/>
                    <a:pt x="930" y="350"/>
                  </a:cubicBezTo>
                  <a:cubicBezTo>
                    <a:pt x="947" y="468"/>
                    <a:pt x="967" y="597"/>
                    <a:pt x="1005" y="710"/>
                  </a:cubicBezTo>
                  <a:cubicBezTo>
                    <a:pt x="1015" y="740"/>
                    <a:pt x="1029" y="769"/>
                    <a:pt x="1035" y="800"/>
                  </a:cubicBezTo>
                  <a:cubicBezTo>
                    <a:pt x="1062" y="933"/>
                    <a:pt x="1067" y="1061"/>
                    <a:pt x="1110" y="1190"/>
                  </a:cubicBezTo>
                  <a:cubicBezTo>
                    <a:pt x="1116" y="1207"/>
                    <a:pt x="1132" y="1219"/>
                    <a:pt x="1140" y="1235"/>
                  </a:cubicBezTo>
                  <a:cubicBezTo>
                    <a:pt x="1174" y="1302"/>
                    <a:pt x="1194" y="1373"/>
                    <a:pt x="1215" y="1445"/>
                  </a:cubicBezTo>
                  <a:cubicBezTo>
                    <a:pt x="1224" y="1475"/>
                    <a:pt x="1235" y="1505"/>
                    <a:pt x="1245" y="1535"/>
                  </a:cubicBezTo>
                  <a:cubicBezTo>
                    <a:pt x="1250" y="1550"/>
                    <a:pt x="1260" y="1580"/>
                    <a:pt x="1260" y="1580"/>
                  </a:cubicBezTo>
                  <a:cubicBezTo>
                    <a:pt x="1240" y="1600"/>
                    <a:pt x="1206" y="1612"/>
                    <a:pt x="1200" y="1640"/>
                  </a:cubicBezTo>
                  <a:cubicBezTo>
                    <a:pt x="1197" y="1656"/>
                    <a:pt x="1236" y="1642"/>
                    <a:pt x="1245" y="1655"/>
                  </a:cubicBezTo>
                  <a:cubicBezTo>
                    <a:pt x="1263" y="1681"/>
                    <a:pt x="1265" y="1715"/>
                    <a:pt x="1275" y="1745"/>
                  </a:cubicBezTo>
                  <a:cubicBezTo>
                    <a:pt x="1277" y="1752"/>
                    <a:pt x="1285" y="1755"/>
                    <a:pt x="1290" y="17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"/>
            <p:cNvSpPr/>
            <p:nvPr/>
          </p:nvSpPr>
          <p:spPr>
            <a:xfrm>
              <a:off x="3632040" y="2313720"/>
              <a:ext cx="1102680" cy="96120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1736" h="2127">
                  <a:moveTo>
                    <a:pt x="56" y="0"/>
                  </a:moveTo>
                  <a:cubicBezTo>
                    <a:pt x="0" y="167"/>
                    <a:pt x="50" y="313"/>
                    <a:pt x="101" y="465"/>
                  </a:cubicBezTo>
                  <a:cubicBezTo>
                    <a:pt x="124" y="533"/>
                    <a:pt x="128" y="595"/>
                    <a:pt x="161" y="660"/>
                  </a:cubicBezTo>
                  <a:cubicBezTo>
                    <a:pt x="64" y="806"/>
                    <a:pt x="142" y="963"/>
                    <a:pt x="191" y="1110"/>
                  </a:cubicBezTo>
                  <a:cubicBezTo>
                    <a:pt x="151" y="1231"/>
                    <a:pt x="242" y="1348"/>
                    <a:pt x="311" y="1440"/>
                  </a:cubicBezTo>
                  <a:cubicBezTo>
                    <a:pt x="339" y="1478"/>
                    <a:pt x="357" y="1523"/>
                    <a:pt x="386" y="1560"/>
                  </a:cubicBezTo>
                  <a:cubicBezTo>
                    <a:pt x="408" y="1588"/>
                    <a:pt x="438" y="1609"/>
                    <a:pt x="461" y="1635"/>
                  </a:cubicBezTo>
                  <a:cubicBezTo>
                    <a:pt x="521" y="1703"/>
                    <a:pt x="554" y="1791"/>
                    <a:pt x="611" y="1860"/>
                  </a:cubicBezTo>
                  <a:cubicBezTo>
                    <a:pt x="643" y="1898"/>
                    <a:pt x="681" y="1930"/>
                    <a:pt x="716" y="1965"/>
                  </a:cubicBezTo>
                  <a:cubicBezTo>
                    <a:pt x="776" y="2025"/>
                    <a:pt x="811" y="2087"/>
                    <a:pt x="896" y="2115"/>
                  </a:cubicBezTo>
                  <a:cubicBezTo>
                    <a:pt x="961" y="2108"/>
                    <a:pt x="1040" y="2127"/>
                    <a:pt x="1091" y="2085"/>
                  </a:cubicBezTo>
                  <a:cubicBezTo>
                    <a:pt x="1110" y="2069"/>
                    <a:pt x="1120" y="2044"/>
                    <a:pt x="1136" y="2025"/>
                  </a:cubicBezTo>
                  <a:cubicBezTo>
                    <a:pt x="1283" y="1853"/>
                    <a:pt x="1087" y="2089"/>
                    <a:pt x="1226" y="1950"/>
                  </a:cubicBezTo>
                  <a:cubicBezTo>
                    <a:pt x="1259" y="1917"/>
                    <a:pt x="1286" y="1880"/>
                    <a:pt x="1316" y="1845"/>
                  </a:cubicBezTo>
                  <a:cubicBezTo>
                    <a:pt x="1416" y="1724"/>
                    <a:pt x="1266" y="1887"/>
                    <a:pt x="1376" y="1740"/>
                  </a:cubicBezTo>
                  <a:cubicBezTo>
                    <a:pt x="1393" y="1717"/>
                    <a:pt x="1416" y="1700"/>
                    <a:pt x="1436" y="1680"/>
                  </a:cubicBezTo>
                  <a:cubicBezTo>
                    <a:pt x="1446" y="1650"/>
                    <a:pt x="1451" y="1618"/>
                    <a:pt x="1466" y="1590"/>
                  </a:cubicBezTo>
                  <a:cubicBezTo>
                    <a:pt x="1476" y="1571"/>
                    <a:pt x="1502" y="1564"/>
                    <a:pt x="1511" y="1545"/>
                  </a:cubicBezTo>
                  <a:cubicBezTo>
                    <a:pt x="1557" y="1454"/>
                    <a:pt x="1560" y="1389"/>
                    <a:pt x="1616" y="1305"/>
                  </a:cubicBezTo>
                  <a:cubicBezTo>
                    <a:pt x="1628" y="1138"/>
                    <a:pt x="1628" y="967"/>
                    <a:pt x="1691" y="810"/>
                  </a:cubicBezTo>
                  <a:cubicBezTo>
                    <a:pt x="1705" y="680"/>
                    <a:pt x="1736" y="551"/>
                    <a:pt x="1736" y="4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6"/>
            <p:cNvSpPr/>
            <p:nvPr/>
          </p:nvSpPr>
          <p:spPr>
            <a:xfrm>
              <a:off x="5610600" y="2191680"/>
              <a:ext cx="1200600" cy="1091160"/>
            </a:xfrm>
            <a:custGeom>
              <a:avLst/>
              <a:gdLst>
                <a:gd name="textAreaLeft" fmla="*/ 0 w 1200600"/>
                <a:gd name="textAreaRight" fmla="*/ 1200960 w 120060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1890" h="2415">
                  <a:moveTo>
                    <a:pt x="0" y="0"/>
                  </a:moveTo>
                  <a:cubicBezTo>
                    <a:pt x="10" y="30"/>
                    <a:pt x="17" y="61"/>
                    <a:pt x="30" y="90"/>
                  </a:cubicBezTo>
                  <a:cubicBezTo>
                    <a:pt x="37" y="106"/>
                    <a:pt x="53" y="118"/>
                    <a:pt x="60" y="135"/>
                  </a:cubicBezTo>
                  <a:cubicBezTo>
                    <a:pt x="78" y="179"/>
                    <a:pt x="79" y="231"/>
                    <a:pt x="105" y="270"/>
                  </a:cubicBezTo>
                  <a:cubicBezTo>
                    <a:pt x="150" y="337"/>
                    <a:pt x="167" y="409"/>
                    <a:pt x="210" y="480"/>
                  </a:cubicBezTo>
                  <a:cubicBezTo>
                    <a:pt x="274" y="587"/>
                    <a:pt x="319" y="699"/>
                    <a:pt x="375" y="810"/>
                  </a:cubicBezTo>
                  <a:cubicBezTo>
                    <a:pt x="401" y="940"/>
                    <a:pt x="464" y="1061"/>
                    <a:pt x="510" y="1185"/>
                  </a:cubicBezTo>
                  <a:cubicBezTo>
                    <a:pt x="538" y="1260"/>
                    <a:pt x="537" y="1336"/>
                    <a:pt x="570" y="1410"/>
                  </a:cubicBezTo>
                  <a:cubicBezTo>
                    <a:pt x="593" y="1461"/>
                    <a:pt x="612" y="1515"/>
                    <a:pt x="645" y="1560"/>
                  </a:cubicBezTo>
                  <a:cubicBezTo>
                    <a:pt x="674" y="1600"/>
                    <a:pt x="735" y="1680"/>
                    <a:pt x="735" y="1680"/>
                  </a:cubicBezTo>
                  <a:cubicBezTo>
                    <a:pt x="730" y="1700"/>
                    <a:pt x="713" y="1720"/>
                    <a:pt x="720" y="1740"/>
                  </a:cubicBezTo>
                  <a:cubicBezTo>
                    <a:pt x="736" y="1787"/>
                    <a:pt x="780" y="1820"/>
                    <a:pt x="810" y="1860"/>
                  </a:cubicBezTo>
                  <a:cubicBezTo>
                    <a:pt x="855" y="1920"/>
                    <a:pt x="892" y="1987"/>
                    <a:pt x="945" y="2040"/>
                  </a:cubicBezTo>
                  <a:cubicBezTo>
                    <a:pt x="1085" y="2180"/>
                    <a:pt x="930" y="1985"/>
                    <a:pt x="1050" y="2145"/>
                  </a:cubicBezTo>
                  <a:cubicBezTo>
                    <a:pt x="1040" y="2160"/>
                    <a:pt x="1015" y="2173"/>
                    <a:pt x="1020" y="2190"/>
                  </a:cubicBezTo>
                  <a:cubicBezTo>
                    <a:pt x="1042" y="2266"/>
                    <a:pt x="1131" y="2257"/>
                    <a:pt x="1185" y="2265"/>
                  </a:cubicBezTo>
                  <a:cubicBezTo>
                    <a:pt x="1205" y="2275"/>
                    <a:pt x="1228" y="2281"/>
                    <a:pt x="1245" y="2295"/>
                  </a:cubicBezTo>
                  <a:cubicBezTo>
                    <a:pt x="1278" y="2322"/>
                    <a:pt x="1295" y="2372"/>
                    <a:pt x="1335" y="2385"/>
                  </a:cubicBezTo>
                  <a:cubicBezTo>
                    <a:pt x="1365" y="2395"/>
                    <a:pt x="1425" y="2415"/>
                    <a:pt x="1425" y="2415"/>
                  </a:cubicBezTo>
                  <a:cubicBezTo>
                    <a:pt x="1548" y="2394"/>
                    <a:pt x="1639" y="2334"/>
                    <a:pt x="1755" y="2295"/>
                  </a:cubicBezTo>
                  <a:cubicBezTo>
                    <a:pt x="1760" y="2280"/>
                    <a:pt x="1759" y="2261"/>
                    <a:pt x="1770" y="2250"/>
                  </a:cubicBezTo>
                  <a:cubicBezTo>
                    <a:pt x="1781" y="2239"/>
                    <a:pt x="1802" y="2244"/>
                    <a:pt x="1815" y="2235"/>
                  </a:cubicBezTo>
                  <a:cubicBezTo>
                    <a:pt x="1833" y="2223"/>
                    <a:pt x="1846" y="2206"/>
                    <a:pt x="1860" y="2190"/>
                  </a:cubicBezTo>
                  <a:cubicBezTo>
                    <a:pt x="1872" y="2176"/>
                    <a:pt x="1890" y="2145"/>
                    <a:pt x="1890" y="21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5"/>
            <p:cNvSpPr/>
            <p:nvPr/>
          </p:nvSpPr>
          <p:spPr>
            <a:xfrm flipV="1">
              <a:off x="6158160" y="2197080"/>
              <a:ext cx="0" cy="12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4"/>
            <p:cNvSpPr/>
            <p:nvPr/>
          </p:nvSpPr>
          <p:spPr>
            <a:xfrm flipH="1">
              <a:off x="6157800" y="2197440"/>
              <a:ext cx="1141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3"/>
            <p:cNvSpPr/>
            <p:nvPr/>
          </p:nvSpPr>
          <p:spPr>
            <a:xfrm flipH="1">
              <a:off x="6158160" y="227916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6158160" y="236052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1"/>
            <p:cNvSpPr/>
            <p:nvPr/>
          </p:nvSpPr>
          <p:spPr>
            <a:xfrm flipH="1">
              <a:off x="6158160" y="244188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 flipH="1">
              <a:off x="6158160" y="2523240"/>
              <a:ext cx="11304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 flipH="1">
              <a:off x="6158160" y="260424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H="1">
              <a:off x="6158160" y="301104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 flipH="1">
              <a:off x="6158160" y="293004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 flipH="1">
              <a:off x="6158160" y="2848320"/>
              <a:ext cx="1123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 flipH="1">
              <a:off x="6158160" y="2767320"/>
              <a:ext cx="11304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 flipH="1">
              <a:off x="6158160" y="2685960"/>
              <a:ext cx="1123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 flipH="1">
              <a:off x="6158160" y="325512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 flipH="1">
              <a:off x="6158160" y="325512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 flipH="1">
              <a:off x="6158160" y="317376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"/>
            <p:cNvSpPr/>
            <p:nvPr/>
          </p:nvSpPr>
          <p:spPr>
            <a:xfrm flipH="1">
              <a:off x="6158160" y="3092400"/>
              <a:ext cx="11304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6500520" y="2197440"/>
              <a:ext cx="343080" cy="81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гранич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5472360" y="3580920"/>
              <a:ext cx="12556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начение на ограничения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"/>
            <p:cNvSpPr/>
            <p:nvPr/>
          </p:nvSpPr>
          <p:spPr>
            <a:xfrm>
              <a:off x="1586160" y="3580920"/>
              <a:ext cx="125496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аксималь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3414240" y="3580920"/>
              <a:ext cx="125532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инимальное 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44"/>
          <p:cNvSpPr/>
          <p:nvPr/>
        </p:nvSpPr>
        <p:spPr>
          <a:xfrm>
            <a:off x="1111320" y="4547880"/>
            <a:ext cx="69721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е многокритериальной задачи необходимо частные критерии свернуть в од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= ∑ а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к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      а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весовой коэффици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-  значение частного крит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РАЗРАБОТКИ УПРАВЛЕНЧЕСКИ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395280" y="1413000"/>
            <a:ext cx="8353440" cy="5111280"/>
            <a:chOff x="395280" y="1413000"/>
            <a:chExt cx="8353440" cy="5111280"/>
          </a:xfrm>
        </p:grpSpPr>
        <p:sp>
          <p:nvSpPr>
            <p:cNvPr id="368" name="AutoShape 6"/>
            <p:cNvSpPr/>
            <p:nvPr/>
          </p:nvSpPr>
          <p:spPr>
            <a:xfrm>
              <a:off x="395280" y="1413000"/>
              <a:ext cx="8353440" cy="51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7"/>
            <p:cNvGrpSpPr/>
            <p:nvPr/>
          </p:nvGrpSpPr>
          <p:grpSpPr>
            <a:xfrm>
              <a:off x="558360" y="1413000"/>
              <a:ext cx="8188200" cy="4544280"/>
              <a:chOff x="558360" y="1413000"/>
              <a:chExt cx="8188200" cy="4544280"/>
            </a:xfrm>
          </p:grpSpPr>
          <p:sp>
            <p:nvSpPr>
              <p:cNvPr id="370" name="Rectangle 8"/>
              <p:cNvSpPr/>
              <p:nvPr/>
            </p:nvSpPr>
            <p:spPr>
              <a:xfrm>
                <a:off x="3342960" y="1413000"/>
                <a:ext cx="2620440" cy="170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етоды разработки управленческих реш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9"/>
              <p:cNvSpPr/>
              <p:nvPr/>
            </p:nvSpPr>
            <p:spPr>
              <a:xfrm>
                <a:off x="558360" y="4253760"/>
                <a:ext cx="2620800" cy="170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Экономико-математические методы и моде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0"/>
              <p:cNvSpPr/>
              <p:nvPr/>
            </p:nvSpPr>
            <p:spPr>
              <a:xfrm>
                <a:off x="3342960" y="4253760"/>
                <a:ext cx="2620440" cy="170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600" spc="-1" strike="noStrike">
                    <a:solidFill>
                      <a:srgbClr val="000000"/>
                    </a:solidFill>
                    <a:latin typeface="Arial"/>
                  </a:rPr>
                  <a:t>Эвристические методы (методы активизации мышления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1"/>
              <p:cNvSpPr/>
              <p:nvPr/>
            </p:nvSpPr>
            <p:spPr>
              <a:xfrm>
                <a:off x="6127200" y="4253760"/>
                <a:ext cx="2619360" cy="170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татистические мето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2"/>
              <p:cNvSpPr/>
              <p:nvPr/>
            </p:nvSpPr>
            <p:spPr>
              <a:xfrm flipH="1">
                <a:off x="1868760" y="3116520"/>
                <a:ext cx="278460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3"/>
              <p:cNvSpPr/>
              <p:nvPr/>
            </p:nvSpPr>
            <p:spPr>
              <a:xfrm>
                <a:off x="4653720" y="3116520"/>
                <a:ext cx="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4"/>
              <p:cNvSpPr/>
              <p:nvPr/>
            </p:nvSpPr>
            <p:spPr>
              <a:xfrm>
                <a:off x="4653720" y="3116520"/>
                <a:ext cx="278424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Экономико-математические методы и моде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50920" y="667800"/>
            <a:ext cx="842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методы и модели дают количественную характеристику проблемы и служат основой для принятия управленческого решения при поиске оптимального варианта. Разработка решения такими методами может быть представлена последовательностью основных эта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становка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пределение критерия эффективности анализируемой оп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личественное изменение факторов, влияющих на исследуемую опера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строение математической модели изучаемого объ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личественное решение модели и нахождение оптимальн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оверка адекватности модели и найденного решения анализируем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рректировка и обновлени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 числу наиболее распространенных типов моделей относятся модели теории игр, модели теории очередей, модели управления запасами и модели линейного программ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вристические методы (методы активизации мышле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179280" y="1413000"/>
          <a:ext cx="8713800" cy="544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Object 2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914400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6868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правила мозгового штур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ris7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озгового шту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у последовательно решают 2 группы людей (оптимальный состав каждой 6—12 человек). Первая группа — «генераторы идей» — выдвигает различные идеи (рис. 1). В ней желательно иметь людей, склонных к абстрагированию, с бурной фантазией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а «штурмуется» в течение 20—40 минут. Вторая группа — «эксперты» — по окончании штурма выносит суждение о ценности выдвинутых идей. В ее составе лучше работают люди с аналитическим, критическим складом ума. Условия задачи перед ее штурмом формулируются только в общих понят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группа генераторов идей"/>
          <p:cNvPicPr/>
          <p:nvPr/>
        </p:nvPicPr>
        <p:blipFill>
          <a:blip r:embed="rId1"/>
          <a:stretch/>
        </p:blipFill>
        <p:spPr>
          <a:xfrm>
            <a:off x="457200" y="2455920"/>
            <a:ext cx="40384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ческое решение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результат анализа, прогнозирования, оптимизации, экономического обоснования и выбора альтернативы из множества вариантов достижения конкретной цели системы менедж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.А.Фатхутд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выбор одного из возможных альтернативных вариантов, осуществляемых лицом, принимающим решения (ЛПР), и направленный на достижение поставленной цели. Один из основных этапов процесса управления, организационный а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Литв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ческое реш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едприятии представляет собой творческий акт субъекта управления (индивидуального или группового лица), определяющий программу деятельности коллектива по эффективному разрешению назревшей проблемы на основе знания объективных законов функционирования управляемой системы и анализа информации о ее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С.Юк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2"/>
          <p:cNvGraphicFramePr/>
          <p:nvPr/>
        </p:nvGraphicFramePr>
        <p:xfrm>
          <a:off x="0" y="476280"/>
          <a:ext cx="9144000" cy="6381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«Морфологического ящ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1981080"/>
          <a:ext cx="8229600" cy="3924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группов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320" y="980640"/>
            <a:ext cx="895824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Круговой сбор иде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остоит в том, что руководитель предлагает каждому отдельно обдумать проблему, сформулировать несколько вариантов решения и всем по очереди высказывать мнения о них с фиксацией на доск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свободных ассоциац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заключается в том, что руководитель пишет на бумаге слово (фразу), которое имеет отношение к данной проблеме, а каждый из участников дополняет запись своими. В результате возникает мыслительная цепочка, раскрывающая проблему с разных сторон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сравнительных оценок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едполагает, что участники дают характеристику в условных баллах (от 1 до 5) тому или иному параметру проблемы. Затем выводится их средняя оценка, на основе которой члены группы разбиваются на две половины (одна с оценками ниже средней, а другая ѕ выше), пытаясь доказать друг другу свою правоту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расстановки элементов проблемы по значимост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остоит в том, что участники ранжируют их по важности, продолжительности работы над ними и т. п. Все предложения записываются на доске и обсуждаются в форме конференци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Метод 635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едполагает, что после постановки проблемы каждый из 6 участников получает возможность обдумать ее несколько дней. Затем, собравшись вместе, они проводят 5 раундов мозговой атаки на бумаге. Продолжительность первого 5 мин, а каждого последующего на одну минуту больше. Поскольку каждый раз на карточку необходимо записать по 3 идеи, в конечном итоге можно получить 108 предложен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Метод синектик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добен мозговой атаке. Проблема рассматривается группой из 9 человек. Руководитель объясняет проблему, а участники предлагают варианты решения, которые тот анализирует, оценивает и при необходимости ставит новые задач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татистически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число этих методов входят «семь инструментов качества», среди которых при разработке решений использу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лис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Парет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а Исикав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кар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ь простых инструментов контроля кач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лис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ст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т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расссе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Пар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но-следственная диаграмма (диаграмма Ишикав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ый ли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7tools-2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Парето для повышения качества государственных услу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а Парето позволяет распределить усилия для разрешения возникающих проблем и установить основные факторы, с которых нужно начинать действовать с целью преодоления возникающих пробл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а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ва вида диаграмм Паре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диаграмма Парето по результатам деятельности и диаграмма Парето по причин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льфредо Парето (1848—192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97 году итальянский экономист Вильфредо Парето (1848—1923) предложил формулу, показывающую, чт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ага распределяются неравномер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же теория была проиллюстрирована американским экономистом М. Лоренцом в 1907 г. на диаграмме. Оба ученых показали, что в большинстве случае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ибольшая доля благ (доходов) принадлежит небольшому числу люд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01sld4"/>
          <p:cNvPicPr/>
          <p:nvPr/>
        </p:nvPicPr>
        <p:blipFill>
          <a:blip r:embed="rId1"/>
          <a:stretch/>
        </p:blipFill>
        <p:spPr>
          <a:xfrm>
            <a:off x="1017720" y="1981080"/>
            <a:ext cx="2916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жозеф Джу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озеф Джур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дился 24 декабря 1904 г. в городе Браила, в Румынии в семье сапожника. Его семья проживала в городе Карпатия до 1912 г., а затем эмигрировала в США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. Джур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женился в 1926 г. Он имеет четырех сыновей, девятерых внуков и пятерых правнуков. Дж. Джуран получил степень бакалавра электротехники в Минесотском университете и степень доктора юриспруденции в Университете Лойолы в Чикаго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Ettor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1994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своей многолетней карьеры Дж. Джуран работал инженером, руководящим работником промышленного предприятия, государственным управляющим, университетским профессором, третейским судьей в трудовых спорах, президентом корпорации и консультантом по проблемам менеджмента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Jura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1988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0"/>
          <p:cNvPicPr/>
          <p:nvPr/>
        </p:nvPicPr>
        <p:blipFill>
          <a:blip r:embed="rId1"/>
          <a:stretch/>
        </p:blipFill>
        <p:spPr>
          <a:xfrm>
            <a:off x="5238720" y="2143080"/>
            <a:ext cx="28576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начала следует реш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облемы необходимо исследовать (например, дефектные изделия, потери в деньгах, несчастные случа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данные нужно собрать и как их классифицировать (например, по видам дефектов, по месту их появления, по процессам, по станкам, по рабочим, по технологическим причинам, по оборудованию, по методам измерения и применяемым измерительным средствам; нечасто встречающиеся признаки объединяют под общим заголовком «прочие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метод и период сбора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работка контрольного листка для регистрации данных с перечнем видов собираем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полнение листка регистрации данных и подсчет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работка таблицы для проверок данных с графами для итогов по каждому проверяемому признаку в отдельности, накопленной суммы числа дефектов, процентов к общему итогу и накопленных проц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сположение данных, полученных по каждому проверяемому признаку, в порядке значимости и заполнение табл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j0299125"/>
          <p:cNvPicPr/>
          <p:nvPr/>
        </p:nvPicPr>
        <p:blipFill>
          <a:blip r:embed="rId1"/>
          <a:stretch/>
        </p:blipFill>
        <p:spPr>
          <a:xfrm>
            <a:off x="6732720" y="260280"/>
            <a:ext cx="2089080" cy="1805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84360" y="620640"/>
            <a:ext cx="575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́ма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р.-греч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προβλήμα) —             положение, причинность, условие, вопрос, объект, который создаёт затруднение, побуждает к действию и связан с избыточностью или недостатком чего-либо для сознания субъекта, например: процессора (движителя, калькулятора, компьютера, специалиста), знаний, ресурсов, регламента (упорядоченности, алгоритма, программы) и побуждает к действию или ограничивает его и соответственно неразрешён или нежелате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0" y="476280"/>
          <a:ext cx="9144000" cy="6396120"/>
        </p:xfrm>
        <a:graphic>
          <a:graphicData uri="http://schemas.openxmlformats.org/drawingml/2006/table">
            <a:tbl>
              <a:tblPr/>
              <a:tblGrid>
                <a:gridCol w="1452600"/>
                <a:gridCol w="965160"/>
                <a:gridCol w="2016000"/>
                <a:gridCol w="3400560"/>
                <a:gridCol w="1309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ная сумма числа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числа дефектов по каждому признаку к общей сум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ный 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до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орка ул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чка кры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еди в поликлинн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—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Нанесение горизонтальной и вертикальной о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тикальная ось содержи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це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горизонтальная 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терва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ответствии с числом контролируемых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изонтальную ось разбивают на интервалы в соответствии с количеством контролируемых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троение столбиковой диа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7" descr=" Рисунок 1. Диаграмма Парето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ап 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ведение на диаграмме кумулятивной кривой (кривой Парето) (рис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ап 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несение на диаграмму всех обозначений и надписей, касающихся диаграммы (название, разметка числовых значений на осях, наименование контролируемого изделия, имя составителя диаграммы), и данных (период сбора информации, объект исследования и место его проведения, общее число объектов контрол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3" descr="7tools-7"/>
          <p:cNvPicPr/>
          <p:nvPr/>
        </p:nvPicPr>
        <p:blipFill>
          <a:blip r:embed="rId1"/>
          <a:stretch/>
        </p:blipFill>
        <p:spPr>
          <a:xfrm>
            <a:off x="324000" y="1989000"/>
            <a:ext cx="439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С-анализ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А — наиболее важные, существенные проблемы, причины, дефекты. Относительный процент группы А в общем количестве дефектов (причин) обычно составляет от 60 до 80%. Соответственно устранение причин группы Л имеет большой приоритет, а связанные с этим мероприятия — самую высокую эффе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В — причины, которые в сумме имеют не более 20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С — самые многочисленные, но при этом наименее значимые причины и пробл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Рисунок 3. АВС-анализ в рамках диаграммы Парето"/>
          <p:cNvPicPr/>
          <p:nvPr/>
        </p:nvPicPr>
        <p:blipFill>
          <a:blip r:embed="rId1"/>
          <a:stretch/>
        </p:blipFill>
        <p:spPr>
          <a:xfrm>
            <a:off x="4643280" y="1628640"/>
            <a:ext cx="4176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но-следственная сх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ору Исикава (1915-1990) – известный японский ученый в области управления качеством, с именем которого также связывают возрождение и развитие японской экономик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Исикава ввел в мировую практику новый оригинальный практический метод анализа причинно-следственных связей, получивший название диаграммы Исискавы («рыбья кость Исикавы») и вошедший в состав инструментов контроля ка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il_fi" descr="Kaoru"/>
          <p:cNvPicPr/>
          <p:nvPr/>
        </p:nvPicPr>
        <p:blipFill>
          <a:blip r:embed="rId1"/>
          <a:stretch/>
        </p:blipFill>
        <p:spPr>
          <a:xfrm>
            <a:off x="826920" y="1700280"/>
            <a:ext cx="3313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но-следственная диаграмма («рыбий ске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Гистограмма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е правила постро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жде чем приступать к построению диаграммы, все участники должны прийти к единому мнению относительно формулировки пробл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емая проблема записывается с правой стороны в середине чистого листа бумаги и заключается в рамку, к которой слева подходит основная горизонтальная стрелка - "хребет" (диаграмму Исикавы из-за внешнего вида часто называют "рыбьим скелетом"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сятся главные причины (причины уровня 1), влияющие на проблему, - "большие кости". Они заключаются в рамки и соединяются наклонными стрелками с "хребтом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наносятся вторичные причины (причины уровня 2), которые влияют на главные причины ("большие кости"), а те, в свою очередь, являются следствием вторичных причин. Вторичные причины записываются и располагаются в виде "средних костей", примыкающих к "большим". Причины уровня 3, которые влияют на причины уровня 2, располагаются в виде "мелких костей", примыкающих к "средним", и т. д. (Если на диаграмме приведены не все причины, то одна стрелка оставляется пуст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нализе должны выявляться и фиксироваться все факторы, даже те, которые кажутся незначительными, так как цель схемы - отыскать наиболее правильный путь и эффективный способ решения пробл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(факторы) оцениваются и ранжируются по их значимости, выделяя особо важные, которые предположительно оказывают наибольшее влияние на показатель ка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иаграмму вносится вся необходимая информация: ее название; наименование изделия; имена участников; дата и т. 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КАЧЕСТВЕННЫХ РЕ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179280" y="1627560"/>
            <a:ext cx="871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д качеством управленческих ре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нимается совокупность свойств, обеспечивающих их успешное выполнение и получение определенного эффекта для организации. К числу таких свойств относятся обоснованность решения, эффективность, своевременность, непротиворечивость, правомочность, полномочность, конкретность, простот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а качествен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основан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ческого решения проявляется в необходимости учета всей совокупности факторов и условий, связанных с его разработкой. При этом важное место отводится качеству используемой информации, ее достоверности и полноте, своевременности ее по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правленческого решения подчеркивает обязательность соотношения ожидаемого и достигнутого экономического и социального эффекта с затратами на его разработку и реализ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= Эффект/Затраты на разработку и реализацию 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ктике деятельности предприятий находит применение показатель, косвенно характеризующий качество управленческих ре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к = ((Рв – Рн)/ Рп) х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Кк – коэффициент качества управленчески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в – количество выполненных управленчески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н – количество выполненных некачественны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п – общее количество принятых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войства качественных решений (продолжени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оеврем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оказатель, отражающий важность принятия решения в установленный срок, поскольку несвоевременно принятое решение либо теряет свою значимость, либо требует пересмотра ситуации, в которой возникла пробл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противоречи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авленческого решения выражает необходимость его предварительного согласования с ранее принятыми в данной организации, а также проверки соответствия нормативно-правовым доку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мо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я состоит в том, что оно должно приниматься на том уровне управления, который имеет на это соответствующие полномочия (законное право, осно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нкре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авленческого решения проявляется в четком указании: кто, что и когда должен выполн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проблемы (п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В.Шевыреву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0" y="1413000"/>
            <a:ext cx="8748720" cy="5445000"/>
            <a:chOff x="0" y="1413000"/>
            <a:chExt cx="8748720" cy="5445000"/>
          </a:xfrm>
        </p:grpSpPr>
        <p:sp>
          <p:nvSpPr>
            <p:cNvPr id="213" name="AutoShape 6"/>
            <p:cNvSpPr/>
            <p:nvPr/>
          </p:nvSpPr>
          <p:spPr>
            <a:xfrm>
              <a:off x="0" y="1413000"/>
              <a:ext cx="8748720" cy="54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7"/>
            <p:cNvGrpSpPr/>
            <p:nvPr/>
          </p:nvGrpSpPr>
          <p:grpSpPr>
            <a:xfrm>
              <a:off x="393120" y="1465560"/>
              <a:ext cx="7855560" cy="5238000"/>
              <a:chOff x="393120" y="1465560"/>
              <a:chExt cx="7855560" cy="5238000"/>
            </a:xfrm>
          </p:grpSpPr>
          <p:sp>
            <p:nvSpPr>
              <p:cNvPr id="215" name="Rectangle 8"/>
              <p:cNvSpPr/>
              <p:nvPr/>
            </p:nvSpPr>
            <p:spPr>
              <a:xfrm>
                <a:off x="2836800" y="1465560"/>
                <a:ext cx="3090240" cy="166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Внешняя сре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9"/>
              <p:cNvSpPr/>
              <p:nvPr/>
            </p:nvSpPr>
            <p:spPr>
              <a:xfrm>
                <a:off x="3146400" y="2000520"/>
                <a:ext cx="2470320" cy="10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Внутреняя структура проблемы: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Объект, субъект, цель, предмет, средства, ограничения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393120" y="3298320"/>
                <a:ext cx="207900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Техник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реш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1"/>
              <p:cNvSpPr/>
              <p:nvPr/>
            </p:nvSpPr>
            <p:spPr>
              <a:xfrm>
                <a:off x="6170040" y="3314520"/>
                <a:ext cx="207864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сихология реш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2"/>
              <p:cNvSpPr/>
              <p:nvPr/>
            </p:nvSpPr>
            <p:spPr>
              <a:xfrm>
                <a:off x="3430800" y="4766040"/>
                <a:ext cx="207864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роцес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ышл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3"/>
              <p:cNvSpPr/>
              <p:nvPr/>
            </p:nvSpPr>
            <p:spPr>
              <a:xfrm>
                <a:off x="3403800" y="6111720"/>
                <a:ext cx="2213280" cy="59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Реше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 flipH="1" flipV="1">
                <a:off x="4064040" y="5901120"/>
                <a:ext cx="1404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4901400" y="589248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 flipV="1">
                <a:off x="5509440" y="4433040"/>
                <a:ext cx="1726560" cy="125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 flipH="1" flipV="1">
                <a:off x="1527120" y="4417200"/>
                <a:ext cx="191592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 flipV="1">
                <a:off x="1351800" y="2568600"/>
                <a:ext cx="1808640" cy="73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5617080" y="2576520"/>
                <a:ext cx="1632960" cy="73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ОКИ И ВИДЫ НЕОПРЕДЕ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преде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ется как не вполне отчетливая, неточная, неясная или уклончивая информация о каком либо объекте или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ритерию определенности различают решения, принятые в услов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ной определенности (рис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пределенности (ненадеж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нятие решения в условиях определенности увеличивает оперативность разработки, снижает затраты на выбор целесообразн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количестве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обусловленная значительным числом объектов или элементов в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информацио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званная недостатком информации или ее неточностью по техническим, социальным или другим причин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тоимос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з-за слишком высокой или недоступной платы за определ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професс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едствие недостаточного профессионализма Л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ограничите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званная ограничениями в ситуации принятия решения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внешней 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вязанная с ее изменением или реакцией конкурента на принятое 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тепени неопределенности информации о проблемной ситуации различ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ходной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и – заранее накопленной, априор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ератив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и – текущие сведения о состоянии объ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убъектив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– связанная с невозможностью получения объективных знаний об объе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экстремальных ситу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ервы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число возможных вариантов развития событий незначительно, есть возможность их предвидения, а следовательно, и подготовки к разрешению возникающих проблем. Эти ситуации разрешаются методами ситуационного управления, для чего разрабатываются специальные стандарты решений по выходу из экстремальных ситу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Второ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число возможных вариантов развития событий велико, что исключает предварительную подготовку к разрешению конкретных проблем. Для принятия решений, адекватных сложившейся ситуации, важное значение имеет специальная подготовка персонала, учитывающая временной цейтнот и психологическую перегруз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Трети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непрогнозируемые ситуации. Выход из таких ситуаций полностью определяется действиями ЛПР, их интуитивными реше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е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 рис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имается вероятность наступления событий, в результате которых возможны непредвиденные потери дохода, имущества, денежных средств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ким образом, принятие решений в условиях риска означает выбор варианта решения в условиях, когда каждое действие приводит к одному из множества возможных частных исходов, причём каждый исход имеет вычисляемую или экспертно определяемую вероятность поя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кторы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ая сфера государственного регулирования хозяйствен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роли случайных факторов при взаимодействии организации с внешней сред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ая собств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ентная борьба товаропроизв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оятность возникновения рисковых ситуаций на отдельных этапах жизненного цикл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ристков по источнику возникнов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24000" y="1353600"/>
            <a:ext cx="86407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иродно-естественны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роявлением стихийных сил природы (землетрясение, наводнение, буря, пожар, эпидемия и т.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Экологи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загрязнением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лити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олитической ситуацией в стране и деятельностью государства. Политические риски возникают при нарушении условий производственно- торгового процесса по причинам, непосредственно не зависящим от хозяйствующего субъ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Транспортны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еревозками грузов транспортом: автомобильным, морским, речным, железнодорож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летам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оммер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опасность потерь в процессе финансово-хозяйственной деятельности. Они могут появиться в результате снижения уровня продаж на рынке, повышения тарифов на перевозку грузов, колебания валютного кур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 коммерческих ри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Имущественн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риски, связанные с вероятностью потерь имущества предпринимателя по причине кражи, диверсии, халатности, перенапряжения технической и технологической систем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Проuзводственн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риски, связанные с убытком от остановки производства вследствие воздействия различных факторов и, прежде всего, с гибелью или повреждением основных и оборотных фондов (оборудование, сырьё, транспорт и т.п.), а также риски, связанные с внедрением в производство новой техники и технолог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Торгов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едставляют собой риски, связанные с убытком по причине задержки платежей, отказа от платежа в период транспортировки товара, непоставки товара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Финансов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вязаны с вероятностью потерь финансовых ресур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р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устим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имеется угроза полной потери прибыли от реализации планируемого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озможно непоступление прибыли и выручки, а также покрытие убытков за счёт средств предприним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астроф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озможны потеря капитала, имущества и банкротство предприним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оценки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Статис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оит в статистическом анализе потерь, наблюдавшихся в аналогичных   видах хозяйственной деятельности, установлении их уровней и частоты появ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Экспертны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лючается в сборе и обработке мнений опытных предпринимателей, менеджеров и специалистов, дающих свои оценки вероятности возникновения определённых уровней потерь в конкретных коммерческих операц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Расчётно-анали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азируется на математических моделях, предлагаемых теорией вероятностей, теорией игр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"/>
          <p:cNvGrpSpPr/>
          <p:nvPr/>
        </p:nvGrpSpPr>
        <p:grpSpPr>
          <a:xfrm>
            <a:off x="71280" y="142920"/>
            <a:ext cx="8858160" cy="6571800"/>
            <a:chOff x="71280" y="142920"/>
            <a:chExt cx="8858160" cy="6571800"/>
          </a:xfrm>
        </p:grpSpPr>
        <p:sp>
          <p:nvSpPr>
            <p:cNvPr id="228" name="Rectangle 6"/>
            <p:cNvSpPr/>
            <p:nvPr/>
          </p:nvSpPr>
          <p:spPr>
            <a:xfrm>
              <a:off x="71280" y="3037680"/>
              <a:ext cx="1283040" cy="108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ы управленческих реш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2417040" y="142920"/>
              <a:ext cx="231696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Источник возникнов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8"/>
            <p:cNvSpPr/>
            <p:nvPr/>
          </p:nvSpPr>
          <p:spPr>
            <a:xfrm>
              <a:off x="2432160" y="915480"/>
              <a:ext cx="2331720" cy="5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пособ доведения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2433240" y="1791720"/>
              <a:ext cx="2330640" cy="47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убъект принятия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2417040" y="2470320"/>
              <a:ext cx="2330640" cy="47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тепень новизны (уникальност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2401920" y="3211920"/>
              <a:ext cx="2330280" cy="47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Наличие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2433240" y="4001400"/>
              <a:ext cx="2330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Методы разработки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2433240" y="4719600"/>
              <a:ext cx="23306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Целевая направлен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4"/>
            <p:cNvSpPr/>
            <p:nvPr/>
          </p:nvSpPr>
          <p:spPr>
            <a:xfrm>
              <a:off x="2464920" y="5516640"/>
              <a:ext cx="23306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одержание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5"/>
            <p:cNvSpPr/>
            <p:nvPr/>
          </p:nvSpPr>
          <p:spPr>
            <a:xfrm>
              <a:off x="2449800" y="6210720"/>
              <a:ext cx="2327760" cy="47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Пери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776600" y="379080"/>
              <a:ext cx="16200" cy="60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347480" y="358236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776600" y="387360"/>
              <a:ext cx="63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776600" y="119196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>
              <a:off x="1776600" y="203580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1776600" y="2722680"/>
              <a:ext cx="63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2"/>
            <p:cNvSpPr/>
            <p:nvPr/>
          </p:nvSpPr>
          <p:spPr>
            <a:xfrm>
              <a:off x="1776600" y="426096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1776600" y="497124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1792800" y="5744160"/>
              <a:ext cx="66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1792800" y="644580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6"/>
            <p:cNvSpPr/>
            <p:nvPr/>
          </p:nvSpPr>
          <p:spPr>
            <a:xfrm>
              <a:off x="5807160" y="158400"/>
              <a:ext cx="303012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Инициа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7"/>
            <p:cNvSpPr/>
            <p:nvPr/>
          </p:nvSpPr>
          <p:spPr>
            <a:xfrm>
              <a:off x="5807160" y="42624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 предписан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8"/>
            <p:cNvSpPr/>
            <p:nvPr/>
          </p:nvSpPr>
          <p:spPr>
            <a:xfrm>
              <a:off x="5792040" y="907560"/>
              <a:ext cx="30276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с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9"/>
            <p:cNvSpPr/>
            <p:nvPr/>
          </p:nvSpPr>
          <p:spPr>
            <a:xfrm>
              <a:off x="5792040" y="1206720"/>
              <a:ext cx="3027600" cy="18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ись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0"/>
            <p:cNvSpPr/>
            <p:nvPr/>
          </p:nvSpPr>
          <p:spPr>
            <a:xfrm>
              <a:off x="5807160" y="179100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Индивидуаль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1"/>
            <p:cNvSpPr/>
            <p:nvPr/>
          </p:nvSpPr>
          <p:spPr>
            <a:xfrm>
              <a:off x="5807160" y="209880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ллек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5823720" y="2477520"/>
              <a:ext cx="302724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ради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3"/>
            <p:cNvSpPr/>
            <p:nvPr/>
          </p:nvSpPr>
          <p:spPr>
            <a:xfrm>
              <a:off x="5825160" y="2753280"/>
              <a:ext cx="302472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вор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4"/>
            <p:cNvSpPr/>
            <p:nvPr/>
          </p:nvSpPr>
          <p:spPr>
            <a:xfrm>
              <a:off x="5825160" y="3045240"/>
              <a:ext cx="302472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преде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5"/>
            <p:cNvSpPr/>
            <p:nvPr/>
          </p:nvSpPr>
          <p:spPr>
            <a:xfrm>
              <a:off x="5856840" y="330552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ероятнос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6"/>
            <p:cNvSpPr/>
            <p:nvPr/>
          </p:nvSpPr>
          <p:spPr>
            <a:xfrm>
              <a:off x="5856840" y="355860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Неопреде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7"/>
            <p:cNvSpPr/>
            <p:nvPr/>
          </p:nvSpPr>
          <p:spPr>
            <a:xfrm>
              <a:off x="5840280" y="399996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личеств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8"/>
            <p:cNvSpPr/>
            <p:nvPr/>
          </p:nvSpPr>
          <p:spPr>
            <a:xfrm>
              <a:off x="5840280" y="4323240"/>
              <a:ext cx="302436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Эврист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9"/>
            <p:cNvSpPr/>
            <p:nvPr/>
          </p:nvSpPr>
          <p:spPr>
            <a:xfrm>
              <a:off x="5856840" y="471816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дноцелев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0"/>
            <p:cNvSpPr/>
            <p:nvPr/>
          </p:nvSpPr>
          <p:spPr>
            <a:xfrm>
              <a:off x="5870520" y="4986720"/>
              <a:ext cx="302724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Многоцелев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1"/>
            <p:cNvSpPr/>
            <p:nvPr/>
          </p:nvSpPr>
          <p:spPr>
            <a:xfrm>
              <a:off x="5887080" y="524700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2"/>
            <p:cNvSpPr/>
            <p:nvPr/>
          </p:nvSpPr>
          <p:spPr>
            <a:xfrm>
              <a:off x="5887080" y="549936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ехн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3"/>
            <p:cNvSpPr/>
            <p:nvPr/>
          </p:nvSpPr>
          <p:spPr>
            <a:xfrm>
              <a:off x="5887080" y="574416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4"/>
            <p:cNvSpPr/>
            <p:nvPr/>
          </p:nvSpPr>
          <p:spPr>
            <a:xfrm>
              <a:off x="5903640" y="598860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рганиза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5"/>
            <p:cNvSpPr/>
            <p:nvPr/>
          </p:nvSpPr>
          <p:spPr>
            <a:xfrm>
              <a:off x="5903640" y="624924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лговре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6"/>
            <p:cNvSpPr/>
            <p:nvPr/>
          </p:nvSpPr>
          <p:spPr>
            <a:xfrm>
              <a:off x="5888160" y="6532560"/>
              <a:ext cx="3023280" cy="18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пера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7"/>
            <p:cNvSpPr/>
            <p:nvPr/>
          </p:nvSpPr>
          <p:spPr>
            <a:xfrm>
              <a:off x="4775040" y="6336000"/>
              <a:ext cx="11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8"/>
            <p:cNvSpPr/>
            <p:nvPr/>
          </p:nvSpPr>
          <p:spPr>
            <a:xfrm>
              <a:off x="4791600" y="6603840"/>
              <a:ext cx="10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9"/>
            <p:cNvSpPr/>
            <p:nvPr/>
          </p:nvSpPr>
          <p:spPr>
            <a:xfrm>
              <a:off x="5347080" y="5349600"/>
              <a:ext cx="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50"/>
            <p:cNvSpPr/>
            <p:nvPr/>
          </p:nvSpPr>
          <p:spPr>
            <a:xfrm>
              <a:off x="4791600" y="5752080"/>
              <a:ext cx="55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1"/>
            <p:cNvSpPr/>
            <p:nvPr/>
          </p:nvSpPr>
          <p:spPr>
            <a:xfrm>
              <a:off x="5347080" y="535716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2"/>
            <p:cNvSpPr/>
            <p:nvPr/>
          </p:nvSpPr>
          <p:spPr>
            <a:xfrm>
              <a:off x="5347080" y="559440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3"/>
            <p:cNvSpPr/>
            <p:nvPr/>
          </p:nvSpPr>
          <p:spPr>
            <a:xfrm>
              <a:off x="5347080" y="583884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4"/>
            <p:cNvSpPr/>
            <p:nvPr/>
          </p:nvSpPr>
          <p:spPr>
            <a:xfrm>
              <a:off x="5361840" y="609120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5"/>
            <p:cNvSpPr/>
            <p:nvPr/>
          </p:nvSpPr>
          <p:spPr>
            <a:xfrm>
              <a:off x="4760280" y="4804920"/>
              <a:ext cx="10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6"/>
            <p:cNvSpPr/>
            <p:nvPr/>
          </p:nvSpPr>
          <p:spPr>
            <a:xfrm>
              <a:off x="4760280" y="5073480"/>
              <a:ext cx="11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4760280" y="407160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4760280" y="443448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5283720" y="3132720"/>
              <a:ext cx="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60"/>
            <p:cNvSpPr/>
            <p:nvPr/>
          </p:nvSpPr>
          <p:spPr>
            <a:xfrm>
              <a:off x="4727160" y="3424320"/>
              <a:ext cx="5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1"/>
            <p:cNvSpPr/>
            <p:nvPr/>
          </p:nvSpPr>
          <p:spPr>
            <a:xfrm>
              <a:off x="5298840" y="3140640"/>
              <a:ext cx="540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62"/>
            <p:cNvSpPr/>
            <p:nvPr/>
          </p:nvSpPr>
          <p:spPr>
            <a:xfrm>
              <a:off x="5283720" y="3393000"/>
              <a:ext cx="57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3"/>
            <p:cNvSpPr/>
            <p:nvPr/>
          </p:nvSpPr>
          <p:spPr>
            <a:xfrm>
              <a:off x="5283720" y="3652560"/>
              <a:ext cx="570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4"/>
            <p:cNvSpPr/>
            <p:nvPr/>
          </p:nvSpPr>
          <p:spPr>
            <a:xfrm>
              <a:off x="4743720" y="254916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5"/>
            <p:cNvSpPr/>
            <p:nvPr/>
          </p:nvSpPr>
          <p:spPr>
            <a:xfrm>
              <a:off x="4743720" y="284832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6"/>
            <p:cNvSpPr/>
            <p:nvPr/>
          </p:nvSpPr>
          <p:spPr>
            <a:xfrm>
              <a:off x="4760280" y="1877760"/>
              <a:ext cx="104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7"/>
            <p:cNvSpPr/>
            <p:nvPr/>
          </p:nvSpPr>
          <p:spPr>
            <a:xfrm>
              <a:off x="4760280" y="2201760"/>
              <a:ext cx="104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68"/>
            <p:cNvSpPr/>
            <p:nvPr/>
          </p:nvSpPr>
          <p:spPr>
            <a:xfrm>
              <a:off x="4727160" y="221400"/>
              <a:ext cx="10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69"/>
            <p:cNvSpPr/>
            <p:nvPr/>
          </p:nvSpPr>
          <p:spPr>
            <a:xfrm>
              <a:off x="4727160" y="521280"/>
              <a:ext cx="10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70"/>
            <p:cNvSpPr/>
            <p:nvPr/>
          </p:nvSpPr>
          <p:spPr>
            <a:xfrm>
              <a:off x="4760280" y="101052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1"/>
            <p:cNvSpPr/>
            <p:nvPr/>
          </p:nvSpPr>
          <p:spPr>
            <a:xfrm>
              <a:off x="4760280" y="130248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риск-менедж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Риск-менеджмент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специальная форма предпринимательской деятельности, которая направлена на управление рисками в организа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ыми задачами риск-менеджмент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выявление и классификация основных видов рис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расчёт адекватной и легко интерпретируемой количественной меры рис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принятие решений об уменьшении или увеличении выявленных рис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разработка и реализация процедур контроля за рисками текущих пози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снижения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бежание риска - уклонения от мероприятия, связанного с рис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ержание риска - оставление риска за инвестором (предполагая покрытие возможных убытков за счёт резервных средств инвестор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 риска - передача ответственности за риск, например, страховой комп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степени риска - уменьшение вероятности потерь и сокращение ожидаемого их объё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тегии снижения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щательная предварительная эксперти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риантов принимаемого решения и оценка соответствующих уровней ри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ределение риска между несколькими объектами, видами деятельност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эффективных систем контро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зволяющих своевременно выявлять и предотвращать возможные поте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спределение р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 разделение риска между участниками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мит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становление предельных сумм расходов, продажи товаров в кредит, сумм вложения капитала и т.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 на среднюю норму прибы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к. постоянное  стремление к более высокой прибыли существенно увеличивает рис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мострах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счёт создания натуральных и денежных резервных (страховых) фон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ах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исков в страховых организац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5148360" y="2349000"/>
            <a:ext cx="373680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WordArt 6"/>
          <p:cNvSpPr txBox="1"/>
          <p:nvPr/>
        </p:nvSpPr>
        <p:spPr>
          <a:xfrm>
            <a:off x="826920" y="765000"/>
            <a:ext cx="7201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9" name="Picture 7" descr="j0234657"/>
          <p:cNvPicPr/>
          <p:nvPr/>
        </p:nvPicPr>
        <p:blipFill>
          <a:blip r:embed="rId1"/>
          <a:stretch/>
        </p:blipFill>
        <p:spPr>
          <a:xfrm>
            <a:off x="4859280" y="2421000"/>
            <a:ext cx="38163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зненный цикл управленческого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5"/>
          <p:cNvGrpSpPr/>
          <p:nvPr/>
        </p:nvGrpSpPr>
        <p:grpSpPr>
          <a:xfrm>
            <a:off x="324000" y="720720"/>
            <a:ext cx="8496000" cy="5948280"/>
            <a:chOff x="324000" y="720720"/>
            <a:chExt cx="8496000" cy="5948280"/>
          </a:xfrm>
        </p:grpSpPr>
        <p:sp>
          <p:nvSpPr>
            <p:cNvPr id="296" name="AutoShape 6"/>
            <p:cNvSpPr/>
            <p:nvPr/>
          </p:nvSpPr>
          <p:spPr>
            <a:xfrm>
              <a:off x="324000" y="720720"/>
              <a:ext cx="8496000" cy="59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6598080" y="2347560"/>
              <a:ext cx="2221560" cy="95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нализ эффективности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формирования банка данны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4295880" y="1259640"/>
              <a:ext cx="2507400" cy="6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еализация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2621520" y="2871000"/>
              <a:ext cx="2247480" cy="60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инятие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0"/>
            <p:cNvSpPr/>
            <p:nvPr/>
          </p:nvSpPr>
          <p:spPr>
            <a:xfrm>
              <a:off x="1544040" y="4460760"/>
              <a:ext cx="2166120" cy="63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азработка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1"/>
            <p:cNvSpPr/>
            <p:nvPr/>
          </p:nvSpPr>
          <p:spPr>
            <a:xfrm>
              <a:off x="373320" y="5720400"/>
              <a:ext cx="2451960" cy="67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озникновение пробл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2"/>
            <p:cNvSpPr/>
            <p:nvPr/>
          </p:nvSpPr>
          <p:spPr>
            <a:xfrm flipV="1">
              <a:off x="1666440" y="5100480"/>
              <a:ext cx="1036080" cy="64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3"/>
            <p:cNvSpPr/>
            <p:nvPr/>
          </p:nvSpPr>
          <p:spPr>
            <a:xfrm flipV="1">
              <a:off x="3165480" y="3448800"/>
              <a:ext cx="463680" cy="99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 flipV="1">
              <a:off x="3901680" y="1906920"/>
              <a:ext cx="1442880" cy="92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5"/>
            <p:cNvSpPr/>
            <p:nvPr/>
          </p:nvSpPr>
          <p:spPr>
            <a:xfrm>
              <a:off x="6081120" y="1893240"/>
              <a:ext cx="17157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1585080" y="1246320"/>
              <a:ext cx="5994360" cy="2808000"/>
            </a:xfrm>
            <a:custGeom>
              <a:avLst/>
              <a:gdLst>
                <a:gd name="textAreaLeft" fmla="*/ 0 w 5994360"/>
                <a:gd name="textAreaRight" fmla="*/ 5994720 w 5994360"/>
                <a:gd name="textAreaTop" fmla="*/ 0 h 2808000"/>
                <a:gd name="textAreaBottom" fmla="*/ 2808000 h 2808000"/>
              </a:gdLst>
              <a:ahLst/>
              <a:rect l="textAreaLeft" t="textAreaTop" r="textAreaRight" b="textAreaBottom"/>
              <a:pathLst>
                <a:path w="6600" h="6120">
                  <a:moveTo>
                    <a:pt x="0" y="6120"/>
                  </a:moveTo>
                  <a:cubicBezTo>
                    <a:pt x="450" y="6117"/>
                    <a:pt x="900" y="6115"/>
                    <a:pt x="1350" y="6030"/>
                  </a:cubicBezTo>
                  <a:cubicBezTo>
                    <a:pt x="1800" y="5945"/>
                    <a:pt x="2245" y="5830"/>
                    <a:pt x="2700" y="5610"/>
                  </a:cubicBezTo>
                  <a:cubicBezTo>
                    <a:pt x="3155" y="5390"/>
                    <a:pt x="3695" y="5120"/>
                    <a:pt x="4080" y="4710"/>
                  </a:cubicBezTo>
                  <a:cubicBezTo>
                    <a:pt x="4465" y="4300"/>
                    <a:pt x="4720" y="3675"/>
                    <a:pt x="5010" y="3150"/>
                  </a:cubicBezTo>
                  <a:cubicBezTo>
                    <a:pt x="5300" y="2625"/>
                    <a:pt x="5555" y="2085"/>
                    <a:pt x="5820" y="1560"/>
                  </a:cubicBezTo>
                  <a:cubicBezTo>
                    <a:pt x="6085" y="1035"/>
                    <a:pt x="6470" y="255"/>
                    <a:pt x="660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7"/>
            <p:cNvSpPr/>
            <p:nvPr/>
          </p:nvSpPr>
          <p:spPr>
            <a:xfrm>
              <a:off x="324000" y="3269880"/>
              <a:ext cx="1234080" cy="10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овая пробл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РАЗРАБОТКИ УПРАВЛЕНЧЕСКОГО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"/>
          <p:cNvGrpSpPr/>
          <p:nvPr/>
        </p:nvGrpSpPr>
        <p:grpSpPr>
          <a:xfrm>
            <a:off x="755640" y="973080"/>
            <a:ext cx="7919640" cy="5624640"/>
            <a:chOff x="755640" y="973080"/>
            <a:chExt cx="7919640" cy="5624640"/>
          </a:xfrm>
        </p:grpSpPr>
        <p:sp>
          <p:nvSpPr>
            <p:cNvPr id="310" name="Rectangle 6"/>
            <p:cNvSpPr/>
            <p:nvPr/>
          </p:nvSpPr>
          <p:spPr>
            <a:xfrm>
              <a:off x="937440" y="973080"/>
              <a:ext cx="7630560" cy="5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улирование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912600" y="1699200"/>
              <a:ext cx="763056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улирование критериев решения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"/>
            <p:cNvSpPr/>
            <p:nvPr/>
          </p:nvSpPr>
          <p:spPr>
            <a:xfrm>
              <a:off x="885240" y="2666520"/>
              <a:ext cx="770832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бор полной, достоверной и своевременной информ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"/>
            <p:cNvSpPr/>
            <p:nvPr/>
          </p:nvSpPr>
          <p:spPr>
            <a:xfrm>
              <a:off x="807840" y="3624480"/>
              <a:ext cx="776052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точнение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0"/>
            <p:cNvSpPr/>
            <p:nvPr/>
          </p:nvSpPr>
          <p:spPr>
            <a:xfrm>
              <a:off x="780120" y="4739760"/>
              <a:ext cx="7790400" cy="65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зработка альтернативных вариантов реш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"/>
            <p:cNvSpPr/>
            <p:nvPr/>
          </p:nvSpPr>
          <p:spPr>
            <a:xfrm>
              <a:off x="755640" y="5730840"/>
              <a:ext cx="7919640" cy="8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ценка эффективности вариантов с точки зрения достижимости критериев, возможных рисков и их последствий, затраты на реализац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4780080" y="1468800"/>
              <a:ext cx="0" cy="22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3"/>
            <p:cNvSpPr/>
            <p:nvPr/>
          </p:nvSpPr>
          <p:spPr>
            <a:xfrm>
              <a:off x="4807800" y="226152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4"/>
            <p:cNvSpPr/>
            <p:nvPr/>
          </p:nvSpPr>
          <p:spPr>
            <a:xfrm>
              <a:off x="4833000" y="328608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>
              <a:off x="4833000" y="4318200"/>
              <a:ext cx="0" cy="42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6"/>
            <p:cNvSpPr/>
            <p:nvPr/>
          </p:nvSpPr>
          <p:spPr>
            <a:xfrm>
              <a:off x="4885200" y="5400360"/>
              <a:ext cx="0" cy="33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продумывания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ение проблемы на ч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ение основных и второстепенных характеристик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ление причинно-следственных связей по всем возможным вариантам решения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нозирование и анализ требуемых дей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рекомендаций к действ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вопросы при продумывании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 ли уменьшить объем проблемы, упростить 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поминает ситуация (какие ассоциации вызывает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ся ли аналоги в практике хозяйств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ли прецеденты в деятельности предприят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 ли изменение сроков, кач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но заменить, сжать, уплотн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состоит ри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ресурсы для решения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возможные варианты реш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7:26:28Z</dcterms:created>
  <dc:creator>иван</dc:creator>
  <dc:description/>
  <dc:language>en-US</dc:language>
  <cp:lastModifiedBy>egor</cp:lastModifiedBy>
  <dcterms:modified xsi:type="dcterms:W3CDTF">2011-06-23T11:44:45Z</dcterms:modified>
  <cp:revision>24</cp:revision>
  <dc:subject/>
  <dc:title>УПРАВЛЕНЧЕСКИЕ РЕШЕНИЯ</dc:title>
</cp:coreProperties>
</file>