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2B9-66C1-44CA-9326-9299755F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5D3-BD1C-4241-B2F6-B419C5FB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A83-06EF-4344-BA95-CE32C26E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8BE-7EE1-484B-A63A-13E9EB6A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081-A938-42FF-AF85-0287E98A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88C3-3B44-4163-ADB2-4A0A4401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EBF-377E-4F05-94F1-1EAD6A03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CC31-33FE-47BF-AB71-F5B518ED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78AA-0321-432D-9AA4-AD22492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646E-3225-4744-AE10-ADB5670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93D0-B3B4-4562-A42D-56E625A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691-3CB3-496B-83BA-C0B09C3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5BE2-DFF7-4659-82DD-EBC1F784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F9B1-3A26-4E41-B7D4-90B9699B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663F-C6F0-4F48-939D-FFE47304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1F07-6F90-4182-8A0E-A4A33662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0377-0B02-4F8E-85DB-C6EE2613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D6B07-025B-465B-8019-2C5DFE13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308844-A62F-427A-A3C2-B6382D8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D355D-9CE9-4771-AF43-45F9A757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DEA01-3776-4B10-ACBB-2F212845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C022D-3141-4AF3-BDBD-BEFAFF69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81F-C6FA-4F1F-BE19-87375693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CE0B1-A794-4FEA-B4B5-28E142C1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D08E8D-1132-4C67-BF10-9F1C60F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97DCC-FDE1-48A5-A14C-93DE1D8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D5008-A508-4746-924E-3AECB34A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8C37B-FCA9-4399-A0D0-A06F913D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40013-A102-4DE0-9B05-2AEC2A98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468A9-DB84-457B-9E45-32A0978C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99394-4B13-4923-848A-A19383AD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22B17-6FF1-41BE-959E-24AA22B1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BCF0-EC7C-470D-AA05-4C67B8E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3BD-BE22-42A0-9C60-3C4EE777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A7DA5-0A3F-429C-B947-A84F6A4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4BEA1-00B6-4AC3-82AF-2EB4266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08E16-724B-438D-8B27-1EE965E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806C3-A463-400F-9D87-A4A6005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FE523-C49F-4230-9DDA-3BD89765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56DD-14C1-46DA-BA46-10F5726B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7095-75F0-4E3A-BEBD-07530A29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8D61-13F0-4649-A95B-BDC00559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5CEC-0718-407B-9490-8036A4BD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8EB63-3EE7-4BD2-9FF5-3DC4C1D7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DEB-6C1B-4D5F-A67F-DD10189B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504B50-2C25-4281-B3AD-1092FB1D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6ADCD-6DD2-47B1-BE49-0BB885F5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B9D3C9-AFCE-4EE0-8A26-97F689E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C09D6-9C63-45FF-B6DE-B260188C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606AD-81BC-4073-9EFD-635BB99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86F5DE-B0D1-4F1F-9D82-F57F8DFD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4BF2B-83E6-4BB9-BCC7-0FD05AC2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B5810-BAA1-48BE-89ED-A361A7BB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A310F-205B-4219-A3A4-06E9573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017D4-0859-49EC-B607-A18B766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781-A95A-4AB9-B160-C67400B2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09364-2421-49FD-B95A-BD48229E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1A241-6002-4018-B34F-686F0305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96B226-9AA4-498A-8933-2DEB3941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45025-89F7-49D4-B4E0-E5ADE99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7F7C6-3F78-43FC-A5D0-4C8C791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6BF3ED-C355-4CD5-ACFA-49C9C646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79AC95-401E-44AB-8AE4-0EBD498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7C73F-7613-4C9B-8561-CDC313C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5C95EB-EF47-4D55-BE1E-5ACB43A0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A721BD-1160-439B-9ED6-A3D65BBF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2F9-D8CB-4247-9FCF-9CDD83A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74D4CA-FA9A-4703-9FE2-82A4235F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0EF56-204B-4B84-99DB-3FCE82BB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BFF06-FE1B-4634-B88A-DDDAA1D4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3544F-127D-4BE1-B7F4-D2365AAA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960DCE-B477-4A4D-9EB7-33F6806E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E9A59-725C-410D-92C3-F314EC42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516471-7BC9-48DD-A5FE-E5E47DC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DD70D-08DC-43A1-AA6F-E3FD6AFB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400AD-4759-426D-929A-E482ADE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1ED3E-13F3-4A1C-BDC9-1122D377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542-294E-4CD9-AB20-2BB2D3B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0F084-474A-4E62-BFE4-5F9FC2B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7E5F89-CAE6-4B3D-B4FD-2DB58BBE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2F6AD-144E-451A-914A-9ECE1E42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965B9-CB02-46F0-A5A2-4DF82E8D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2706C3-0730-484F-AF99-83B34718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203-DF1A-4515-89C7-88FC4D7E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1EB1-CE8A-4ED8-B76B-0A9CC6AD03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86C1-9E7E-427D-8B2F-3D94644EFF6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EFE-0F9A-469F-ADFB-1900FBB4EAB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D55C-5AF5-4ABE-8901-A21A967056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BACD-4191-4354-8111-44A5717578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A0C9-F187-4CB9-9291-9098DF45F2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7FCC-2682-4286-8358-E64D82BA23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2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76280"/>
            <a:ext cx="617220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1"/>
              </a:rPr>
              <a:t>2.1 СОДЕРЖАНИЕ </a:t>
            </a: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2"/>
              </a:rPr>
              <a:t>И ЗНАЧЕНИЕ ФИНАНСОВОГО КОНТРОЛЯ, ВИДЫ ФИНАНСОВОГО КОНТРОЛЯ, ЕГО РОЛЬ В ЭКОНОМИКЕ СТРАН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884240" y="47628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Тема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Финансовый 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—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видов государственного контроля над образованием, распределением и использованием ресурсов всех звеньев финансовой систем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направлен на проверку расходования государственных средств, своевременности и полноты мобилизации государственных ресурсов, законности расходов и доходов всех звеньев финансовой системы, соблюдения правил учета и отче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В ЗАВИСИМОСТИ ОТ ОРГАНОВ, ЕГО ОСУЩЕСТВЛЯЮЩИХ, ФИНАНСОВЫЙ КОНТРОЛЬ ПОДРАЗДЕЛЯЕТСЯ НА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, внутрихозяйственный, ауди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 контроль, в свою очередь, делится на  общегосударственный и ведомствен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щегосударственный контроль осуществляют парламент, Правительство, Министерство по налогам и сборам, Федеральное казначейство, Министерство финансов РФ, Центральный Банк Ро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КЛАССИФИКАЦИЯ ФИНАНСОВОГО КОНТРОЛЯ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 времени осуществления финансовых провер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редварительный (до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екущий (во время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оследующий (после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по субъектам осущест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государственный (общегосударственный и ведомственный)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мест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нутрихозяйствен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независимый (аудит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 ПО СОДЕРЖАНИЮ ПОДРАЗДЕЛЯЕТСЯ НА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юдже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рламентский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четной палаты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едерального казначейства Министерства финан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налоговый контроль; его осуществляю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инистерство по налогам и сборам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сударственный таможенный комитет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) банковский контрол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ый Бан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контроль над страховой деятельность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партамент страхового надзора Министерства финансов Р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) таможен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Т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) валю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ы валютного контро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РОЛЬ ФИНАНСОВОГО КОНТРОЛЯ В ОХРАНЕ СОБСТВЕННОСТИ СОСТОИТ В ВЫЯВЛЕНИИ: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яния учета, использования материальных ценностей и денежных средст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а финансового наруш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 и условий, способствующих финансовым нарушени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5003640" y="3594240"/>
            <a:ext cx="266400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МЕТОДЫ ОСУЩЕСТВЛЕНИЯ ФИНАНСОВОГО КОНТРОЛЯ: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0920" y="2695680"/>
            <a:ext cx="76006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верка финансово-отчетной документаци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евиз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Program Files (x86)\Microsoft Office\MEDIA\CAGCAT10\j0196400.wmf"/>
          <p:cNvPicPr/>
          <p:nvPr/>
        </p:nvPicPr>
        <p:blipFill>
          <a:blip r:embed="rId1"/>
          <a:stretch/>
        </p:blipFill>
        <p:spPr>
          <a:xfrm>
            <a:off x="5219640" y="3789360"/>
            <a:ext cx="241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РЕВИЗИЯ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визия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ой метод осуществления финансового контро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ревизия бывает документальной, фактической (инвентаризация, пересчет денег и валютных ценносте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пособу назначения: плановой, внеплано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визия осуществляется специально созданной комисс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55Z</dcterms:modified>
  <cp:revision>9</cp:revision>
  <dc:subject/>
  <dc:title>Сущность и функции финансов</dc:title>
</cp:coreProperties>
</file>