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6ED-42C3-431B-8989-7CA688D6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1F9-2DE8-4767-9105-6537D6E3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0E687-E77F-454C-B8C0-12AC3344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B6F05-44D0-45C9-8AEC-7810792C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0433F-DE89-4481-8D33-A83911CA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00487-00C5-47AC-AE4F-57D03387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FD108-849A-44EE-8A9A-E86F2962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D23E1-1766-4A71-A10C-2BDE454D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28528-9ABC-4F11-AEB4-82D99396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69085-7D0F-4608-81AE-F2E0F1EB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DB663-4A79-46E9-BF15-275500026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671-507A-47DE-8526-37E1855C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E48-5E9E-4E99-BBE4-21CA9574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74C4-F14B-4486-9DA6-32F3613C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8D23-5F3E-449C-9455-0E827C28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A2F0-7C3B-420E-927E-63A4A3B1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35EA-FBB3-4BBF-B7BA-32912FD0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C956-5B7C-40FF-AD70-F340780F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FD43-2949-4C2F-9ADC-7CB05203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71C4-D5A9-4217-A58C-32DF3298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9DC-01B5-401E-AD67-A4A43E96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E76C-59D0-4060-A78A-6078A481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9E1F-CB55-47BD-B267-268EB69A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7EE7-980B-4605-9380-0692A1D4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CE3D-4499-4D1F-99C2-965EB430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7324-F686-463A-951F-F74FAAAE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EA8C9-DD09-462B-A5D6-3A7839DB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29104-8390-49A7-B41D-373E16C5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014B2-B445-4170-AD44-ADCEA676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F1655-F966-4857-B597-2FA1C313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09DD4-F4DB-4C69-85E6-0A03B3CC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4CD-DFFB-469D-82B6-232B6BD6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815C4-708E-4461-AF49-F63512A5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CF00D-CE15-43D8-AB0B-09BC4B38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EF242-DBD9-4945-8550-F719025E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A9D67-FF42-4F68-8F74-C4A5D6E2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2EC3C-3822-40F6-85D9-B80CB9B17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FFC38-03F5-4BA1-B7BB-CD799E40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7B816-9915-47E3-BA2E-C75139B3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0BE79-B1E6-4D81-9259-BC31902A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7A96A-4DB8-4F23-9348-24988A5C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1F2F2-0805-4DA6-9448-25638751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FC19-492E-462B-ACBC-B7FD161F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40F22-60F2-4E81-8202-F4A14491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CB123-98AE-4BC5-8959-51680803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D295C-7FBD-4408-8606-2A40391B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552EE-A77B-4F3E-826C-1B1D1DC8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4D862-BDB8-48F9-8344-282EA4A2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06D5B-0008-4140-9C6A-CA909537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52E70-2458-4D08-ABB5-3B76E765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C8846-3344-4D31-BE3B-D4EF1069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35B13-7DE3-4ED0-9595-16C0899A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A65B9-A5AE-48DC-A9C9-AE1C6849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1D1C-5799-433A-8BDE-28A6F350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F539C-3B47-4001-9F5A-10961F3B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35802-0B72-4112-B747-1AE42A36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B3A54-72B3-4B30-B3CB-7ED6E0F9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31B4E-CECE-4E2E-B9A6-BCE351E2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8A674-0474-4660-B930-70F99D1D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DAAE4-93F1-490A-8C05-2D5B313A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8B3BC-B0EF-4BAA-AAA3-5B35DB04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C8990-890C-4380-88F9-561C8139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3EE3F-2A2C-494B-80AD-BCDE7A52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E87CB-8E7A-4859-B145-4BA995F5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0B6-BE63-4C1C-9576-1A29FECC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E48F2-9E99-4FDA-A6BB-B27D9C3F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1E110-0248-4E1A-954E-47B223BC0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D626D-3BD8-4002-8ABF-0451ECB1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B851A-53A6-4C2F-A1CF-23BC2D82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C49F3-3221-494C-9FE0-5614854A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BDD56-B961-43F5-A4D3-A83159C0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0AE9F-214E-4431-B040-209BDDFC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DF5E0-C2C7-4FF6-8129-67CA2AED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32AC6-E43F-43B9-9037-26849576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A4E3E-B7C3-48FF-A642-9B31C0A9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BEDF-DACF-4C0B-BD80-7B4D906A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B1791-2168-4485-B11B-C9B1AF60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1785B-BC46-4E4F-83DA-258705F8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A0D28-0BE6-46CC-9975-98CE9768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E2201-3895-4666-A7CB-39622C79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40611-E231-45D4-A8E0-945E31E4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0D737-2C3F-440B-BA98-024CCEA8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4D3F3-6104-4098-8429-CE55E8B7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5FB38-4F7E-4580-9C36-9C113A70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A56EB-0FFF-4EC6-87CF-7B7F8B56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F4CC0-202C-447A-9CD1-F85F9902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473-2CA0-4798-8432-D88E6ABC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46978-9A13-4528-9C25-88DA146B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77B97-266D-4433-8B46-949CDACA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CA621-D6CB-4343-B2C9-73902577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42526-686A-4967-BC78-E67E0F1E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CFB87-2513-48F5-9519-900FE9B0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9A193-8EE8-4770-A588-F0B0F74D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E1E67-E2C8-4DD9-A26B-646246048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BED21-A185-4C21-80B2-6EF7AD7A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C8548-32A5-4F71-8A94-1E123447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AE81D-6AB5-4AA1-96C9-328C6FBC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256F-75CC-426B-B90B-7063CAEE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88093-126C-4CF4-93B1-84E2161F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3807C-DF59-4B2E-B850-70D7D1ED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4ABFB-4756-4C90-8E89-6EBB73F9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6139F-37D9-4910-8886-7EFB9B5B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2D3C9-FCAD-41CB-A130-91CCB01A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685C6-D284-4D57-B59C-8F057D42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558D6-7C5B-42B0-9480-4287D0EF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4ED23-341E-42E8-A80B-75297046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A6E47-54D2-4364-81C7-EA3E7A44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04D11-305A-4157-885D-29AFFE50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8482-823D-48B0-8B04-5181088CB908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6448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60A2-CB8B-4BE8-9678-6C3E3F3FF1D6}" type="slidenum"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E719-4787-4C40-9ED7-9072FE763071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40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5E4D-B009-4BF2-B98E-93394337E4B6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B52F-D339-445F-BA4D-1ACA45ADD19C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C7D4-D2D8-4735-A9F4-161FAB137735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4EB3-4018-4E5F-821A-2769DEC51A68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9519-183C-42F3-B201-8E20305D4831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5680" y="601560"/>
              <a:ext cx="216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35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2506-A20F-4D22-9179-E9F0EA6EEC9C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189080" y="133200"/>
            <a:ext cx="6778440" cy="34815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.3 Государственный долг, его показатели  и управление им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Подзаголовок 2"/>
          <p:cNvSpPr/>
          <p:nvPr/>
        </p:nvSpPr>
        <p:spPr>
          <a:xfrm>
            <a:off x="1523880" y="5013360"/>
            <a:ext cx="640080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люев С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рославль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вся сумма выпущенных и непогашенных долговых обязательств государства, включая начисление процентов, которые должны быть выплачены по этим обязательствам.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95d1d"/>
                </a:solidFill>
                <a:latin typeface="Times New Roman"/>
              </a:rPr>
              <a:t>Государственный долг-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1. – основной (вся сумма задолжностей, срок уплаты по которым еще не наступил)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текущий (расходы по выплате процентов и погашению обязательств, срок оплаты по которым наступил)</a:t>
            </a:r>
            <a:endParaRPr b="0" lang="en-US" sz="2200" spc="-1" strike="noStrike">
              <a:solidFill>
                <a:srgbClr val="262626"/>
              </a:solidFill>
              <a:latin typeface="Times New Roman"/>
            </a:endParaRPr>
          </a:p>
          <a:p>
            <a:pPr lvl="1" marL="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2. – Внешний (обязательства, возникшие в валюте иностранного государства)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Внутренний (обязательства, возникшие в национальной валюте)</a:t>
            </a:r>
            <a:endParaRPr b="0" lang="en-US" sz="22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56560" cy="10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95d1d"/>
                </a:solidFill>
                <a:latin typeface="Times New Roman"/>
              </a:rPr>
              <a:t>Государственный долг подразделяется на:</a:t>
            </a:r>
            <a:endParaRPr b="0" lang="en-US" sz="4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служат активы, находящиеся в распоряжении Правительства. РФ не несет ответственности по тем долгам, которые не были ею гарантированы. Величина ГД свидетельствует о Финансовом положении страны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95d1d"/>
                </a:solidFill>
                <a:latin typeface="Times New Roman"/>
              </a:rPr>
              <a:t>Обеспечением ГД РФ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90480" y="1204560"/>
            <a:ext cx="7755120" cy="114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95d1d"/>
                </a:solidFill>
                <a:latin typeface="Times New Roman"/>
              </a:rPr>
              <a:t>Показатели ГД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468360" y="3738600"/>
            <a:ext cx="82803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совокупность мероприятий связанная с установлением предельных ежегодных значений гос.долга, погашением задолжностей и выплатой процентов, с изменением условий выпущенных займов, с определением условий и выпуском новых займов, снижением стоимости обслуживания гос.долга, с осуществлением контроля за заимствованиями субъектов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95d1d"/>
                </a:solidFill>
                <a:latin typeface="Times New Roman"/>
              </a:rPr>
              <a:t>Управление государственным долгом -</a:t>
            </a:r>
            <a:endParaRPr b="0" lang="en-US" sz="4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23640" y="2060640"/>
            <a:ext cx="856908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1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. Установление ежегодных значений производится с графиком платежей, предельные значения устанавливает бюджет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2.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Если страна испытывает финансовые, бюджетные трудности, то она может прибегнуть к рефинансированию и реструктуризации ГД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262626"/>
                </a:solidFill>
                <a:uFillTx/>
                <a:latin typeface="Times New Roman"/>
              </a:rPr>
              <a:t>Рефинансирование ГД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- погашение старой задолжности путем выпуска нового займа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262626"/>
                </a:solidFill>
                <a:uFillTx/>
                <a:latin typeface="Times New Roman"/>
              </a:rPr>
              <a:t>Реструктуризация ГД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- погашение долговых обязательств с одновременным заимствованием в объемах погашаемых долговых обязательств, с установлением иных условий обслуживания долга и сроков погашения ГД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3.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Изменение условий выпущенных займов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262626"/>
                </a:solidFill>
                <a:uFillTx/>
                <a:latin typeface="Times New Roman"/>
              </a:rPr>
              <a:t>Конверсия ГД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- изменение доходности займа (% ставки)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262626"/>
                </a:solidFill>
                <a:uFillTx/>
                <a:latin typeface="Times New Roman"/>
              </a:rPr>
              <a:t>Консолидация ГД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- изменение срока действия выпущенного займа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262626"/>
                </a:solidFill>
                <a:uFillTx/>
                <a:latin typeface="Times New Roman"/>
              </a:rPr>
              <a:t>Унификация ГД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- объединение нескольких займов в один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Отсрочка погашения займа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Аннулирование ГД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3.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Определение условий выпуска новых займов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4.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Контроль за заимствованием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54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5d1d"/>
                </a:solidFill>
                <a:latin typeface="Times New Roman"/>
              </a:rPr>
              <a:t>Управление государственным долгом включает:</a:t>
            </a:r>
            <a:endParaRPr b="0" lang="en-US" sz="40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890640" y="1390680"/>
            <a:ext cx="7351560" cy="21146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C:\Program Files (x86)\Microsoft Office\MEDIA\CAGCAT10\j0217698.wmf"/>
          <p:cNvPicPr/>
          <p:nvPr/>
        </p:nvPicPr>
        <p:blipFill>
          <a:blip r:embed="rId2"/>
          <a:stretch/>
        </p:blipFill>
        <p:spPr>
          <a:xfrm>
            <a:off x="3348000" y="3860640"/>
            <a:ext cx="24670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0:38:04Z</dcterms:modified>
  <cp:revision>14</cp:revision>
  <dc:subject/>
  <dc:title>Бюджетная система Российской Федерации </dc:title>
</cp:coreProperties>
</file>