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5E5C-0FFB-4964-9643-F179323666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9355-5576-4CC6-BD92-8305FDC1EF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FF3-AEA2-480C-858D-3C552661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6A2-8D35-4C15-82F2-42FF95F1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491-E650-4EA6-AD2D-E3901753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25F-6B76-491C-A3F4-E57031F5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3BF-8D1B-4207-9755-A9A6E218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283F-3DBD-4345-8433-2A97AF58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9D6B-1257-42F0-B667-B1C46881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89FF-F580-459B-AAF7-4D3B36A8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9A8-A4CB-46AB-8CC3-581D49F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CFFE-E80C-4D20-8CA3-F4D28110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0EFF-3254-45E3-B31F-052C6FB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E17D-D12F-46FD-9B14-18C939D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043C-B317-48A7-BF82-F5340538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8AA-D256-4326-A495-A0ACFF64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9132-F95A-464B-9E38-A5F281FC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BCF7-994D-4619-99F1-DCDACC5CA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B5C4-C744-4AF4-A72F-B54BFB6B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1BA51-22EE-460D-B487-B0A01A7E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8FF1-3907-44C2-9144-4736A609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27CB-A712-4979-9DBE-8A0111D9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3070-FEA8-4AF1-9D7C-81A8F49C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B617-7640-4600-B9B7-B3FFEAED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C40-7F3C-4C24-BA1C-B4880526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77F1-22DE-4D1A-AA72-96861002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360CE-BF23-4D2D-8E86-4CEFDE89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8D5F7-411B-4DC3-AA1B-DA01CEB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D15E-09C0-44D6-A89E-C8B2771D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A6F00-36C0-4483-9010-6541B877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F4711-5894-4B92-A0E8-0C0643FA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4577-701F-4092-9D93-1886E645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7F22-FA44-4B5F-AC4A-6FB4CBD4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94185-EC2A-4169-A26E-6CB90DF8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D7C7B-DAE7-4632-8391-9E266BEE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1EC4-305E-47E5-BBE2-F4C28D17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68B6-F7A1-4708-8DC9-F02E7B05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59E66-9959-4F75-AF7C-AB566063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8A43A-94FA-46FD-A158-35D98FE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B8DE-3D04-442E-A36F-FF1B81B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D314-F66C-430D-8EC0-8EAB166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16A2-53E0-4FDE-ADB5-C970D79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0EFCA-17D4-4C0B-9F7A-FBEA901C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19795-A914-4A7B-A513-B0730527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91B0-7E92-482D-A12B-5605B98B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6D697-2DF5-425F-984E-B22797F4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E432-7535-4A48-A741-6C82E8C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5431-790C-49B6-920A-CA91E7C8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17A6C-739C-4B12-AAD9-A8D13D8A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9D9A8-4826-4DD5-8772-A75B963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2F8F8-68F7-4D29-A3DB-6336F909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44DB-A860-4B27-B929-4944E363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ACE95-E907-4361-B96C-675D7C98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9B75-DB76-441C-81BE-BE53100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FEFC3-9112-4021-B63A-BD4CD877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8D482-FEA7-43CD-AE72-48F74B41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89B5F-CD25-470E-BE1D-A28603FE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FF74-CDF3-4F69-B1EE-039C2ED1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0E494-2E64-4465-B4D2-C6315413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08828-7E0B-4615-9D7F-3755D38A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EE78-1F61-49C0-A8A4-5334D7D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0DAB3-EF9A-46ED-8FE5-F62E7400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5A54-9963-4362-A8AB-B5E69DD6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604E-849D-457E-8EF3-55690357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8D5B-01B9-4544-A2B9-7B36C1F8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C4756-F8ED-45AA-AA87-BB968B9F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FCD1-CFB5-4383-88F8-D0B5F97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00F6-088C-4BD4-9146-21027E05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758-4334-418D-B5A1-307D695C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13AB2-0FD7-4A5A-BE2D-8FCEB057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51BA1-6DF3-4975-AA04-4D75B936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0845-2CFD-4E7A-BA3B-9A9645C6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E912-5E57-49B7-9F13-EE1EFA88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43315-A999-4E5A-AFE9-E83EEC2B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DA8A4-6BBA-4CDB-A63F-EBC7FF4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BB1DE-AA48-4FA2-99CA-9D6BF819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894FD-E028-440F-8FEF-868E0E61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F0AD-5379-4942-B5B7-F05EF9A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45481-DA19-4BAA-90CD-BB5C628D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F23-F1B7-4D9B-9166-83F3C707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367CE-1AC8-4446-B62E-096FA211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A488D-4B36-4662-877C-E1683BA3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EC0A7-F6D4-49FD-B9DD-9333D755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1F842-85D8-470E-AC3D-303D283A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CE129-87F6-4B75-8BEA-9EDB8148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FE80-6250-4901-9172-80898D64F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D2BD7-CE74-459D-BAD7-F32D0017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AB344-59F5-47A2-80A0-5C15B372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E0DE-6F0D-4222-A470-1BE155B3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1D3AC-E3B8-452F-B0E3-0F4D97AC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758-5C80-48A3-851E-4053B207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D177-E403-49C9-B00C-2D4E6BD8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2584-D68B-4946-A7E7-CCA3BC9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C67D2-7A9C-4C69-AE5F-5F32AAB0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C9C3B-5601-417D-8E23-D263E58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8F6D0-6ACA-4910-92CB-AD8367A1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400E7-0F6F-43D4-A56E-B2FF36BA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FCB84-D46E-48B8-A165-A6085826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5C72-AE70-4AFB-AB74-74F0D1D51DD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E90E-DB7D-4A65-8686-224E5E4687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61B-5D70-493B-82A6-17FFDFDCD40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A07-BF4E-4B20-A23C-C19D05CA8C2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6CC6-7470-4BC2-A036-4E968A55D6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824D-0365-40A6-9891-683BB2ABE79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31CE-310C-4CEC-880D-34991B9E41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003B-288C-431D-B2A1-F953906A5B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2400" cy="2620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6666"/>
                </a:solidFill>
                <a:latin typeface="Lucida Sans Unicode"/>
              </a:rPr>
              <a:t>3.2 Государственный кредит, его сущность, классификаци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858960" y="3664080"/>
            <a:ext cx="7772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ежные отношения между государством и физическими и юридическими лицами, связанные с мобилизацией временно свободных денежных средств и использованием их для выполнения функций государст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о выступает в лице кредитора, заемщика, гаран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связан с движением бюджетных ср-в, следовательно является частью Финансовой систем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огашается за счет бюджетных ср-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– отношения вторичного распреде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добровол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рисущи возвратность, срочность, платность, обеспеч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 Внутренний ГК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a) Гос. займ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b) Обращение части вкладов населением в гос.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c) Заимствование ср-в общегосударственного ссудного фон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d) Казначейские ссуд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e) Гарантированные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 Внешний Г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совокупность отношений, с которыми Г. выступает на мировом рынке как заемщик или кредитор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нешний ГК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) – в денежной форме (валюта страны кредитора, заемщика, третьей страны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товарной форм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) – долгосроч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раткосрочный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86" name="Выноска-облако 3">
            <a:hlinkClick r:id="" action="ppaction://hlinkshowjump?jump=nextslide"/>
          </p:cNvPr>
          <p:cNvSpPr/>
          <p:nvPr/>
        </p:nvSpPr>
        <p:spPr>
          <a:xfrm>
            <a:off x="6012000" y="2565360"/>
            <a:ext cx="2447640" cy="1044720"/>
          </a:xfrm>
          <a:prstGeom prst="cloudCallout">
            <a:avLst>
              <a:gd name="adj1" fmla="val -103087"/>
              <a:gd name="adj2" fmla="val 17273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Государственные зай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трелка вправо 5">
            <a:hlinkClick r:id="rId2" action="ppaction://hlinksldjump"/>
          </p:cNvPr>
          <p:cNvSpPr/>
          <p:nvPr/>
        </p:nvSpPr>
        <p:spPr>
          <a:xfrm>
            <a:off x="5364000" y="5516640"/>
            <a:ext cx="2016360" cy="865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91480" cy="5007240"/>
          </a:xfrm>
          <a:prstGeom prst="rect">
            <a:avLst/>
          </a:prstGeom>
          <a:ln w="0">
            <a:noFill/>
          </a:ln>
        </p:spPr>
      </p:pic>
      <p:sp>
        <p:nvSpPr>
          <p:cNvPr id="390" name="Стрелка влево 4"/>
          <p:cNvSpPr/>
          <p:nvPr/>
        </p:nvSpPr>
        <p:spPr>
          <a:xfrm>
            <a:off x="5508720" y="5084640"/>
            <a:ext cx="3311280" cy="1513080"/>
          </a:xfrm>
          <a:prstGeom prst="leftArrow">
            <a:avLst>
              <a:gd name="adj1" fmla="val 50000"/>
              <a:gd name="adj2" fmla="val 49949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7bbfd"/>
                </a:solidFill>
                <a:uFillTx/>
                <a:latin typeface="Lucida Sans Unicode"/>
                <a:hlinkClick r:id="rId3" action="ppaction://hlinksldjump"/>
              </a:rPr>
              <a:t>Вернуться к формам гос. кред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185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Program Files (x86)\Microsoft Office\MEDIA\CAGCAT10\j0284916.jpg"/>
          <p:cNvPicPr/>
          <p:nvPr/>
        </p:nvPicPr>
        <p:blipFill>
          <a:blip r:embed="rId2"/>
          <a:stretch/>
        </p:blipFill>
        <p:spPr>
          <a:xfrm>
            <a:off x="1835280" y="1757520"/>
            <a:ext cx="5832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13:14Z</dcterms:modified>
  <cp:revision>19</cp:revision>
  <dc:subject/>
  <dc:title>Сущность и функции финансов</dc:title>
</cp:coreProperties>
</file>