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BBC5-9D57-441E-8D72-A712FC2476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D5E-EBFD-4A99-BD31-0F0F9509A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7BC-5EED-4408-BA29-DC4B953D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BAD-D87B-43C2-9D2B-30A19AA5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06B-9589-4E31-9649-FA43EE4B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110F-807F-4AC2-AE5C-A7B332F9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3681-B9D2-4179-8FE0-0E0AA04A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27B1-2B64-479D-A77A-3E338ADB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B1CF-9381-4A58-A25C-AFB1B988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E2B-533E-458A-A74E-748210AF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A5B6-786C-4341-AB54-B01C70F0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6FC1-4F33-4204-9F8A-20454373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7F72-4518-4BE2-94F8-F979CEB3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C942-0B5E-4BF7-B76D-AF585610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6C84-CEE3-4434-B424-1E8AD452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10F8-EDF0-438A-9EFA-FB5D352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233B-A818-4C46-9B72-B0085DA2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6C12-275F-4E72-A515-37F694C2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8D92-8E63-4BC9-BF02-32EDB2A8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1A537-893A-4543-8980-0A966983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E5B03-4732-48FA-BC59-2A95D279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55A07-63A4-4279-964F-D5DB9CDE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D066F-0822-494E-8DB4-97E9E351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A7EDA-8E0A-40BA-BA29-0577D32A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7171-0B35-41A4-A138-C5B8579C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00AC2A-447E-4816-A387-1E874A29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DB873-CDEF-4629-80DA-92845BBA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012E6-F325-4A85-A4BD-87325773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0A262-542D-4EB2-BA90-E67ABB0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6FB77-3F36-4DAC-A244-1699F8FA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EAC43-48E0-4121-BD54-90302467D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01ED1-5D9B-4A48-9F7E-0FE13F7D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148C-B8C0-4DAD-B740-3C928D9DD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B7521-80F4-44D0-87CE-FC457AB6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E798-78D8-4234-861B-D7915290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73F-C60E-4B36-BC1F-5B7155E0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DD62-3B45-471C-9130-D0CFAB0B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EAE3B-0D1E-4E5B-A8CF-5D34825E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B0004-1AD3-4F28-BADF-683BBEC6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8C71-D33F-424B-9243-379D0953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F37E5-6152-41C1-8179-AF457D37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AAC99-7F4F-4C44-A2C2-A8444E32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813B-9C92-4187-A45E-125291AF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3D18A-7B25-46AA-8646-B1091BCB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0796-5CAE-4795-9FFA-950780F2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711036-A1C1-4B48-B4A9-FCFE8240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088-05FC-4176-8975-69862BBB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E11BE-D6D6-44A0-90DA-5D3E91B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2DB6FA-913C-4B7C-8BD9-FF36F35C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50DF4-25CC-45BF-9DEA-FB1554EA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926266-43D5-4C42-A428-78A9250F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F71FE-DA59-424C-B51E-F4B4D1B8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A663BB-29F8-4D6A-9FF1-F16EB983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77F5B3-F808-4C9F-AF79-EF0CD57A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49011-FCE3-47F5-92C2-C4DBC82A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F017E3-B9C0-40DD-9828-7C9D6655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F9C7C-3F92-4D4C-91BB-340E67B2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9D5E-471C-437B-B2F4-BC2B42A9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50120-6977-4EFF-9E06-DAC82D27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24EE8-C59A-4736-A22D-FA41A08F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ACE28-7F63-44F6-B125-7EEFA159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7BB1D-8644-490D-A955-826E6C597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5CE694-3030-488A-9338-6FBF56C4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004D0-E491-486D-B4BE-352D7DA7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FD10A-E7F2-48EF-9EDD-7822769C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A47117-814C-4E72-A255-647545D1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863106-ECF5-44A2-B128-23C8C81E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A699B-6CE5-4B91-9A3C-FB0C8856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ED7-FD4E-4EA0-8CC0-EF627BDC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1E33C9-C712-4C4B-846B-5793B95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E4D0D8-D552-4DE3-A563-89271148B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843416-3046-4A12-A672-81C199AE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DE87D0-22D0-423F-A087-0921DC7A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7E120B-310A-470A-B000-E736F879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9680BC-B47B-47FF-84F8-EC42BDC2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68EA95-4BF1-48DB-8339-CB4EB789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A69D6-CB41-4FA3-AA3B-0DC755BC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86A77F-F824-4225-8226-282513B3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A0204-B395-406A-9BFF-2906204E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C4B-6350-4E6E-8E7D-4377B50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25209-4863-413B-B891-375681A6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F12A21-F398-4163-9294-6FC6744A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E4B59-4E11-4455-92DC-4D91E9B4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07EF28-520D-4665-802E-8DFF400E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41344-DED8-47FE-9615-D8F191C9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9DD-497D-4C40-A659-5160208A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6151-A34A-4808-BBFA-9D55C4556F0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5D8C-62A0-4437-A6AF-71D43701D3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952-46F6-494E-9FF5-F832D09340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de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de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350E-A842-46E3-B842-334E33EADC8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C6FB-DC95-4F3B-AA95-8AC8B1980E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0A88-DA55-4011-8DAA-62AB80E9279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345A-1970-4C2A-95B3-047DC7DEA6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2276640"/>
            <a:ext cx="6172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5e9c"/>
                </a:solidFill>
                <a:latin typeface="Century Schoolbook"/>
              </a:rPr>
              <a:t>3.1 СУЩНОСТЬ И СТРУКТУРА ГФ,  ГОСУДАРСТВЕННЫЕ ДОХОДЫ И РАСХОДЫ</a:t>
            </a:r>
            <a:endParaRPr b="0" lang="en-US" sz="32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884240" y="47628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Тема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Государственные Финансы,  государственный кредит и дол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. РАСХОДЫ</a:t>
            </a: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 –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599840"/>
            <a:ext cx="7467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денежные отношения, связанные с использованием Финансовых ресурсов государства на различные его потреб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Фин. ресурсы, используемые государством для выполнения его функ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8688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сходов совершенствуют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 расходов и их структура непосредственно связаны с выполнением государством функциями и экон. возможностям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экономи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социа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управлен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оборон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друг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ходы всех видов образуют систему гос. расхо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ОСНОВНЫЕ ПРИНЦИПЫ РАСХОДОВАНИЯ СР-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Целевая направленность средств (устанавливаются государство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Безвозвратность расходования средств (исключение – Гос. креди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Соблюдение режима экономии (должна быть разработана система мер и форм оптимизации затрат, которые ориентируются на рациональное использование затра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65e9c"/>
                </a:solidFill>
                <a:latin typeface="Century Schoolbook"/>
              </a:rPr>
              <a:t>ФОРМЫ ОСУЩЕСТВЛЕНИЯ ГОС. РАС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финансирование (используется для покрытия расходов Гос. предприятиями путем использования собственных средст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юджетное финансирование (применяется для обеспечения затрат, имеющих общегосударственное значени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дитное обеспечение (применяется и Гос. предприятиями и Гос. структурами разных уровней управления и осуществляется в основном путем заимствования Ф. ресурс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ОСУДАРСТВЕННЫЕ ФИНАНСЫ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е финансы – денежные отношения в процессе распределения и перераспределения стоимости общественного продукта и части нац. богатства в связи с формированием финансовых ресурсов у государства и его предприятий, а также использованием их на развитие производства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а ГФ – обеспечение государства денежными средствами для решения эконом., полит. и соц. зада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СУБЪЕКТЫ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ос-в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Учреждения и предприят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СТРУКТУРА ГОСУДАРСТВЕННЫХ ФИНАНС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) Гос. бюдже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) Гос. креди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) внебюджетные фонды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5e9c"/>
                </a:solidFill>
                <a:latin typeface="Century Schoolbook"/>
              </a:rPr>
              <a:t>ГОС. БЮДЖЕТ 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8920" y="765000"/>
            <a:ext cx="828036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яет собой форму образования и использования централизованного денежного фонда для обеспечения деятельности государ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Федеральный бюджет (решает задачи в границах Федерации: целевые программы; различные отрасли народного хозяйства; правопорядок; межд. деятельност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Региональный бюджет (решает задачи регионов, республик: Финансы образования; организации здравоохранения; охрана внутренней безопасности правопорядка, окружающей среды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Местный бюджет (решает задачи местного хоз-ва: создание инфраструктуры территории; подготовка трудовых кадров; решение задач коммунально-бытового характер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ос. креди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является заемщиком временно свободных денежных средств физических и юридических лиц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небюджетные фонды 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шают социальные и экономические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ОСУДАРСТВЕННЫЕ ДОХОДЫ И РАСХОДЫ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599840"/>
            <a:ext cx="74674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. доходы –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Д. отношения по мобилизации финансовых ресурсов государ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Денежные средства, мобилизованные в распоряжение государства для выполнения его функц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6716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ИСТОЧНИКИ ДО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внутренние (Национальный доход своей страны, часть нац. богатст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внешние (НД других стра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о имеет разные статьи доходов. Совокупность доходов разных видов образует сист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. доходов, решающих 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стимулирование роста производ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ускорение темпов НТ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удовлетворение соц. и других потребностей обще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65e9c"/>
                </a:solidFill>
                <a:latin typeface="Century Schoolbook"/>
              </a:rPr>
              <a:t>МЕТОДЫ МОБИЛИЗАЦИИ ДО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907560"/>
            <a:ext cx="80024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) Взимание налог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) Использование гос. займов и кредит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) Использование эмисс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) Прочее (неналоговые, некредитные средства от эксплуатации гос. собственности и проведения Гос. операций; дивиденды от акций, находящихся в собственности; сдача в аренду Гос. имущества, средства от его продажи, доходы гос. предприят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4:18Z</dcterms:modified>
  <cp:revision>14</cp:revision>
  <dc:subject/>
  <dc:title>Сущность и функции финансов</dc:title>
</cp:coreProperties>
</file>