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829-6C56-45DA-9A1E-AE09040C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731-79E1-4D54-B615-2D786038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076-19C3-4B95-9364-B66477BD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E73-50F8-4490-9C93-73A766DD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A5A8-1FF8-4798-AE00-EE69A3AF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AC73-EE92-4FE0-9FE7-3B3DB8FA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A063-4912-41D7-BA10-90589194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8518-18C9-4824-A909-80C26DA7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BFD7-F792-4CEB-A391-2415E7BB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9645-7D61-46A8-A24D-12506B7B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0C81-A65E-4F09-816D-34840F99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862-E7BC-4440-B964-0DB6D523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BD64-B915-4C1A-A2FE-3B17DEE1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051D-5C89-4B64-A5B5-C55E03A6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912F-D4F7-4178-AA2D-7794E544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6018-7263-455E-8253-E276B399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5BE9-2DE9-492A-81B0-53799386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0BEBD-2641-466F-8152-C07E8714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7A606-587D-4F24-99A4-F75C0E76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5A1C8-C8B3-45B9-A0FF-15B4DA97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BCCC5-679F-4BC5-86D8-AD2D9AAB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5DF80-5D8E-4E0F-B68B-935C67A2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288-2462-44AE-B359-E74A988D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28D28-2555-4C67-97D3-FC9CF2C0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EA289-AAAF-41D0-B6F5-D405E3DD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A7DE7-E193-444A-9608-F66A850D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91C47-E546-4CFC-BADD-FC8C6E5F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5916E-A598-4FDC-B8CE-F8C46965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DF228-54EA-4181-B330-29633251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C9A16-4B0C-4095-95FC-A44FA376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45A75-81A5-4CB8-9916-1D50DAFA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6AB24-0D83-4365-905F-5D82D11C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8096D-9656-4432-99CD-82ED0828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C89-62EF-49BE-AD50-4E48F98F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5BA74-3A0E-422B-8550-7A2F1A48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8FD08-4BC4-4934-900D-441FE89F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CA308-B874-4C2C-A05C-D3330F71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FE6A-B4F8-4200-B89C-310DCF14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569EB-C02C-4709-858D-6D35F543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FA488-51D8-4769-B59D-35496D16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CD3FC-D1FA-46EE-8AAB-63921E08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E3C46-DDEB-4E58-924B-7C46380B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E795A-D67B-473A-863F-77DFDF69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61733-7483-4425-96C7-907E9937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73D-64BB-45AC-9E39-057004CA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F6C5D-E006-46BE-A4F3-9C321F4E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03C70-F5CA-4D92-B79A-D9ABD5F7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9C32F-52FE-42C2-90ED-A855FF9B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CB723-8A0C-4D70-A466-FE05BF53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A8419-E18D-4934-887F-8B90A0F9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B088F-E46D-4D5B-BC1A-0D21EF34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96FCF-8F35-4859-A8D5-236279B3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984B4-0D2D-436B-BFED-964A7498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950A6-6A99-43D6-9949-BB8D778A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94E5C-1C0F-4EFC-94C3-75CC67FE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3DA-B32C-46C3-A5FB-9FCC0BF0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C9858-4BE8-406D-9782-B67EEBFC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061-462D-4E4A-85DA-4033D5CD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630-1424-4FD5-B5BF-1AB80DE8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615-8FB8-42D4-B2BC-1F1FA28D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0D54-2D87-4DF1-84AE-4CB951DDE545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0068-9447-4787-BC4B-40AA5BDCABA8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6E5D-E9D1-4B51-8B98-524D8F83185A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B02C-2716-49E9-85E8-B5C8E0B1C565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89C5-578D-4AB3-9491-5E60C5CEE3F3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378900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262626"/>
                </a:solidFill>
                <a:latin typeface="Impact"/>
              </a:rPr>
              <a:t>Раздел 1</a:t>
            </a:r>
            <a:br>
              <a:rPr sz="4300"/>
            </a:br>
            <a:r>
              <a:rPr b="1" lang="ru-RU" sz="4300" spc="-1" strike="noStrike">
                <a:solidFill>
                  <a:srgbClr val="262626"/>
                </a:solidFill>
                <a:latin typeface="Impact"/>
              </a:rPr>
              <a:t>Государственный бюджет и организационно-правовые основы построения бюджетной системы Российской Федерации.</a:t>
            </a:r>
            <a:br>
              <a:rPr sz="4300"/>
            </a:b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1.2 </a:t>
            </a:r>
            <a:r>
              <a:rPr b="0" lang="ru-RU" sz="2800" spc="-1" strike="noStrike">
                <a:solidFill>
                  <a:srgbClr val="262626"/>
                </a:solidFill>
                <a:latin typeface="Impact"/>
              </a:rPr>
              <a:t>Бюджетное устройство и бюджетная система 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55640" y="530064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03030"/>
                </a:solidFill>
                <a:latin typeface="Times New Roman"/>
              </a:rPr>
              <a:t>Автор-составитель: </a:t>
            </a:r>
            <a:br>
              <a:rPr sz="1500"/>
            </a:br>
            <a:r>
              <a:rPr b="0" lang="ru-RU" sz="1500" spc="-1" strike="noStrike">
                <a:solidFill>
                  <a:srgbClr val="303030"/>
                </a:solidFill>
                <a:latin typeface="Times New Roman"/>
              </a:rPr>
              <a:t>Клюев С.В.</a:t>
            </a:r>
            <a:endParaRPr b="0" lang="en-US" sz="15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0303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03030"/>
                </a:solidFill>
                <a:latin typeface="Times New Roman"/>
              </a:rPr>
              <a:t>Ярославль 2011</a:t>
            </a:r>
            <a:endParaRPr b="0" lang="en-US" sz="15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262626"/>
                </a:solidFill>
                <a:latin typeface="Impact"/>
              </a:rPr>
              <a:t>Спасибо за внимание!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37" name="Picture 2" descr="C:\Program Files (x86)\Microsoft Office\MEDIA\CAGCAT10\j0216588.wmf"/>
          <p:cNvPicPr/>
          <p:nvPr/>
        </p:nvPicPr>
        <p:blipFill>
          <a:blip r:embed="rId1"/>
          <a:stretch/>
        </p:blipFill>
        <p:spPr>
          <a:xfrm>
            <a:off x="3348000" y="2565360"/>
            <a:ext cx="309564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Impact"/>
              </a:rPr>
              <a:t>Бюджетное устройство определяется формой государственного устройства страны, действующими в ней законодательными актами и ролью бюджета в общественном производстве.</a:t>
            </a:r>
            <a:br>
              <a:rPr sz="4900"/>
            </a:b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Picture 4" descr="C:\Program Files (x86)\Microsoft Office\MEDIA\CAGCAT10\j0292020.wmf"/>
          <p:cNvPicPr/>
          <p:nvPr/>
        </p:nvPicPr>
        <p:blipFill>
          <a:blip r:embed="rId1"/>
          <a:stretch/>
        </p:blipFill>
        <p:spPr>
          <a:xfrm>
            <a:off x="6443640" y="3789360"/>
            <a:ext cx="18702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7429320" cy="19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Impact"/>
              </a:rPr>
              <a:t>По степени распределения власти между центром и административно-территориальными образованиями все государства подразделяются на унитарные, федеративные и конфедеративные.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4360" y="3068640"/>
          <a:ext cx="7848360" cy="3462480"/>
        </p:xfrm>
        <a:graphic>
          <a:graphicData uri="http://schemas.openxmlformats.org/drawingml/2006/table">
            <a:tbl>
              <a:tblPr/>
              <a:tblGrid>
                <a:gridCol w="3914640"/>
                <a:gridCol w="3933720"/>
              </a:tblGrid>
              <a:tr h="91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юджетное устройство унитарного госуд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юджетное устройство федеративного госуд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91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звено — центральный бюдж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звено — центральный республиканский бюдж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91512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звено — местные бюдже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звено — бюджеты субъектов Фед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71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звено — местные бюдже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67820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Impact"/>
              </a:rPr>
              <a:t>Принципы построения бюджетной системы Российской Федерации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5280" y="1125000"/>
            <a:ext cx="8424720" cy="554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1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Принцип единства бюджетной системы Российской Федерации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Принцип разграничения доходов и расходов между бюджетами разных уровней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Самостоятельность бюджетов. 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Принцип полноты отражения доходов и расходов бюджетов, бюджетов государственных внебюджетных фондов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Принцип сбалансированности бюджетов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Принцип эффективности и экономности использования бюджетных средств 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Принцип гласности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Принцип достоверности бюджета 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Принцип адресности и целевого характера бюджетных средств 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Принцип равенства бюджетных прав 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Принцип общего (совокупного) покрытия расходов 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04000" cy="53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Бюджетное устройство Российской Федерации определяется ее государственным федеративным устройством и закреплено Конституцией Российской Федерации.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ст. 1 Конституции РФ (1993 г.): Российская Федерация — Россия — есть демократическое федеративное правовое государство с республиканской формой правления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7" name="Picture 2" descr="C:\Program Files (x86)\Microsoft Office\MEDIA\CAGCAT10\j0301252.wmf"/>
          <p:cNvPicPr/>
          <p:nvPr/>
        </p:nvPicPr>
        <p:blipFill>
          <a:blip r:embed="rId1"/>
          <a:stretch/>
        </p:blipFill>
        <p:spPr>
          <a:xfrm>
            <a:off x="7093080" y="765000"/>
            <a:ext cx="18288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258560" y="765000"/>
            <a:ext cx="754380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r">
              <a:spcBef>
                <a:spcPts val="1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Субъекты Российской Федерации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имеют свои бюджеты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оторые представляют в совокупности </a:t>
            </a:r>
            <a:r>
              <a:rPr b="1" lang="ru-RU" sz="2800" spc="-1" strike="noStrike">
                <a:solidFill>
                  <a:srgbClr val="303030"/>
                </a:solidFill>
                <a:latin typeface="Times New Roman"/>
              </a:rPr>
              <a:t>бюджетную систему РФ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>
              <a:spcBef>
                <a:spcPts val="1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Бюджетная система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Российской Федерации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редставляет собой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целостную совокупность бюджетов всех уровней, основанную на принципах построения бюджетной системы федеративного государства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29" name="Picture 2" descr="C:\Program Files (x86)\Microsoft Office\MEDIA\CAGCAT10\j0315447.jpg"/>
          <p:cNvPicPr/>
          <p:nvPr/>
        </p:nvPicPr>
        <p:blipFill>
          <a:blip r:embed="rId1"/>
          <a:stretch/>
        </p:blipFill>
        <p:spPr>
          <a:xfrm>
            <a:off x="395280" y="692280"/>
            <a:ext cx="223200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Impact"/>
              </a:rPr>
              <a:t>Статья 10 БК РФ закрепляет в России трехуровневую бюджетную систему: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31" name="Объект 3" descr=""/>
          <p:cNvPicPr/>
          <p:nvPr/>
        </p:nvPicPr>
        <p:blipFill>
          <a:blip r:embed="rId1"/>
          <a:stretch/>
        </p:blipFill>
        <p:spPr>
          <a:xfrm>
            <a:off x="1170000" y="2352600"/>
            <a:ext cx="75772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678168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262626"/>
                </a:solidFill>
                <a:latin typeface="Impact"/>
              </a:rPr>
              <a:t>Консолидированный бюджет субъекта Российской Федерации</a:t>
            </a:r>
            <a:r>
              <a:rPr b="0" lang="ru-RU" sz="49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9280" y="2781360"/>
            <a:ext cx="7543800" cy="35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3030"/>
                </a:solidFill>
                <a:latin typeface="Times New Roman"/>
              </a:rPr>
              <a:t>представляет собой свод бюджетов территориальных образований, находящихся на территории субъекта Федерации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67816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262626"/>
                </a:solidFill>
                <a:latin typeface="Impact"/>
              </a:rPr>
              <a:t>Консолидированный бюджет Российской Федерации</a:t>
            </a:r>
            <a:r>
              <a:rPr b="0" lang="ru-RU" sz="49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99640" y="1988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3030"/>
                </a:solidFill>
                <a:latin typeface="Times New Roman"/>
              </a:rPr>
              <a:t>представляет собой свод бюджетов всех субъектов Российской Федерации.</a:t>
            </a:r>
            <a:endParaRPr b="0" lang="en-US" sz="4000" spc="-1" strike="noStrike">
              <a:solidFill>
                <a:srgbClr val="30303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51:11Z</dcterms:modified>
  <cp:revision>10</cp:revision>
  <dc:subject/>
  <dc:title>Бюджетная система Российской Федерации </dc:title>
</cp:coreProperties>
</file>