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E13-C834-4CB6-A006-4D6C9DF5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D18-F669-4D20-9D94-B7A9818F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247-DA28-40FD-9192-2BC7CDB9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4C2-E729-47CB-BF05-88396CDA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0782-0D5C-43F1-9994-CD4272DE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15F6-5149-483D-B3F0-DD1C2B71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0572-25B3-4FA2-9C91-8EAFE245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F201-14C7-4BCB-AAE8-43394335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92AC-4766-41DD-BC16-C4903402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BE4F-539A-4444-9C75-D89CCCD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92F6-5746-4827-A927-6ADDEEFE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3AC-4BB5-43A2-9CB3-861C10C4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192F-BCCE-4761-9CD0-EE0DB93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9811-A568-49B2-989C-51CED5E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951A-D1E4-4B55-BA48-6B430D97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4387-C308-4C7A-A80F-0DA82E1A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0537-34FE-458D-B741-FE151A9B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DFE7-0137-485A-A721-E6CFF8B7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0526-9597-4026-A348-2B838FBB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BC0D-9545-47F1-9B54-8B8394B9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0292-6646-419A-AE5F-A60A0ECD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6A9B-758D-42D5-994F-7A78B7E8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16E-5B84-4A43-BC63-49A08E53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C562-7895-4D20-8C34-A38F79DB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6C99-CBD1-4DD4-BA40-3EFA22E5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1D38F-C606-4CCD-99E1-21CA9E82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815F-2E01-47D7-8155-1CD56080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8C9AA-30AF-4703-89BC-5EFCAC2C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1044-3E7E-4D88-A4D8-5AA15A92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F11B-075B-4778-BE1C-009FCB48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18A0D-A413-41A7-9116-D23F10D2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CF51-4888-4182-9009-F3106CB1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0DCA-3600-4D4F-90B1-22200C1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99B-284D-4733-A8FE-AF9EA45E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F4C6-1E02-4775-9E28-16FB6828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E47AA-BC8E-4B70-A5EA-B7B281D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B094-09A1-438B-9173-C3512AEB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4EB7-F2BB-4F19-9823-8B57350D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B648-E1C0-40CA-85A8-4B1A991D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12F48-5A4E-47D6-B4B2-526D54F2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C7A3E-BEFE-4FB9-9AA7-5CD86078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6483-DC1C-4FCC-B416-03933BA5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1139D-9349-4CF7-9605-9D49377F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6C142-6DFB-4C0E-91AA-4648F195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68C-CAFA-48A6-9D8B-458CEBAA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4A24F-168E-4A8B-8716-8E861751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68EF4-8F03-424B-B47B-2CEB2AB5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13264-F486-4BAB-985D-604D4B52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035D6-0268-43AF-9F31-F18E35D5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1116F-9D81-4BFB-9AEE-1526415C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99C82-76BB-4803-81D3-AE6A34BD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47304-8A73-48FD-A66B-37C0A2EA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2685A-50D7-42F5-9FC0-D55B73E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A0023-4824-488B-BB41-300FF056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9BC77-D34D-414D-BE60-E55353B8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F04-A326-49FA-81EC-135E97F4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22917-6783-4B1A-A0B6-08564C31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46465-512E-4AA4-89ED-F1D9ECDC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95FA-8D2D-49F4-829E-B9E43022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7C9B0-BE11-4ACC-A1D5-B5F554FA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284AA-E102-48DD-8BE5-1ABD4441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DD2C-9DAD-4ACE-8956-0ECA6F17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25FB0-7F37-4BCE-9650-86E44338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773AE-75BB-4F43-ADB3-47E1B7F2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62E09-DB94-4D9F-8EC5-1346F4C6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C00C-2FCC-441A-B5D6-22003F17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F90-133A-4B95-96A5-B4BE209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9223B-91E8-47A4-B4D1-9069DA91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3E24A-3D86-46A7-985B-D0DF32CE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9AAF5-764C-44F4-9FAB-4A16347F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B4C4-C5E1-4094-A796-9F719488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8E9FB-D233-4BFB-A8C4-E7A3BEA4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BDCDC-72BC-422E-A717-E41CF3B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862D5-DE03-4486-9CD6-C0455C5B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41ED3-0900-4EA5-8663-AE0E0998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75848-6A1C-4FB0-B96B-F9827C93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05D2-C517-42A6-9150-70206952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6EE-A941-4A6C-8276-94CE1AC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B3F2-2631-435A-B31F-C807EB02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1355B-FA0C-468A-AD6F-71842420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0BA63-8BC7-416F-8301-3B4C1145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FDDE5-B4B5-4BD3-8896-439E7AA3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E8B1-8624-4E66-BD11-8D00283D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61E-D40E-47E4-A1A9-22480757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EDDB-2323-4320-890B-345EB9265EA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7CD0-6E31-47A8-A420-E91A1C7429F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84B4-289B-4F41-962A-0AE8BE9339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AF75-E9F0-4FB5-BE30-A1FB538416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CCCD-96C2-439B-B7B3-55EB263D3A1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4012-3445-4886-9E70-E7C348DD2B4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7673-E976-4CA0-9439-255098F6027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Бюджетная система Российской Федераци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ndara"/>
              </a:rPr>
              <a:t>Автор-составитель: 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Candara"/>
              </a:rPr>
              <a:t>Клюев С.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ndara"/>
              </a:rPr>
              <a:t>Ярославль 2011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Бюджетная политика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является одним из активных инструментов регулирования макроэкономических пропорций при формировании государственного бюджет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Бюджетная политика государст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68000" y="1844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совершенствовать бюджетный механизм в направлении государственного регулирования денежной массы, приоритетного финансирования развития реального сектора экономики, совершенствования деятельности банковской системы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создавать благоприятный инвестиционный климат для отечественных и иностранных инвесторов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снижать уровень инфляци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Для укрепления денежного обращения и финансового положения страны необходимо: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68360" y="692280"/>
            <a:ext cx="7812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сновные задачи бюджетной политики 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состоят в полноценном финансировании инновационно-инвестиционной сферы, выполнении государством своих финансовых обязательств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68360" y="692280"/>
            <a:ext cx="7812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Одним из определяющих показателей бюджетной политики является снижение доли государственного долга в бюджете, и в перспективе — полная расплата с внутренним и внешним долгом страны, отсутствие дефицита бюджета.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48000" y="338040"/>
            <a:ext cx="5338800" cy="24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Раздел 1. Государственный бюджет и организационно-правовые основы построения бюджетной системы Российской Федерации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92000" y="2785680"/>
            <a:ext cx="519444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1.1 Экономическая сущность и роль государственного бюджета. Бюджетная политика государства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9" name="Picture 2" descr="C:\Program Files (x86)\Microsoft Office\MEDIA\CAGCAT10\j0195534.wmf"/>
          <p:cNvPicPr/>
          <p:nvPr/>
        </p:nvPicPr>
        <p:blipFill>
          <a:blip r:embed="rId1"/>
          <a:stretch/>
        </p:blipFill>
        <p:spPr>
          <a:xfrm>
            <a:off x="611280" y="1125360"/>
            <a:ext cx="2700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95280" y="1844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юджет — это форма образования и расходования фонда денежных средств, предназначенных для финансового обеспечения задач и функций государства и местного самоуправления (Ст. 6 БК РФ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д бюджетом государства понимают бюджет России (федеральный бюджет), бюджеты субъектов Российской Федерации.(Конституция РФ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юджет - это совокупность экономических (денежных) отношений, возникающих в процессе образования, планового распределения и использования государственного централизованного фонда денежных средст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Государственный бюджет — это основной финансовый план образования, распределения и использования централизованного денежного фонда государства или административно-территориального образования, утверждаемый соответствующим законодательным (представительным) органом государственной вла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337680"/>
            <a:ext cx="77868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ndara"/>
              </a:rPr>
              <a:t>Понятие бюдже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1. Составление и использование бюджета носит ярко выраженный балансовый характер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2. Формирование и использование государственного бюджета базируется на сочетании централизованных начал с инициативой местных органов власти. Развитие местного самоуправления — экономическая основа реализации принципа развития демократического обществ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3. С помощью государственного бюджета происходит перераспределение национального дохода между отраслями экономики (видами экономической деятельности), субъектами Российской Федерации и иными сферами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4. Бюджет страны связан со всеми отраслями экономики. Отрасли связаны с бюджетом как по формированию его доходов, так и по линии финансирования их развития. Выполнение этих функций бюджетом сочетается с его активным воздействием на процесс производства, рост накоплений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Candara"/>
              </a:rPr>
              <a:t>Формирование и использование государственного бюджета в Российской Федерации имеет ряд отличительных черт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 перераспределение ВВП и национального дохода, которое влияет на государственное регулирование и стимулирование экономики, финансовое обеспечение социальной политики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 контроль за образованием и использованием централизованного фонда денежных средст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ункции государственного бюдже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94920" y="2674800"/>
            <a:ext cx="78850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мобилизацию денежных средств для централизованного фонда государства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облюдение режима экономии при расходовании финансовых ресурсов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овышение эффективности расходования бюджетных средств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Бюджетный контроль преследует в основном три цел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Candara"/>
              </a:rPr>
              <a:t>Роль государственного бюджета прежде всего состоит в том, что бюджет создает финансовую базу, необходимую для финансового обеспечения деятельности государственных органов и органов местного самоуправления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Роль государственного бюджета как финансовой базы социально-экономического развития обществ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23640" y="1700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1. Государственный бюджет является инструментом воздействия на развитие экономики. С его помощью государство осуществляет перераспределение национального дохода и тем самым изменяет структуру общественного производства, влияет на социальные преобразования. Государство применяет формы прямого и косвенного влияния на экономику — предоставляет организациям (предприятиям) субсидии, государственные инвестиции, осуществляет бюджетное финансирование видов экономической деятельности, определяющих научно-технический прогресс, добиваясь в конечном итоге изменения экономических пропорций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. Государственный бюджет играет важную роль в решении социальных проблем путем улучшения бюджетного финансирования учреждений социальной сферы — просвещения, здравоохранения, социального обеспечения, жилищного строительства. Кроме того, государственный бюджет обеспечивает нивелирование социальных последствий расслоения граждан по их материальному положению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3. На современном этапе развития экономики государственный бюджет становится одним из основных инструментов государства в проведении экономической и социальной политики. Планируя бюджетные доходы и расходы, государство концентрирует в руках государства денежные средства на проведение экономической и социальной политики, преодоление экономического кризис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Роль государственного бюджета в социально-экономическом развитии общества заключается в следующем: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24000" y="1844640"/>
            <a:ext cx="849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4. Государственный бюджет играет важную роль в выравнивании экономического развития регионов страны путем бюджетного финансирования объектов, которое может осуществляться на возвратной и безвозвратной основе. На возвратной основе бюджетные средства предоставляются в виде кредита на капитальные вложения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5. Основная роль бюджета состоит в том, что он ежегодно мобилизует и концентрирует денежные накопления предприятий (организаций) и населения в централизованном государственном фонде для финансирования развития экономики, социально-культурных мероприятий, укрепления обороноспособности страны, на содержание органов государственной власти и образования резерв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6. Государственный бюджет и сконцентрированные в нем денежные средства создают возможность для маневрирования при распределении бюджетных средств с учетом приоритетности финансирования государственных програм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Роль государственного бюджета в социально-экономическом развитии общества заключается в следующем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8:30Z</dcterms:modified>
  <cp:revision>5</cp:revision>
  <dc:subject/>
  <dc:title>Бюджетная система Российской Федерации </dc:title>
</cp:coreProperties>
</file>