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D3E6-662B-44B7-8FC0-D6CA2A732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777C-B9EE-4A3D-94CB-EA8B55721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B67C-B951-47D1-AC39-05BECA44D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309F-3DE2-461E-A6CE-1B12C3C1E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45775-503C-4535-AD3C-EDF8B0115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40CE9-7E6D-4330-9B5B-9B2996372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88217-D70E-43AF-8CC6-7C9DE020E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1EBD8-4725-4013-9B83-BE53E40B1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0DFE8-E97A-4C37-9DD3-4600C3745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70DE2-19B4-42E4-8CFE-5E9C0A377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D8031-DDA4-4A54-B734-4E17A1626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6679-96FA-4180-9904-024CDB305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B257B-6D9B-41F9-ADD1-650BC6F64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B6287-A6F7-4FA1-B9BF-8DE63B92C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A0204-876A-42DA-868B-6A3951161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0CADB-3D9C-4AFE-9755-884AD6183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D6FFF-6001-48F6-8404-276F29758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FECECA-F4DB-4762-A03C-BE3229178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D2CC27-AFF1-4196-8B0C-81B501CAC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508CA1-3AE0-417D-9BCC-EA0DDE105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8E10AE-6A2D-4D9F-A95D-7D02E9FBE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4F3582-B4FF-4A0F-8349-81FDAF169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C6F0-99F2-49B9-86A2-786CD0263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FB84E0-C7DB-46E9-B4F6-936711558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8F2C1E-02A5-4026-AFE6-FDB289419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84A2F7-8D30-4F95-8D57-5E3E64A2B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B9ADA3-3912-4A07-98BC-BB79DC929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476166-0672-4B6F-9272-E2B2AAB44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5C183E-2BD6-4E35-A0E6-6C078F242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20AD37-4961-4F93-9106-195F8EDA4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93308F-DB5C-4807-B82A-435CCBA7B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013A7E-483E-4CB6-9371-2F0DCCAC9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956302-B032-4C79-8161-C43D30075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ACB9-E5EF-4DAD-B1CA-5A619270A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EF4BC9-25D4-427C-ABC0-1CA84B7D2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8EC5DF-4480-4235-9560-5933C0A68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62567B-3D81-4DA1-890D-259582410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71BFDA-6DDE-4092-AEB5-BA3294ABA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D69563-3178-448E-915E-50C17B893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8580A7-D51D-4865-9352-70BE3C3DB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290DBE-A7F7-4997-80F8-6DA628F58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9AA357-EF25-4965-A86F-2B4008168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6317AC-B663-45A3-9491-A57E8D107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F0E7A0-5AE0-46E8-BFE3-1BBE106FD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0767-AB7C-46F0-AA44-EA3CA0225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7C3067-D15E-4B63-B848-E6164B1E3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B739F8-CEF6-43AC-AE5C-DBBA4227D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6DD063-D85D-4FF1-A830-7B72E8351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38AFC9-7F68-4A72-9A81-E89D2309E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AFDCD1-18EA-4893-98FC-A2B7C0DF9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444C6F-8821-4F9F-9FED-712FB9512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90DF87-14B9-4EAD-A9FC-236EFDF64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F412C7-BC48-416C-9CFB-45D9EE5C7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71591E-EDEE-4BF3-8520-25B87CA35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C3CCE8-A0BF-4044-8F5F-B9692DE62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9FB1-1C2B-47CD-96CF-2542B448B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EEE7A8-8272-4F86-9E81-43A2C15F6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A951-5F78-4343-B029-E32FBA5BD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CD49-D9AD-4191-AB94-CC99062D4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53CE-BC32-4AE7-87B4-A34372279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5051520"/>
            <a:ext cx="3575160" cy="180648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5051520"/>
            <a:ext cx="9145440" cy="180648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966B0-5643-463D-A58A-DBE13151A786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9B62C-ADAF-4F5E-BC64-E13C85E31E2A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8725D-B73B-4A2E-B57C-196C9C8C1BE9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ight Triangle 1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ight Triangle 17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434342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43434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A690B-8100-4A98-B031-44B7BF55A9C9}" type="slidenum">
              <a:rPr b="0" lang="ru-RU" sz="1600" spc="-1" strike="noStrike">
                <a:solidFill>
                  <a:srgbClr val="434342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Freeform 9"/>
          <p:cNvSpPr/>
          <p:nvPr/>
        </p:nvSpPr>
        <p:spPr>
          <a:xfrm>
            <a:off x="0" y="5048280"/>
            <a:ext cx="3571920" cy="1809720"/>
          </a:xfrm>
          <a:custGeom>
            <a:avLst/>
            <a:gdLst/>
            <a:ahLst/>
            <a:rect l="l" t="t" r="r" b="b"/>
            <a:pathLst>
              <a:path w="3571875" h="1809750">
                <a:moveTo>
                  <a:pt x="0" y="1809750"/>
                </a:moveTo>
                <a:lnTo>
                  <a:pt x="2038350" y="0"/>
                </a:lnTo>
                <a:lnTo>
                  <a:pt x="3571875" y="1809750"/>
                </a:lnTo>
                <a:lnTo>
                  <a:pt x="0" y="1809750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52AD9-90C4-4E81-84B9-FBCC16820873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000" y="404280"/>
            <a:ext cx="7993080" cy="433260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c00000"/>
                </a:solidFill>
                <a:uFillTx/>
                <a:latin typeface="Franklin Gothic Medium"/>
              </a:rPr>
              <a:t>РАЗДЕЛ 2. ДОХОДЫ И РАСХОДЫ БЮДЖЕТНОЙ СИСТЕМЫ РОССИЙСКОЙ ФЕДЕРАЦИИ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Franklin Gothic Medium"/>
              </a:rPr>
              <a:t>2.1 НАЛОГОВЫЕ И НЕНАЛОГОВЫЕ ДОХОДЫ, РАСХОДЫ БЮДЖЕТНОЙ СИСТЕМЫ. ФИНАНСОВАЯ ПОДДЕРЖКА СУБЪЕКТОВ ФЕДЕРАЦИИ И МУНИЦИПАЛЬНЫХ ОБРАЗОВАНИЙ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402920" y="4941720"/>
            <a:ext cx="6512040" cy="119232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Franklin Gothic Book"/>
                <a:ea typeface="Tunga"/>
              </a:rPr>
              <a:t>АВТОР-СОСТАВИТЕЛЬ: </a:t>
            </a:r>
            <a:br>
              <a:rPr sz="1700"/>
            </a:br>
            <a:r>
              <a:rPr b="0" lang="ru-RU" sz="1700" spc="-1" strike="noStrike">
                <a:solidFill>
                  <a:srgbClr val="000000"/>
                </a:solidFill>
                <a:latin typeface="Franklin Gothic Book"/>
                <a:ea typeface="Tunga"/>
              </a:rPr>
              <a:t>КЛЮЕВ С.В.</a:t>
            </a:r>
            <a:endParaRPr b="1" lang="en-US" sz="17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Franklin Gothic Book"/>
                <a:ea typeface="Tunga"/>
              </a:rPr>
              <a:t>ЯРОСЛАВЛЬ 2011</a:t>
            </a:r>
            <a:endParaRPr b="1" lang="en-US" sz="17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6" name=""/>
          <p:cNvGraphicFramePr/>
          <p:nvPr/>
        </p:nvGraphicFramePr>
        <p:xfrm>
          <a:off x="611280" y="333360"/>
          <a:ext cx="7848360" cy="3668760"/>
        </p:xfrm>
        <a:graphic>
          <a:graphicData uri="http://schemas.openxmlformats.org/drawingml/2006/table">
            <a:tbl>
              <a:tblPr/>
              <a:tblGrid>
                <a:gridCol w="4913280"/>
                <a:gridCol w="990720"/>
                <a:gridCol w="936360"/>
                <a:gridCol w="1008000"/>
              </a:tblGrid>
              <a:tr h="353520">
                <a:tc>
                  <a:txBody>
                    <a:bodyPr lIns="24480" rIns="244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Дохо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4480" marR="24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млрд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4480" marR="24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% к ВВ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4480" marR="24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% к итог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4480" marR="24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</a:tr>
              <a:tr h="182880">
                <a:tc>
                  <a:txBody>
                    <a:bodyPr lIns="24480" rIns="244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4480" marR="24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4480" marR="24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4480" marR="24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4480" marR="24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</a:tr>
              <a:tr h="182880">
                <a:tc>
                  <a:txBody>
                    <a:bodyPr lIns="24480" rIns="244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Доходы,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4480" marR="24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7611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4480" marR="24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35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4480" marR="24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4480" marR="24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</a:tr>
              <a:tr h="182880">
                <a:tc>
                  <a:txBody>
                    <a:bodyPr lIns="24480" rIns="244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4480" marR="24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4480" marR="24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4480" marR="24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4480" marR="24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</a:tr>
              <a:tr h="183960">
                <a:tc>
                  <a:txBody>
                    <a:bodyPr lIns="24480" rIns="244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Налоговые доходы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4480" marR="24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5679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4480" marR="24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26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4480" marR="24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74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4480" marR="24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</a:tr>
              <a:tr h="288720">
                <a:tc>
                  <a:txBody>
                    <a:bodyPr lIns="24480" rIns="244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из них: налог на прибыль организац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4480" marR="24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332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4480" marR="24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6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4480" marR="24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7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4480" marR="24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</a:tr>
              <a:tr h="182880">
                <a:tc>
                  <a:txBody>
                    <a:bodyPr lIns="24480" rIns="244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налог на доходы физических ли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4480" marR="24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707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4480" marR="24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3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4480" marR="24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9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4480" marR="24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</a:tr>
              <a:tr h="182880">
                <a:tc>
                  <a:txBody>
                    <a:bodyPr lIns="24480" rIns="244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налог на добавленную стоим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4480" marR="24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472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4480" marR="24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6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4480" marR="24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9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4480" marR="24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</a:tr>
              <a:tr h="182880">
                <a:tc>
                  <a:txBody>
                    <a:bodyPr lIns="24480" rIns="244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акциз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4480" marR="24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253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4480" marR="24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4480" marR="24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3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4480" marR="24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</a:tr>
              <a:tr h="182880">
                <a:tc>
                  <a:txBody>
                    <a:bodyPr lIns="24480" rIns="244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платежи за пользование природными ресурс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4480" marR="24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001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4480" marR="24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4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4480" marR="24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3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4480" marR="24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</a:tr>
              <a:tr h="184320">
                <a:tc>
                  <a:txBody>
                    <a:bodyPr lIns="24480" rIns="244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налог на имущес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4480" marR="24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253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4480" marR="24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4480" marR="24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3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4480" marR="24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</a:tr>
              <a:tr h="182880">
                <a:tc>
                  <a:txBody>
                    <a:bodyPr lIns="24480" rIns="244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единый социальный нало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4480" marR="24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267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4480" marR="24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4480" marR="24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3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4480" marR="24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</a:tr>
              <a:tr h="282240">
                <a:tc>
                  <a:txBody>
                    <a:bodyPr lIns="24480" rIns="244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Неналоговые доходы, и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4480" marR="24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916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4480" marR="24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8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4480" marR="24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25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4480" marR="24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</a:tr>
              <a:tr h="182880">
                <a:tc>
                  <a:txBody>
                    <a:bodyPr lIns="24480" rIns="244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т внешнеэкономической деятель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4480" marR="24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680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4480" marR="24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7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4480" marR="24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22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4480" marR="24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</a:tr>
              <a:tr h="548640">
                <a:tc>
                  <a:txBody>
                    <a:bodyPr lIns="24480" rIns="244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т имущества, находящегося в государственной и муниципальной собственности, или от деятельности государственных и муниципальных организац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4480" marR="24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235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4480" marR="24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4480" marR="24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3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4480" marR="24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</a:tr>
              <a:tr h="182880">
                <a:tc>
                  <a:txBody>
                    <a:bodyPr lIns="24480" rIns="244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Безвозмездные перечисл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4480" marR="24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6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4480" marR="24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0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4480" marR="24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0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4480" marR="24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</a:tr>
            </a:tbl>
          </a:graphicData>
        </a:graphic>
      </p:graphicFrame>
      <p:sp>
        <p:nvSpPr>
          <p:cNvPr id="237" name="Прямоугольник 4"/>
          <p:cNvSpPr/>
          <p:nvPr/>
        </p:nvSpPr>
        <p:spPr>
          <a:xfrm>
            <a:off x="539640" y="400536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к видно из таблицы, наибольшую роль в формировании доходов бюджета имеют налог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Medium"/>
              </a:rPr>
              <a:t>ОБЩАЯ ХАРАКТЕРИСТИКА РАСХОДОВ БЮДЖЕТА</a:t>
            </a:r>
            <a:r>
              <a:rPr b="0" lang="ru-RU" sz="28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Franklin Gothic Book"/>
              </a:rPr>
              <a:t>Основные признаки бюджетной классификации расходов:</a:t>
            </a:r>
            <a:endParaRPr b="1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Franklin Gothic Book"/>
              </a:rPr>
              <a:t>Функциональный </a:t>
            </a:r>
            <a:r>
              <a:rPr b="1" lang="ru-RU" sz="3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endParaRPr b="1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Franklin Gothic Book"/>
              </a:rPr>
              <a:t>Экономический:</a:t>
            </a:r>
            <a:endParaRPr b="1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Franklin Gothic Book"/>
              </a:rPr>
              <a:t>Ведомственный </a:t>
            </a:r>
            <a:endParaRPr b="1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640720" cy="20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ranklin Gothic Medium"/>
              </a:rPr>
              <a:t>МЕЖБЮДЖЕТНЫЕ ОТНОШЕНИЯ ПРЕДСТАВЛЯЮТ СОБОЙ ВЗАИМООТНОШЕНИЯ МЕЖДУ ФЕДЕРАЛЬНЫМИ ОРГАНАМИ ГОСУДАРСТВЕННОЙ ВЛАСТИ, ОРГАНАМИ ГОСУДАРСТВЕННОЙ ВЛАСТИ СУБЪЕКТОВ РОССИЙСКОЙ ФЕДЕРАЦИИ, ОРГАНАМИ МЕСТНОГО САМОУПРАВЛЕНИЯ ПО ВОПРОСАМ РЕГУЛИРОВАНИЯ БЮДЖЕТНЫХ ПРАВООТНОШЕНИЙ, ОРГАНИЗАЦИИ И ОСУЩЕСТВЛЕНИЯ БЮДЖЕТНОГО ПРОЦЕССА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515880" y="2204640"/>
            <a:ext cx="8640720" cy="26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Принципы межбюджетных отношений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Franklin Gothic Book"/>
              </a:rPr>
              <a:t>самостоятельность бюджетов всех уровней бюджетной системы РФ;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Franklin Gothic Book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Franklin Gothic Book"/>
              </a:rPr>
              <a:t>сбалансированность интересов всех участников межбюджетных отношений бюджетной системы РФ;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Franklin Gothic Book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Franklin Gothic Book"/>
              </a:rPr>
              <a:t>равенство бюджетных прав субъектов Федерации, муниципальных образований во взаимоотношениях с федеральным бюджетом;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Franklin Gothic Book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Franklin Gothic Book"/>
              </a:rPr>
              <a:t>законодательное разграничение доходных источников между бюджетами и расходных обязательств каждого уровня бюджетной системы;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Franklin Gothic Book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Franklin Gothic Book"/>
              </a:rPr>
              <a:t>выравнивание уровней минимальной бюджетной обеспеченности;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Franklin Gothic Book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Franklin Gothic Book"/>
              </a:rPr>
              <a:t>единство бюджетной системы РФ и другие.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Medium"/>
              </a:rPr>
              <a:t>ФОРМЫ ФИНАНСОВОЙ ПОДДЕРЖКИ СУБЪЕКТОВ ФЕДЕРАЦИИ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В соответствии со ст. 129 БК РФ оказание финансовой помощи из федерального бюджета бюджетам субъектов Федерации может быть осуществлено в следующих формах: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25800" indent="-32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предоставление дотаций на выравнивание уровня минимальной бюджетной обеспеченности субъектов Федерации;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25800" indent="-32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предоставление субсидий;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25800" indent="-32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предоставление субвенций на финансирование отдельных целевых расходов;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25800" indent="-32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предоставление бюджетных кредитов;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25800" indent="-32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иная безвозвратная и безвозмездная передача средств.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822240" y="259920"/>
            <a:ext cx="75218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Franklin Gothic Book"/>
              </a:rPr>
              <a:t>Дотация</a:t>
            </a: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 — бюджетные средства, предоставляемые бюджету другого уровня бюджетной системы России на безвозмездной и безвозвратной основах.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Franklin Gothic Book"/>
              </a:rPr>
              <a:t>Субсидия (помощь, поддержка)</a:t>
            </a: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 — бюджетные средства, предоставляемые бюджету другого уровня бюджетной системы России, а также физическому или юридическому лицу на условиях долевого финансирования целевых расходов.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Franklin Gothic Book"/>
              </a:rPr>
              <a:t>Трансферт </a:t>
            </a: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— денежные средства, передаваемые (предоставляемые) из одних бюджетов в пользу других, нуждающихся в финансовой поддержке в порядке и на условиях, предусмотренных БК РФ.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Franklin Gothic Book"/>
              </a:rPr>
              <a:t>Субвенция </a:t>
            </a: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— бюджетные средства, предоставляемые бюджету другого уровня бюджетной системы России или юридическому лицу на осуществление определенных целевых расходов.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Majestic"/>
              </a:rPr>
              <a:t>КОНЕЦ!</a:t>
            </a:r>
            <a:endParaRPr b="0" lang="en-US" sz="5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b0f0"/>
                </a:solidFill>
                <a:latin typeface="Franklin Gothic Book"/>
              </a:rPr>
              <a:t>Спасибо за внимание!</a:t>
            </a:r>
            <a:endParaRPr b="1" lang="en-US" sz="4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47" name="Picture 2" descr="C:\Program Files (x86)\Microsoft Office\MEDIA\CAGCAT10\j0297707.wmf"/>
          <p:cNvPicPr/>
          <p:nvPr/>
        </p:nvPicPr>
        <p:blipFill>
          <a:blip r:embed="rId1"/>
          <a:stretch/>
        </p:blipFill>
        <p:spPr>
          <a:xfrm>
            <a:off x="3419640" y="1844640"/>
            <a:ext cx="2468520" cy="30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Medium"/>
              </a:rPr>
              <a:t>ДОХОДЫ БЮДЖЕТНОЙ СИСТЕМЫ РФ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В составе доходов бюджетов выделяются следующие основные группы: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18960" indent="-318960">
              <a:spcBef>
                <a:spcPts val="7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• </a:t>
            </a: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налоговые доходы;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18960" indent="-318960">
              <a:spcBef>
                <a:spcPts val="7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• </a:t>
            </a: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неналоговые доходы;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18960" indent="-318960">
              <a:spcBef>
                <a:spcPts val="7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• </a:t>
            </a: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безвозмездные и безвозвратные перечисления.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18960" indent="-318960">
              <a:spcBef>
                <a:spcPts val="7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Группы доходов состоят из статей доходов, объединяющих конкретные виды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18960" indent="-318960">
              <a:spcBef>
                <a:spcPts val="7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доходов по источникам и способам получения, в том числе налоговые доходы и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18960" indent="-318960">
              <a:spcBef>
                <a:spcPts val="7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неналоговые доходы по видам.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Medium"/>
              </a:rPr>
              <a:t>ДОХОДЫ БЮДЖЕТА: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Налоговые доходы — это доходы, зачисляемые в бюджеты в соответствии с бюджетным законодательством РФ и законодательством о налогах и сборах: федеральные, региональные и местные налоги и сборы, а также пени и штрафы.</a:t>
            </a: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21" name="Picture 2" descr="C:\Program Files (x86)\Microsoft Office\MEDIA\CAGCAT10\j0222015.wmf"/>
          <p:cNvPicPr/>
          <p:nvPr/>
        </p:nvPicPr>
        <p:blipFill>
          <a:blip r:embed="rId1"/>
          <a:stretch/>
        </p:blipFill>
        <p:spPr>
          <a:xfrm>
            <a:off x="6659640" y="476280"/>
            <a:ext cx="1780920" cy="17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Medium"/>
              </a:rPr>
              <a:t>ДОХОДЫ БЮДЖЕТА: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725040" y="1341360"/>
            <a:ext cx="75200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К неналоговым доходам относятся также доходы от платных услуг, оказываемых соответствующими органами государственной власти и местного самоуправления, бюджетными учреждениями этих органов, часть прибыли унитарных предприятий, остающейся после уплаты налогов и иных обязательных платежей в бюджет, в размерах, устанавливаемых Правительством РФ и законами субъектов РФ.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24" name="Picture 2" descr="C:\Program Files (x86)\Microsoft Office\MEDIA\CAGCAT10\j0222021.wmf"/>
          <p:cNvPicPr/>
          <p:nvPr/>
        </p:nvPicPr>
        <p:blipFill>
          <a:blip r:embed="rId1"/>
          <a:stretch/>
        </p:blipFill>
        <p:spPr>
          <a:xfrm>
            <a:off x="7343640" y="115920"/>
            <a:ext cx="1781280" cy="17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Medium"/>
              </a:rPr>
              <a:t>ДОХОДЫ БЮДЖЕТА: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К безвозмездным и безвозвратным перечислениям относятся: финансовая помощь из бюджетов других уровней в форме дотаций и субвенций, перечисления из внебюджетных фондов, от юридических и физических лиц, международных организаций и правительств иностранных государств, в том числе добровольных пожертвований, и др.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27" name="Picture 2" descr="C:\Program Files (x86)\Microsoft Office\MEDIA\CAGCAT10\j0222019.wmf"/>
          <p:cNvPicPr/>
          <p:nvPr/>
        </p:nvPicPr>
        <p:blipFill>
          <a:blip r:embed="rId1"/>
          <a:stretch/>
        </p:blipFill>
        <p:spPr>
          <a:xfrm>
            <a:off x="7164360" y="189000"/>
            <a:ext cx="1781280" cy="17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26920" y="549000"/>
            <a:ext cx="752184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Medium"/>
              </a:rPr>
              <a:t>ДОХОДЫ БЮДЖЕТОВ ФОРМИРУЮТСЯ В СООТВЕТСТВИИ С БЮДЖЕТНЫМ И НАЛОГОВЫМ ЗАКОНОДАТЕЛЬСТВОМ РОССИЙСКОЙ ФЕДЕРАЦИИ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95280" y="1099800"/>
            <a:ext cx="8353440" cy="37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В НК РФ (ст. 8):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Налог — обязательный, индивидуально безвозмездный платеж, взимаемый с организаций и физических лиц в форме отчуждения принадлежащих им на праве собственности, хозяйственного ведения или оперативного управления денежных средств, в целях финансового обеспечения деятельности государства и (или) муниципальных образований.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Под сбором понимается обязательный взнос, взимаемый с организаций и физических лиц, уплата которого является одним из условий совершения в отношении плательщиков сборов государственными органами, органами местного самоуправления, иными уполномоченными органами и должностными лицами юридически значимых действий, включая предоставление определенных прав или выдачу разрешений (лицензий).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22240" y="364680"/>
            <a:ext cx="7521840" cy="17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Franklin Gothic Medium"/>
              </a:rPr>
              <a:t>НАЛОГИ ВЫПОЛНЯЮТ В ГОСУДАРСТВЕ СЛЕДУЮЩИЕ ОСНОВНЫЕ ФУНКЦИИ: </a:t>
            </a: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826920" y="2133720"/>
            <a:ext cx="7521840" cy="27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1" lang="ru-RU" sz="4400" spc="-1" strike="noStrike">
                <a:solidFill>
                  <a:srgbClr val="000000"/>
                </a:solidFill>
                <a:latin typeface="Franklin Gothic Book"/>
              </a:rPr>
              <a:t>фискальная</a:t>
            </a:r>
            <a:endParaRPr b="1" lang="en-US" sz="4400" spc="-1" strike="noStrike">
              <a:solidFill>
                <a:srgbClr val="000000"/>
              </a:solidFill>
              <a:latin typeface="Franklin Gothic Book"/>
            </a:endParaRPr>
          </a:p>
          <a:p>
            <a:pPr marL="2858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1" lang="ru-RU" sz="4400" spc="-1" strike="noStrike">
                <a:solidFill>
                  <a:srgbClr val="000000"/>
                </a:solidFill>
                <a:latin typeface="Franklin Gothic Book"/>
              </a:rPr>
              <a:t>регулирующая</a:t>
            </a:r>
            <a:endParaRPr b="1" lang="en-US" sz="4400" spc="-1" strike="noStrike">
              <a:solidFill>
                <a:srgbClr val="000000"/>
              </a:solidFill>
              <a:latin typeface="Franklin Gothic Book"/>
            </a:endParaRPr>
          </a:p>
          <a:p>
            <a:pPr marL="2858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1" lang="ru-RU" sz="4400" spc="-1" strike="noStrike">
                <a:solidFill>
                  <a:srgbClr val="000000"/>
                </a:solidFill>
                <a:latin typeface="Franklin Gothic Book"/>
              </a:rPr>
              <a:t>социальная</a:t>
            </a:r>
            <a:endParaRPr b="1" lang="en-US" sz="44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32" name="Picture 2" descr="C:\Program Files (x86)\Microsoft Office\MEDIA\CAGCAT10\j0300840.wmf"/>
          <p:cNvPicPr/>
          <p:nvPr/>
        </p:nvPicPr>
        <p:blipFill>
          <a:blip r:embed="rId1"/>
          <a:stretch/>
        </p:blipFill>
        <p:spPr>
          <a:xfrm>
            <a:off x="6372360" y="2421000"/>
            <a:ext cx="1814400" cy="15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11280" y="365040"/>
            <a:ext cx="7732800" cy="97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Medium"/>
              </a:rPr>
              <a:t>КЛАССИФИКАЦИЯ НАЛОГОВ РОССИЙСКОЙ ФЕДЕРАЦИИ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539640" y="1413000"/>
          <a:ext cx="7993080" cy="3240000"/>
        </p:xfrm>
        <a:graphic>
          <a:graphicData uri="http://schemas.openxmlformats.org/drawingml/2006/table">
            <a:tbl>
              <a:tblPr/>
              <a:tblGrid>
                <a:gridCol w="2762280"/>
                <a:gridCol w="2527560"/>
                <a:gridCol w="2703240"/>
              </a:tblGrid>
              <a:tr h="633240">
                <a:tc>
                  <a:txBody>
                    <a:bodyPr lIns="25560" rIns="25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Федеральные налоги и сбор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Региональные налоги и сбор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Местные налоги и сбор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</a:tr>
              <a:tr h="2606760">
                <a:tc>
                  <a:txBody>
                    <a:bodyPr lIns="25560" rIns="25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. Налог на добавленную стоимость (НДС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2. Акцизы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3. Налог на прибыль организаций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4. Налог на доходы с физических лиц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5. Единый социальный налог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6. Государственная пошлин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7. Налог на добычу полезных ископаемы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8. Сборы за пользование объектами животного мира и водных биологических ресурсо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9. Водный нало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. Налог на имущество организаций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2. Транспортный налог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3. Налог на игорный бизне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. Земельный налог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2. Налог на имущество физических ли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55280" y="1773360"/>
            <a:ext cx="7521480" cy="155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Medium"/>
              </a:rPr>
              <a:t>О РОЛИ ОТДЕЛЬНЫХ НАЛОГОВ В ФОРМИРОВАНИИ ДОХОДОВ БЮДЖЕТА МОЖНО СУДИТЬ ПО ДАННЫМ КОНСОЛИДИРОВАННОГО БЮДЖЕТА РОССИЙСКОЙ ФЕДЕРАЦИИ ЗА 2005 ГОД, ПРИВЕДЕННЫМ В ТАБЛИЦЕ 1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Franklin Gothic Medium"/>
              </a:rPr>
              <a:t>РОССТАТ. РОССИЯ В ЦИФРАХ. — М., 2006.' С. 329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2T17:57:21Z</dcterms:created>
  <dc:creator>Александр</dc:creator>
  <dc:description/>
  <dc:language>en-US</dc:language>
  <cp:lastModifiedBy>Александр</cp:lastModifiedBy>
  <dcterms:modified xsi:type="dcterms:W3CDTF">2011-03-24T09:52:40Z</dcterms:modified>
  <cp:revision>12</cp:revision>
  <dc:subject/>
  <dc:title>Бюджетная система Российской Федерации </dc:title>
</cp:coreProperties>
</file>