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8F5-8E4A-4EA2-8BBE-404BCBC3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AC0-4EAE-48A2-8E52-6EC0FFE8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1600-63F9-4689-9CB8-9C409787C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4804-8C30-4294-A80C-6B1D8C8B9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5128-41B2-4181-9EC2-D7D13127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851D0-5BF2-4580-A4A4-A267F5AB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7CCF0-BC34-41CD-917F-7E433F2D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F673-A994-4665-ABAA-791089E6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60C8-6128-4736-B79A-F6077A82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D1C2-B3D5-406A-9E97-EE6D6D94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1BCE-5F99-4387-83A0-C0C112E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136-12B1-44E0-B3DC-C9531A4D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B4B0-8711-47F0-929A-018CC11B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C7E5-8EAC-4C95-9ADE-7BE91B13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AFC5-DB4F-452E-A7DF-676A922D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87CE3-2CE7-40F9-BAAD-EE328A78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14B2-B57A-4E72-BD8D-12E4F71F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13E2-C9BD-45DE-9BDB-247975CEE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48526-20E0-42E3-857A-2C17A357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4DEF-0180-4F89-BD13-DA579F1F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F6CE-DA0A-417A-A04E-42FED29C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BB3A-253D-4AE5-835B-6F0A9B3A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9138-F9D1-41C2-AE2B-9CB62C46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466A7-32D4-4889-AC71-23E63D56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5A51-1415-4C18-8A2D-1A4ADE8F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428B9-D4BA-4AC2-8F4A-A0C5C966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B3821-ACC5-4CD6-8FF2-23C65C9B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FBD3-0368-4127-B33E-48D78A01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8C024-0DF8-44FB-B858-87B9ED0E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6E2B-51EB-4EE9-A24F-46CED1D1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54FED-EDDF-483A-9AB6-DDC93F4C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E7CA-59A9-4337-A394-B93C0662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7AB6D-7789-4ACD-B24D-13DD39B9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129-7137-4339-ADEF-21BFD199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2D558-FAB3-492F-895F-912C0091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574A3-8665-4CF0-869B-041C7089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9E4A0-BD4C-4FFE-B904-811B3B9A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A4671-5D14-43C2-AD4E-5716112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AD74A-D695-4979-A379-57330B4C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70FAB-B183-4446-A390-50362A0D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DDC4-A896-4BDE-969C-8D6348B8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2AC7D-4ADF-4FB8-AA10-0613F585D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301B8-99FC-4F94-8795-84EBDD60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36A7-DF4E-4FC2-B27D-F444DF5B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856-5FF6-42D5-84B5-11CE21F7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847-C888-41D2-9A1C-C6ED7685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A2F1-1345-4AC8-A7BD-72901378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8378-F222-4484-9ED2-2D78641D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2B61-0D36-49DC-AD68-95ED2C27288E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EC63-2E77-44EC-836B-DCE2E75592B9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F779-ECE2-4EAE-95CF-F038C86C3B12}" type="slidenum">
              <a:rPr b="0" lang="ru-RU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ED2D-13A9-4876-9A69-C4A01FEB0A4B}" type="slidenum">
              <a:rPr b="0" lang="ru-RU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-55440" y="19080"/>
            <a:ext cx="8991360" cy="56005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2339640" y="5445000"/>
            <a:ext cx="4419720" cy="868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втор: Клюев С.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Ярославль 2011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Финансовая деятельность любого государства —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это процесс собирания, распределения (перераспределения) и использования денежных средств, обеспечивающих практическое выполнение функций государства и органов местного самоуправл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оцессе осуществления финансовой деятельности государство решает в данной сфере следующие задач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бирания фондов денежных средст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аспределения и использования этих средст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4e5b6f"/>
                </a:solidFill>
                <a:latin typeface="Calibri"/>
              </a:rPr>
              <a:t>Методы собира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й метод — используется государством для изъятия части доходов граждан, государственных и негосударственных предприятий, организаций и учреждений в бюджет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обязательных платежей юридическими и физическими лицами в пенсионный фонд, фонды социального страхования, обязательного медицинского страхования и другие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о использует метод добровольного привлечения денежных средств в форме вкладов населения в банк, приобретения облигаций и других ценных бумаг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взимания сборов и пошлин, т.е. плата за оказываемые услуги (судебная, таможенная пошлина и др.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етод страхования (формирования страховых фондов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эмиссия денег (дополнительный выпуск денежных средств в обращение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e5b6f"/>
                </a:solidFill>
                <a:latin typeface="Calibri"/>
              </a:rPr>
              <a:t>Методы распределения фондов денежных средств:</a:t>
            </a:r>
            <a:endParaRPr b="0" lang="en-US" sz="45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финансир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редитовани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лата страховых возмещен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существление расчетов между различными субъектам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5b6f"/>
                </a:solidFill>
                <a:latin typeface="Calibri"/>
              </a:rPr>
              <a:t>Финансовая система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едставляет собой систему отношений, ориентированных на объек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39640" y="2781360"/>
            <a:ext cx="8379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5b6f"/>
                </a:solidFill>
                <a:latin typeface="Calibri"/>
              </a:rPr>
              <a:t>В управлении финансами</a:t>
            </a:r>
            <a:r>
              <a:rPr b="0" lang="ru-RU" sz="3600" spc="-1" strike="noStrike">
                <a:solidFill>
                  <a:srgbClr val="4e5b6f"/>
                </a:solidFill>
                <a:latin typeface="Calibri"/>
              </a:rPr>
              <a:t>, как и в любой управляемой системе, выделяются объекты и субъекты управления.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бъектами выступают разнообразные виды финансовых отношен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убъектами —организационные структуры, осуществляющие управление. В соответствии с классификацией финансовых отношений по их сферам выделяют три группы объектов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ы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тноше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государственные финансы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м соответствуют следующие субъекты управлени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службы (отделы) предприятий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страх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инансовые орган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налоговые инспек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3:15Z</dcterms:modified>
  <cp:revision>7</cp:revision>
  <dc:subject/>
  <dc:title>Сущность и функции финансов</dc:title>
</cp:coreProperties>
</file>