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167-1C6B-4110-B4A8-9B2D37CE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7C8B-EB3C-4683-8A09-0AEA2CF1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2FB-13E8-42E1-9A51-ADD64434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750-FBBC-487C-9BF0-DC3C9CE8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9AD1-8A80-46C1-A240-E35482E8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4C6C-58FA-48F9-8C35-CBEE47B3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43B3-8571-441C-98F2-CFBF6F7F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6D8C-FB16-4435-BC0D-477531CF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207B-8E3C-4C0E-98AB-BB8F436E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91FD-FF7A-45FA-9B24-0D42660B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3BC2-1742-4C10-A616-D32E36A9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588-EC9E-4B17-B5AA-D48F291D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B3DF-D021-4C69-B67F-2B1BB0C9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FFD7-F776-4E52-8872-1B81080D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CF46-B497-47CC-A80F-00F6B897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DFE7-F4C1-4E3C-8B8A-544C4C0F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2357-A957-4936-9F05-B0BC0FC1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41E08-983D-4D8C-9665-795805BA1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8BED-405E-4F7F-8484-5BB1B31A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7F086-2B6B-4618-88A7-5245DFA5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E5986-9D64-4178-A995-C89E6266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79EC0-0F76-42C3-9605-1ABC0670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414-B499-4E14-8014-08DD0907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73FDC-0FCD-4EC2-B973-10F5E70A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4D11-A0E0-42DA-9E78-9BB70760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E4E37-F647-4F52-8BC8-1EE02B6A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63BA-F160-43AE-9BE1-8F936670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5F843-3D59-4E25-B347-153B4922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03C4-198B-4141-BACC-9BCD5CF5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4DF4-87E1-47C7-8155-744CB571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6DBD-CD1C-41A5-85D3-87981BD4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FE0A5-AC4D-4CA4-92CB-D9750F0B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300A4-D575-4930-B160-A95F6010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2DBC-421E-4B3D-B906-F830FAD2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50EA8-A730-4244-A3D6-2DA5D452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33614-5E85-455A-A58C-1E36DCAC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CDAEF-40FE-4B71-A13F-DBF0F1EC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FA22-B73C-4A91-B7C9-17EDCB14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90571-700D-4B74-BFBE-D505B7CD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C1D29-0A52-4916-B97E-40BBE681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913BC-CA13-40F0-8E61-42C8140A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FF2CB-B413-41A4-A4CF-1649B3F20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61844-1060-44C7-8170-81375817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E2EAA-BAFF-4DF5-AA3B-7D710549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A0B0-059F-4B44-B575-7E98014C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15C73-3A1D-4E25-8480-512AA0E0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54BB2-19B3-43F5-A5F5-1F5336FF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F5114-E0A3-470A-A03E-F8751573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A9097-EA8F-49E8-BCF7-36D65909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74A21-217E-42EC-838D-BE0ED656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2331F-218E-46AF-A53A-0EA1FA78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3F62E-2C7B-4CA4-A5C1-E8576F74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0E0A5-1115-4EF3-B4F5-FC46C61C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6D323-EB27-4312-BCFD-BAFE202C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3FC86-DF64-48F9-86B2-EDC1516A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156-C9CE-475E-91B8-3805F406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1CBD4-EFFB-4D8F-AFA7-67871F5C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886E-4631-4428-B58C-FAF658B5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F0AF-C380-4883-8528-8413DC03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8E56-945A-4E8C-BEBD-85507706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E84C-0354-4987-862C-C8FE1E474D39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fda023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aa2b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D2D9-BA88-4C55-BEDB-8C3A12BD90AA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fda023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fda023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fda023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fda023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fda023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fda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fda023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fda023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5e9c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65e9c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8999-A3CF-40D4-90D3-7F3EEDB9D896}" type="slidenum"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246C-B164-48BA-923D-E31789FB224D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fda023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aa2b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f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f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7168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64a7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ddea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131B-AB67-44E5-935D-43F3D02D272F}" type="slidenum"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1"/>
          <a:stretch/>
        </p:blipFill>
        <p:spPr>
          <a:xfrm>
            <a:off x="42840" y="2127240"/>
            <a:ext cx="4608360" cy="1835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Автор: Клюев С.В.</a:t>
            </a:r>
            <a:endParaRPr b="0" lang="en-US" sz="2200" spc="-1" strike="noStrike">
              <a:solidFill>
                <a:srgbClr val="ccddea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Ярославль 2011</a:t>
            </a:r>
            <a:endParaRPr b="0" lang="en-US" sz="22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392" name="Прямоугольник 2"/>
          <p:cNvSpPr/>
          <p:nvPr/>
        </p:nvSpPr>
        <p:spPr>
          <a:xfrm>
            <a:off x="324000" y="620640"/>
            <a:ext cx="842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9760"/>
                </a:solidFill>
                <a:latin typeface="Calibri"/>
              </a:rPr>
              <a:t>Тема 1.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c9760"/>
                </a:solidFill>
                <a:latin typeface="Calibri"/>
              </a:rPr>
              <a:t>Понятие о финансах и управление им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200400" y="272520"/>
            <a:ext cx="548640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ddea"/>
                </a:solidFill>
                <a:latin typeface="Calibri"/>
              </a:rPr>
              <a:t>Понятие финансов</a:t>
            </a: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 появилось в 13-15 вв. в торговых городах Италии.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Позже Ф. стали обозначать отношения между населением и государством 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ddea"/>
                </a:solidFill>
                <a:latin typeface="Calibri"/>
              </a:rPr>
              <a:t>В процессе первой Буржуазной революции монарх был оттаржен от казны, и возникла система управления притоком денежных средств в казну.</a:t>
            </a:r>
            <a:endParaRPr b="0" lang="en-US" sz="3200" spc="-1" strike="noStrike">
              <a:solidFill>
                <a:srgbClr val="ccddea"/>
              </a:solidFill>
              <a:latin typeface="Calibri"/>
            </a:endParaRPr>
          </a:p>
        </p:txBody>
      </p:sp>
      <p:pic>
        <p:nvPicPr>
          <p:cNvPr id="394" name="Заголовок 2" descr=""/>
          <p:cNvPicPr/>
          <p:nvPr/>
        </p:nvPicPr>
        <p:blipFill>
          <a:blip r:embed="rId1"/>
          <a:stretch/>
        </p:blipFill>
        <p:spPr>
          <a:xfrm>
            <a:off x="66600" y="1768320"/>
            <a:ext cx="2494080" cy="669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Program Files (x86)\Microsoft Office\MEDIA\CAGCAT10\j0234131.wmf"/>
          <p:cNvPicPr/>
          <p:nvPr/>
        </p:nvPicPr>
        <p:blipFill>
          <a:blip r:embed="rId2"/>
          <a:stretch/>
        </p:blipFill>
        <p:spPr>
          <a:xfrm>
            <a:off x="250920" y="2492280"/>
            <a:ext cx="19526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1) Финансы существуют между двумя субъектами с разными полномочиями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2) Эти отношения – денежные (материальной основой являются деньги)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3) В процессе этих отношений формируются государством денежные фонды и осуществляются расходы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4) Поступление денежных средств в казну является принудительным (Достигалось правовой деятельностью государства)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ddea"/>
                </a:solidFill>
                <a:latin typeface="Calibri"/>
              </a:rPr>
              <a:t>5) Использование ср-в из казны осуществлялось в соответствии с интересами государства.</a:t>
            </a: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011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ddea"/>
                </a:solidFill>
                <a:latin typeface="Calibri"/>
              </a:rPr>
              <a:t>1) денежные отношения, возникающие в процессе распределения и перераспределения стоимости общественного продукта и части национального богатства в связи с формированием денежных  доходов и накоплений у субъектов хозяйствования и государства, а также в связи с использованием их на расширенное воспроизводство, материальное стимулирование работников, социальные и другие потребности общества.</a:t>
            </a: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ddea"/>
                </a:solidFill>
                <a:latin typeface="Calibri"/>
              </a:rPr>
              <a:t>2) совокупность всех денежных ср-в, используемых в гос-ве.</a:t>
            </a: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ам присущ денежный характер (натуральные отношения НЕ относятся к финансам)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ы связаны с получением доходов и накоплений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Финансам присущ распределительный характер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fec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ddea"/>
                </a:solidFill>
                <a:latin typeface="Calibri"/>
              </a:rPr>
              <a:t>В финансах всегда есть движение денежных средств.</a:t>
            </a:r>
            <a:endParaRPr b="0" lang="en-US" sz="2800" spc="-1" strike="noStrike">
              <a:solidFill>
                <a:srgbClr val="ccddea"/>
              </a:solidFill>
              <a:latin typeface="Calibri"/>
            </a:endParaRPr>
          </a:p>
        </p:txBody>
      </p:sp>
      <p:pic>
        <p:nvPicPr>
          <p:cNvPr id="403" name="Picture 2" descr="C:\Program Files (x86)\Microsoft Office\MEDIA\CAGCAT10\j0293844.wmf"/>
          <p:cNvPicPr/>
          <p:nvPr/>
        </p:nvPicPr>
        <p:blipFill>
          <a:blip r:embed="rId2"/>
          <a:stretch/>
        </p:blipFill>
        <p:spPr>
          <a:xfrm>
            <a:off x="6948360" y="2781360"/>
            <a:ext cx="17384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74680" y="249120"/>
            <a:ext cx="8412120" cy="9637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1) Распределительная (распределение национального дохода)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2) контрольная — контроль за распределением ВВП по соответствующим фондам и расходованием их по целевому назначению.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3) Стимулирующая - Использование распределенного дохода либо для расширения производства, либо для накоплений и соц. потребностей. 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Рычаги: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Бюджет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Цены и тарифы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Налоги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buClr>
                <a:srgbClr val="64a73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ccddea"/>
                </a:solidFill>
                <a:latin typeface="Calibri"/>
              </a:rPr>
              <a:t>Экспортные и импортные пошлины и тарифы</a:t>
            </a: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4) Воспроизводственная функция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ddea"/>
                </a:solidFill>
                <a:latin typeface="Calibri"/>
              </a:rPr>
              <a:t>5) Регулирующая функция</a:t>
            </a: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ddea"/>
              </a:solidFill>
              <a:latin typeface="Calibri"/>
            </a:endParaRPr>
          </a:p>
          <a:p>
            <a:pPr lvl="4" marL="1233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dde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1:35Z</dcterms:modified>
  <cp:revision>5</cp:revision>
  <dc:subject/>
  <dc:title>Сущность и функции финансов</dc:title>
</cp:coreProperties>
</file>