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376-D7C6-4372-8FA3-24D0A3F1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6C5-19BB-43C4-BCB9-FEEA4509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35C-6B4A-40D8-8983-F14426BA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B9D-858B-4C4F-B53B-FC026DE7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F572-0D4A-4892-8ECD-FB253D03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4908-D67F-41B0-98ED-1C6869A5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9170-BDCB-46D9-8ADA-9D5E26F2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2D8C-CB5D-448D-A763-58D61ABB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74FA-2DFE-4EDA-ABBA-1AC5743A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0915-465E-4080-A222-E94F02FA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555B-116C-4EB8-A7A8-8FCFA9B3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542-710B-466F-AEF7-C59EC517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DD14-F47E-4829-B5CD-D6065E11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6C6F-821E-434D-A309-2F262B3C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7A38-E273-473F-A7D0-10FC62EA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4D11-0295-4605-BE0E-76436561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0FE1-F6A5-452C-AC2B-18DA37A6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2FAB-CC49-4DE8-966A-CD4ED260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412E9-C5CF-4B35-BEFF-20648639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E4D5-752D-4F21-9C6F-9887C17E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814CE-87D9-4505-9513-CA605671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C29E-B505-49DD-8858-95FA1BE9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616-3F0C-4840-9BE5-0136D86B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4AA40-6D98-44FF-A9BF-CC8A816C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5DDC-BFFB-494E-901F-32C585B3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56212-5528-4862-A921-2A1A6C17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B9A4F-60C3-4E6E-AE51-7824233E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AF647-60DF-405F-8BC2-7B32CD6C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2B831-611F-4877-A248-D60F2062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7A44A-6DAE-4FE9-9D32-F767A916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FD951-8E8E-48C7-9A8E-677CD7D7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D5AE7-E66E-4DB2-A4E2-85C288E2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56589-6449-454E-AA7A-C2E6FE64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252-CAB1-444A-B417-4BD7CFBF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C4F96-E0B9-4034-B810-C50064E2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DFE24-AFC2-4323-B1A6-6BF42279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67C85-4579-43F2-B13A-2737F821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D938-CEDF-41FE-83D9-787C2744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762FE-3FFA-4F11-8413-B3D522C2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780F7-DDF6-468D-8805-22A580C9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85A99-57B8-43E8-83B7-8943575A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3B8C4-1DE2-4620-B267-AE938E3C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7C220-6FB6-48CC-9A9E-80914421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04AF2-E57C-4703-9023-3409E630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D48-83F4-4B9E-A767-3919128A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6110B-DC28-4593-883F-EB4854C2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85E48-0CAF-46F6-85FA-50B6E4F6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0579D-E9DE-499E-B426-D1AD7A30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F12A8-D77F-4F6B-83D3-03BEB1B2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54864-EC1B-4793-B445-F0EBADA9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52CE3-90FA-4C39-B5E4-25472559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0141B-B876-44BF-9AB8-C3824423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D43B7-A6F3-4352-B5C3-37FF8E21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602B6-A3EF-466F-98FA-5DB7FE39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78A4C-B342-4112-A4F8-6F58C92E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010-2D08-4BBE-B328-EEE013BB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ADA4D-3860-4E90-AFB8-95ABA111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DAB-79FF-46A1-9BE3-2234508A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86D-CCC7-497F-820F-496212B7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91A-0F90-4D2A-BBF5-7438AE6E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53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FFD1-1054-465D-AAE9-BECE0265236E}" type="slidenum">
              <a:rPr b="0" lang="ru-RU" sz="1100" spc="-1" strike="noStrike">
                <a:solidFill>
                  <a:srgbClr val="d2533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A60D-FC87-455F-8206-24053BB3F9A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53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4EBF-0E3C-41CA-9266-28E49A37B6B8}" type="slidenum">
              <a:rPr b="0" lang="ru-RU" sz="1100" spc="-1" strike="noStrike">
                <a:solidFill>
                  <a:srgbClr val="d2533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f2d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2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3f2d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3f2d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5193-AD62-48BB-85A7-3AC45CF5D2B0}" type="slidenum">
              <a:rPr b="0" lang="ru-RU" sz="1100" spc="-1" strike="noStrike">
                <a:solidFill>
                  <a:srgbClr val="f3f2d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53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13CC-D143-419F-9378-8CA4D1A47594}" type="slidenum">
              <a:rPr b="0" lang="ru-RU" sz="1100" spc="-1" strike="noStrike">
                <a:solidFill>
                  <a:srgbClr val="d2533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38164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059280" y="3540240"/>
            <a:ext cx="5689440" cy="147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rebuchet MS"/>
              </a:rPr>
              <a:t>5.1 Сущность страхования. Признаки и функции. Тарифная ставка, отрасли страхования </a:t>
            </a:r>
            <a:endParaRPr b="0" lang="en-US" sz="2100" spc="-1" strike="noStrike">
              <a:solidFill>
                <a:srgbClr val="292934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92934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Автор: Клюев С.В.</a:t>
            </a:r>
            <a:endParaRPr b="0" lang="en-US" sz="1300" spc="-1" strike="noStrike">
              <a:solidFill>
                <a:srgbClr val="292934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Ярославль 2011</a:t>
            </a:r>
            <a:endParaRPr b="0" lang="en-US" sz="13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Страховая тарифная ставка (Брутто-ставка):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1) Нетто-ставка (идет на все выплаты страховых сумм и возмещений. Для этой цели формируются страховые резервные фонды)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2) Нагрузка (на ведение дела и формирование прибыли страховой компании)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Брутто-ставка = (Нетто – ставка) / (1- d),  где d - удельный вес нагрузки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95280" y="404280"/>
            <a:ext cx="7300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Страховая ответственность </a:t>
            </a: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- обязанность страховщика выплатить страховое возмещение или страховую сумму в оговариваемых случаях.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Страховой риск -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1) вероятность нанесения ущерба от страхового случая (вычисляется математически и является основой расчета основных тарифных ставок)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2) конкретный объект страхования по страховой сумме и степени вероятности ущерба.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Сострахование 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- </a:t>
            </a: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разделение крупного риска на несколько страховщиков по договору с целью выравнивания страх. рисков.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Перестрахование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- передача части ответственности по взятым рискам другим страховщикам (страхование самого страховщика)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95120" y="0"/>
            <a:ext cx="7504200" cy="150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1341000"/>
            <a:ext cx="813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Централизованное и децентрализован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Индивидуальное и коллектив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Обязательное и доброволь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Разовое и накопитель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По отраслям: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1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Личное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пассажиров от несчастных случае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военнослужащих за счет ср-в Минобороны и спец. ведомст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работников, связанных с выполнением особо опасных работ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2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Имущественное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бъекты -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материальные ценности (здания, сооружения, машины, сырье, материалы, готовая продукция, урожай, животные)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Страховые случаи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ихийные бедствия, воздействия технолог. факторов, пожары, взрывы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25360" y="237960"/>
            <a:ext cx="7473960" cy="15051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3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Социальное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защита конституционных прав граждан в случае временной потери или утраты трудоспособности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4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Профессиональной ответственности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тветственность -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обязанность лица, виновного в причинении ущерба, возместить его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бъекты -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адвокаты, врачи, чья деятельность или бездеятельность может принести вред другим гражданам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5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Рисков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бъект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 - риск недополучения прибыли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недополучения прибыли в рез-те нарушения технических процессо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морское страхование грузо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банковских кредитов от рисков неплатежа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биржевых операций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5151600" y="1023840"/>
            <a:ext cx="3895560" cy="25113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"/>
          <p:cNvPicPr/>
          <p:nvPr/>
        </p:nvPicPr>
        <p:blipFill>
          <a:blip r:embed="rId2"/>
          <a:stretch/>
        </p:blipFill>
        <p:spPr>
          <a:xfrm>
            <a:off x="549360" y="933480"/>
            <a:ext cx="44370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совокупность особых перераспределительных отношений между его участниками в связи с формирование целевого страхового фонда за счет денежных взносов участников и в связи с использованием его для возмещения ущерба субъектам хозяйствования или физического лица при происшедшем событии, который является страховым случаем.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1. Перераспределение стоимости общественного продукта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2. Перераспределительные отношения, обусловленные вероятностью наступления страхового случая 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3. Предусматривается распределение ущерба во времени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4. Замкнутость раскладки ущерба (покрытие ущерба на одной территории) 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226" name="Штриховая стрелка вправо 3">
            <a:hlinkClick r:id="" action="ppaction://hlinkshowjump?jump=nextslide"/>
          </p:cNvPr>
          <p:cNvSpPr/>
          <p:nvPr/>
        </p:nvSpPr>
        <p:spPr>
          <a:xfrm>
            <a:off x="4427640" y="3500280"/>
            <a:ext cx="2952720" cy="720720"/>
          </a:xfrm>
          <a:prstGeom prst="pie">
            <a:avLst/>
          </a:prstGeom>
          <a:solidFill>
            <a:srgbClr val="93a299"/>
          </a:solidFill>
          <a:ln w="399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имеры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7" name="Стрелка вправо 5">
            <a:hlinkClick r:id="rId2" action="ppaction://hlinksldjump"/>
          </p:cNvPr>
          <p:cNvSpPr/>
          <p:nvPr/>
        </p:nvSpPr>
        <p:spPr>
          <a:xfrm>
            <a:off x="4211640" y="5602320"/>
            <a:ext cx="2592360" cy="836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93a299"/>
          </a:solidFill>
          <a:ln w="399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лее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182520" y="365040"/>
            <a:ext cx="7450200" cy="1944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7286760" cy="30243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3"/>
          <p:cNvSpPr/>
          <p:nvPr/>
        </p:nvSpPr>
        <p:spPr>
          <a:xfrm>
            <a:off x="1056960" y="573264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Calibri"/>
              </a:rPr>
              <a:t>m - частота наступления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1" name="Стрелка влево 4">
            <a:hlinkClick r:id="" action="ppaction://hlinkshowjump?jump=previousslide"/>
          </p:cNvPr>
          <p:cNvSpPr/>
          <p:nvPr/>
        </p:nvSpPr>
        <p:spPr>
          <a:xfrm>
            <a:off x="4427640" y="5516640"/>
            <a:ext cx="3168720" cy="1225440"/>
          </a:xfrm>
          <a:prstGeom prst="leftArrow">
            <a:avLst>
              <a:gd name="adj1" fmla="val 50000"/>
              <a:gd name="adj2" fmla="val 49956"/>
            </a:avLst>
          </a:prstGeom>
          <a:solidFill>
            <a:srgbClr val="93a299"/>
          </a:solidFill>
          <a:ln w="399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ернуться к признакам страхования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1. Распределительная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- рисковая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- сберегательная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- предупредительная (связана с использованием части средств страхового фонда на уменьшение степени последствий или на исключение страхового риска)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2. Контрольная (выражается в строго целевом формировании и использовании средств страхового фонда)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Предупредительные мероприятия: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ожарные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о борьбе с болезнями животных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рофилактика простудных заболеваний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ДТП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ротивоселевые и противопаводковые мероприятия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Участники: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1) Страховщики - юридические лица любой организационно-правовой формы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2) Страхователи – юридические и физические лица, имеющие страховой интерес и вступающие в страховые отношения либо в силу закона, либо добровольно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34"/>
                </a:solidFill>
                <a:latin typeface="Trebuchet MS"/>
              </a:rPr>
              <a:t>1) экономическая потребность в страховании</a:t>
            </a:r>
            <a:endParaRPr b="0" lang="en-US" sz="4000" spc="-1" strike="noStrike">
              <a:solidFill>
                <a:srgbClr val="292934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34"/>
                </a:solidFill>
                <a:latin typeface="Trebuchet MS"/>
              </a:rPr>
              <a:t>2) величина страховой суммы, в которую оценивается ущерб в связи с возможными потерями</a:t>
            </a:r>
            <a:endParaRPr b="0" lang="en-US" sz="4000" spc="-1" strike="noStrike">
              <a:solidFill>
                <a:srgbClr val="292934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Trebuchet MS"/>
              </a:rPr>
              <a:t>размер денежных средств, на которые фактически застраховано имущество, жизнь, здоровье</a:t>
            </a: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Trebuchet MS"/>
              </a:rPr>
              <a:t>По имущественному страхованию страховая сумма не может превышать реальной стоимости имущества. </a:t>
            </a: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Trebuchet MS"/>
              </a:rPr>
              <a:t>По личному страхованию - зависит от материальных возможностей страхователя и наличия желания страховаться на ту или иную сумму.</a:t>
            </a: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24000" y="333360"/>
            <a:ext cx="737208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Trebuchet MS"/>
              </a:rPr>
              <a:t>Страховое возмещение </a:t>
            </a:r>
            <a:r>
              <a:rPr b="0" lang="ru-RU" sz="3200" spc="-1" strike="noStrike">
                <a:solidFill>
                  <a:srgbClr val="292934"/>
                </a:solidFill>
                <a:latin typeface="Trebuchet MS"/>
              </a:rPr>
              <a:t>- причитающаяся к выплате страх. сумма страхователю (max возмещение ≤ Σ страхования)</a:t>
            </a:r>
            <a:endParaRPr b="0" lang="en-US" sz="32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Trebuchet MS"/>
              </a:rPr>
              <a:t>Страховой взнос (платеж, премия) </a:t>
            </a:r>
            <a:r>
              <a:rPr b="0" lang="ru-RU" sz="3200" spc="-1" strike="noStrike">
                <a:solidFill>
                  <a:srgbClr val="292934"/>
                </a:solidFill>
                <a:latin typeface="Trebuchet MS"/>
              </a:rPr>
              <a:t>- плата в рублях с совокупной страховой суммы (может быть разовой и периодической)</a:t>
            </a:r>
            <a:endParaRPr b="0" lang="en-US" sz="32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Trebuchet MS"/>
              </a:rPr>
              <a:t>Страховая тарифная ставка </a:t>
            </a:r>
            <a:r>
              <a:rPr b="0" lang="ru-RU" sz="3200" spc="-1" strike="noStrike">
                <a:solidFill>
                  <a:srgbClr val="292934"/>
                </a:solidFill>
                <a:latin typeface="Trebuchet MS"/>
              </a:rPr>
              <a:t>- цена страхового риска или плата с единицы страховой суммы</a:t>
            </a:r>
            <a:endParaRPr b="0" lang="en-US" sz="32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1:51:08Z</dcterms:modified>
  <cp:revision>22</cp:revision>
  <dc:subject/>
  <dc:title>Бюджетная система Российской Федерации </dc:title>
</cp:coreProperties>
</file>