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446-C142-44DE-95B4-AA35B5B4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0F3-F698-4417-9E27-470242F3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57A3D-EE5B-4729-850F-3E9A4A0C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FB4D2-FFF6-4B4C-9FF7-A28E4AFD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2EFAE-FB32-4A20-9702-18E87314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53E12-FBE4-49A2-8FBA-2BE4FDC5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1D358-D279-4132-9B4E-5BD426E4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C1199-5C83-49A9-B35B-7D59EC52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30B99-8C12-466B-925F-E803E8B2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0190D-79E8-4B91-BFD2-08007D45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1868D-A04B-4C0B-B3BA-7AC788EB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E11-7AF6-4117-A8A1-608B6659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B58-AAD0-4458-BAA1-3A3C4232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AA2F-F7FB-4F55-9AA5-538A2006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372D-3BCC-4446-8119-73FD330A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585F-2C86-4380-96CC-66F301D1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ECFC-3DEA-4625-A580-1556C67F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9F5F-2DAB-44CC-93FF-B2605603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DDE8-E813-48F3-B7F0-0408742B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0FF8-966E-4923-A62A-26B41EB6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4D1B-C433-464F-AD21-F261D438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04F5-2202-4BCD-A5E7-A1A6C08C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5DEC-3508-4862-9A0B-B941E17A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8F64-EDC1-44F5-BC22-DD604DB9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94BC-B7A3-4C95-8735-D73127BB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AF11-FFF6-4091-94B8-8ACDB569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03729-6BB1-494E-8D4C-6FB73D8C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9110E-96CA-49D3-85CC-9189385E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7A4F4-C429-46E0-AFA7-CFFF0258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85BB3-04A5-4AF3-BA24-761B5ACF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04830-ABD7-45F5-80C4-7869C86B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66A-A189-45A6-B804-21C52C58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D3F3E-4ADE-4982-8FA6-54B2505E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EF4FD-0C07-49BC-8C56-5D4BC386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9DE32-6248-4341-80C9-C4411D61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4A63D-81F2-41D4-B65C-A24CB717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0F2A4-83EF-480A-9DD3-08E068DF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EB20C-9870-4846-B2CF-51B08065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53DA2-B498-4A35-8398-D1263DC1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8D575-3044-4A06-89BF-D395A1FD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F5378-3451-4CAF-949F-9B5FE2A3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EF17F-47B8-4A43-AA4C-582C0150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B4E-8DEB-4E5C-8677-5E6DEA34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20B92-AC37-4FAC-B4F7-CF39C46C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C1FFB-F98E-4112-9BD2-9532526C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D2E4E-0A76-4443-B1B8-616832AD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75D07-683E-4264-8F6B-EB53480C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CE807-1C2D-4AFE-A3B1-278F813A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3D473-2967-40E4-AA91-C3CFB69D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36686-E1C6-4C8A-91F8-763D1022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38A35-0F3D-48A6-A85D-207268B4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36D89-6362-439C-9A9C-C1D65D70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8F3D0-DF94-4DF9-A2AE-6C13D097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91B-66DE-4EB2-9C3F-55BDCBF4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37D65-46FE-4BD9-BC85-2CBB3619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D3C52-76E6-47A3-BF99-08A8921E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6F3F3-6972-4519-98AD-0110AF7F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A61F4-A4BE-4903-8C49-37978EAF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DF9AA-711F-4B05-9DC8-341A5857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812A9-3932-48A4-9447-E50D441A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5C958-AAB8-492F-96F9-ACA9B675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7467D-F13C-4440-B6E6-C4247BD7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9C1D2-6DD9-432F-9125-1992B995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FBE44-2C47-4856-B5C1-AD2AC455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F09-E6A8-42D4-9C2B-FAC5363D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D8591-32E5-47C3-BB00-F8241378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B80E1-E5FE-44B9-A1AA-3A05A394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AF2F8-361D-4630-A635-EDB9586B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B9887-7DDD-487D-9CAB-32384EA2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C242D-4366-443B-B645-4DFCA988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92C29-738C-402B-BC2F-2794FFFA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94137-51C3-4BD1-BCF2-2A92C8E8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39F69-A9EF-485C-BA75-9EA6FA88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81DBC-5835-4C19-9C8D-CD7C726E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13FFC-C65C-4E16-B527-F3EB8E35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4CB-374E-4AA8-A9D1-127B01B2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029DC-EFED-4E4D-8D6F-A5871CCB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CAAC2-7078-4315-B390-A79153A4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E12C3-9F71-44CB-BE95-9F9F25A3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0825B-C439-4D7E-B1C2-DECAC21F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55C80-68CC-48F2-BCEE-F265A768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51CD4-E772-4588-BDB6-A25C526C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70BB8-75EB-425E-9963-1DDA2511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139B0-0379-4E44-8817-91AAA54B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9CBDC-8DD6-4B1F-8AF1-04188710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54606-1227-492F-89BE-60A9B204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B59-372F-4B18-9278-F06537C2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552F1-F0DF-410D-BBF8-5269A762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F5970-2B87-453B-B68B-C9267439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263C2-9FC2-4A2F-A562-71489D1C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BA3AC-F78D-4803-8468-0A34F70C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C7A3C-6376-41D7-BEA7-F87FAF38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DD181-3036-4941-A3BA-38E62985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1F2F1-4ACE-49B4-9C3E-B370FA0E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C4CA7-3AA5-44B7-81C8-99AA208C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DE8B9-79EF-4CC8-B7F1-B3BC858C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474B8-990C-4801-A6D2-CA9BD4DB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C7F6-007F-4DBD-AB70-332A7021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0C274-7997-4154-9FA3-DE619037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43640-6F00-4E56-A36B-56BDDEF1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D2C9D-FE67-493C-8DA5-427D44EB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102EF-735B-4607-965E-3FE14A7E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AE4AF-1FC0-445E-B1AC-67F0F659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ED49B-575E-40F9-8C36-8FC1293B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938B3-F189-45BD-809B-134514F6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7D390-E9E8-44AC-84D3-FE63617E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A2E72-FC88-4C8A-A174-4D42DE26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CC8A3-3069-427B-A034-E6BAA8D4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1348-826D-4C5B-8318-2515ED52830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16DF-B23A-4736-A88B-42762C109CD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4625-412C-47D9-9558-6E15443A759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F424-8582-4BE1-9004-97D6F907845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9DF8-7229-4952-B6F6-B24FC25FDA2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4AE5-2B04-4155-85AB-620AA8491DE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123E-29AB-4CF4-94EE-2BF9448E8AB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FB47-5411-4805-AB4E-7BED865FB6C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31BF-6DA0-49B6-85EF-2F7953CF316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84120" y="450720"/>
            <a:ext cx="8435880" cy="23288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5867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43329"/>
                </a:solidFill>
                <a:latin typeface="Franklin Gothic Book"/>
              </a:rPr>
              <a:t>6.1 Сущность, функции и особенности кредита. Виды кредитов. Денежно-кредитная политика государства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43329"/>
                </a:solidFill>
                <a:latin typeface="Franklin Gothic Book"/>
              </a:rPr>
              <a:t>Автор: Клюев С.В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43329"/>
                </a:solidFill>
                <a:latin typeface="Franklin Gothic Book"/>
              </a:rPr>
              <a:t>Ярославль 2011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3604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водится ЦБ РФ от лица государств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Денежно-кредитная политика -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вокупность мер эконом. регулирования, денежного обращения и кредита путем воздействия на инвестиционную активность, на уровень и динамику инфляции и другие процессы макроэкономи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196640"/>
            <a:ext cx="8686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оцентные ставки по операциям ЦБ (Банк России может устанавливать одну или несколько ставок по операциям, может проводить политику без фиксации ставок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ормативы обязательных резервов, депонируемых в Банке Росси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(размер обязательных резервов устанавливается советом директоров. Нормативы  ≤ 20% и не могут быть одновременно изменены более, чем на 5 пунктов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3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перации на открытом рынке (купля-продажа Банком России за свой счет ц/б у КБ следовательно увеличение или уменьшение свободных денежных средств у КБ. Лимит операций утверждается советом директоров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4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ефинансирование банков (кредитование ЦБ коммерческих банков, в том числе учет/переучет векселей. Нижняя граница кредитов -12%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5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алютное регулирование (валютное регулирование - купля-продажа Банком России иностранной валюты с целью воздействия на курс рубля, т.е. валютной интервенцией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6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Установление ориентиров роста Д. массы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7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ямые количественные ограничени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(ограничение объемов предоставляемых кредитов и т.д.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8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ыпуск облигаций от своего имен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2" descr=""/>
          <p:cNvPicPr/>
          <p:nvPr/>
        </p:nvPicPr>
        <p:blipFill>
          <a:blip r:embed="rId1"/>
          <a:stretch/>
        </p:blipFill>
        <p:spPr>
          <a:xfrm>
            <a:off x="182520" y="2852640"/>
            <a:ext cx="88758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"/>
          <p:cNvSpPr/>
          <p:nvPr/>
        </p:nvSpPr>
        <p:spPr>
          <a:xfrm>
            <a:off x="539640" y="162864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коном. отношения между кредиторами и заемщиками, которые заключаются в передаче ссуженной стоимости для использования на условиях возвратности, срочности, платности и в интересах общественных потребност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едит возникает из-за несоответствия потребностей в деньгах и их налич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92160" y="457200"/>
            <a:ext cx="8899560" cy="1170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1. Кредиторы и заемщики должны быть самостоятельными субъектами, которые гарантируют выполнение обязательств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2. Интересы кредиторов и заемщиков должны удовлетворяться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ерераспределительная (перераспределяется стоимость общественного продукта. Перераспределение временное, и оно охватывает только временно свободные денежные средства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мена действительных денег кредитными деньгами (в оборот входит ссуженная стоимость и выполняет работу, свойственную обычным деньгам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19700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зависимости от формы ссуженной ст-ти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товарн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денежн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смешанн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зависимости от того, кто участник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банковский кредит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коммерческий (Предприятие №1 → Предприятие №2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государственный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международный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гражданский (частный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3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зависимости от цели кредитования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производственн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потребительск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4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Другие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прям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косвенная (с промежуточными звеньями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явная/скрыт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новая/стар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развитая/неразвит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отрасл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торгов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промышлен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с/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срочност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краткосроч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среднесроч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долгосроч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 возврат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 сроч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 плат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 обеспечен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5) целевой характер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авка рефинансирования ЦБ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няя ставка по межбанковским кредита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прос на креди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епень рис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ровень инфляц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о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руг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46160" y="-219240"/>
            <a:ext cx="8845560" cy="18464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еспеченная непрерывность производст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спользование на расширение производства (Необоснованные кредиты - негативное влияние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лияние кредита на денежную сферу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тупление и изъятие денег - через банки на кредитной основе (денежная масса увеличивается или уменьшается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12:07:17Z</dcterms:modified>
  <cp:revision>24</cp:revision>
  <dc:subject/>
  <dc:title>Бюджетная система Российской Федерации </dc:title>
</cp:coreProperties>
</file>