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56F-3481-409B-A293-24CA4494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4C1-0B0A-4866-9A42-BED12F47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93D6-5729-4C10-A560-FCEC2060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A84-5B2E-4500-8ADC-E46D5924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9985-840B-4649-8E6F-147E9D30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D92C-F0C5-4B3D-981D-B6FCAB42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4D5F-3A0F-4D92-8E94-1DE8D688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EC03-0771-4F02-971A-BE910CE8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8F3F-2E57-46CD-9EF6-B12D944D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01E8-2D32-412C-B0DA-EC72CA9B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BD0A-1981-43DE-A794-152DD434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3B0-C6BA-47C5-9B6B-969CAF70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D29F-4747-4DF3-9904-74638EDF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42EC-AEE1-4E72-B7AB-1D0B1BD7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EBEE-B905-450D-97C7-6CDC4DBD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DB9E-7575-4905-BF42-EF2A3438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EDE9-CEBB-4E66-9DBE-A08B2130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F0993-73BD-416F-AC4C-89E77F61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B7A9E-527C-4B98-8307-6C4B4782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5CAA-0188-4751-BBC1-0BCAEC93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BD0E5-CFA7-4B39-8358-3EC9DA68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6EA4-5087-4BF9-A2AA-8BA77260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788-B99B-4323-98EB-DF132E9F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2589-92CB-41C4-BBD7-7E41CAF2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AB13-AD0E-46C9-AF91-12C5F612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FD295-39DF-4790-97E8-F57E29F0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2BCE3-C4D7-4240-9F1C-D040B0B3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962A-A37C-4078-A2C8-653CCBB8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33932-8BD4-4FA5-8767-9E731BBA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821C-E999-4EA5-8E83-5AF8E145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ADBE6-AB71-45E5-AE45-B211F261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BFCB8-79D6-4A4A-91CC-E2E48140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4C0E3-ABA6-4742-BABF-2FC5E840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44F7-7A71-4981-9158-8F2B50DD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69182-C092-47C8-87DE-D01591E1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A3506-9AE9-4422-9CD1-6CC2CB8E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E51D0-9893-4E3C-B39C-EBF54853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85DDF-1809-4EE7-9090-4591DA93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94EA6-0866-4AE5-9DA2-096521D1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C1FE3-6565-4612-B35A-6D71E095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203F4-508D-45BE-8377-4DDBE3B9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80F4D-D7D4-4A42-9BF7-7CDA3DBA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9BE3F-B0FF-4678-934C-EBB3A356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7A8EE-CC92-4418-ACE8-5EEE26E3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913-4CC2-4991-B9AD-700F4901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E02B4-3C4D-4A88-8F67-5401153F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E6973-F4BB-4CC0-873C-E0B702A1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C0EC0-811E-48ED-BAC6-5BE95A41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38956-1C1D-4C59-9789-F6E80B09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8FE2E-A278-4E85-B032-CF0297FC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DFD5D-1FDC-48D6-8B8F-10439B66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F7E1C-FB32-4D02-8374-8C213604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783B-9B1B-4D97-82B0-0E43C898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1FB16-9300-4822-937B-A9D33676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E4C85-6F29-4F44-BF95-0A295792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798-F870-42DB-87A3-78FAD003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B28D7-2C88-4490-B69E-58428CF7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19DCA-878F-474F-986F-2E257913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C68A3-54CC-4588-971A-C1B9FE4C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6DB5C-574E-456F-BB1C-2F795043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E56CE-E88C-427E-87DE-AD54D3F6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3DCAE-1E19-439E-A401-FB8C0433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DC5D3-874C-4A67-B77B-73DF2207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32A33-6D26-463A-955E-CA4F3AFE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C6468-B48A-45EB-8971-E1E40C45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3E93B-ED02-452D-8316-8AC0909C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7F0-43AF-4C0C-BEDA-AC2081C8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52AA8-B507-42C1-8D74-C4214205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A2148-CF73-483C-B3B6-262BC06C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BDC96-EBB1-4D56-9E72-668CB88A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63C7C-07AE-4573-886F-080D74C8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89590-AC80-44F8-B279-AE2E685B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AFA09-C804-4E50-8919-09FA1A75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48631-8F95-4914-93AA-DF3BE937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78590-19A8-4F86-8E4C-F32C8152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0B0AE-73CB-4921-84B8-9F0135BD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C1C1A-0BD0-44A8-ACD8-41AC762A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D9B5-F133-49D2-BB55-4AEBF4F6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B0936-903A-4B3B-84A5-8DDAE490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42067-B9AE-4F96-85AC-06791D34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C8836-7375-4929-B904-777CB679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2730C-775E-424F-BFBA-945C3403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682B9-BC02-4A21-9D39-89918AD4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518-9D7E-46B5-8B3E-EB4A3215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6175-E419-43DD-8799-F56A08B6FFF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7877-410E-47CD-8381-758FA02FAD3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44C0-CEB9-42E1-AEB3-D988CCD8974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C69E-B3B5-4F2A-82AC-629B4C4B64B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1301-8525-4C6B-A58F-E0B6DC9CD1C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4BA4-6F2C-425E-A2EA-850C7A23D27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715D-610C-4FDE-9E3C-3B248BDE669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Тема 4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Финансы предприятий, учреждений и организац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619280" y="270828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4.1 Понятие финансов предприятий, принципы их организации, функци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Принципы организации финансов предприяти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Факторы, влияющие на организацию финансов предприяти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4436640" y="5013360"/>
            <a:ext cx="19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: Клюев С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ославль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онятие финансов предприят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16000" y="1557000"/>
            <a:ext cx="78184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Финансы предприятий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— экономические отношения, возникающие в процессе формирования производственных фондов, производства и реализации продукции, образования собственных финансовых ресурсов, привлечения внешних источников финансирования, их РАСПРЕДЕЛЕНИЯ и использова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49772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72314"/>
                </a:solidFill>
                <a:latin typeface="Corbel"/>
              </a:rPr>
              <a:t>По своему экономическому содержанию и целевому назначению их можно систематизировать по следующим направлениям: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58560" y="1989000"/>
            <a:ext cx="76755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вязанные с формированием уставного капитал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вязанные с производством и реализацией продукции, возникновением вновь созданной стоимост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вязанные с эмиссией и размещением ценных бумаг, взаимным кредитованием, долевым участием в создании совместных предприятий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Финансам предприятий присущи те же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функции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, что и общегосударственным финансам, а именно: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116000" y="1447920"/>
            <a:ext cx="78184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распределительная, при помощи которой происходит первоначальное формирование капитала, образующегося за счет вкладов учредителей, создания основных пропорций в распределении дохода и финансовых ресурсов, обеспечения оптимального сочетания интересов товаропроизводителей хозяйствующих субъектов и государства в целом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онтрольная, содержанием которой является стоимостный учет затрат на производство и реализацию продукци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ринципы организации финансов предприятий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87280" y="1447560"/>
            <a:ext cx="7747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Принцип хозяйственной самостоятель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Принцип самофинансирован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Принцип материальной заинтересованност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Принцип материальной ответствен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Принцип обеспечения финансовых резерв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Факторы, влияющие на организацию финансов предприятий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2349000"/>
            <a:ext cx="749952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рганизационно-правовая форма деятельност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раслевые технико-экономические особенност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Отраслевые особенности, влияющие на организацию финансов предприятия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42560" y="1052280"/>
            <a:ext cx="78915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различия в технологии и характере труда разных отраслей, сказывающиеся на составе и структуре производственных фондов, уровне материально-технической оснащенности производства, видах и структуре оборотных средств, уровне и квалификации работающих и т.д.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разная длительность производственного цикла и различный характер нарастания затрат в процессе производства; эти различия отражаются на величине, структуре и источниках формирования оборотных средств, взаимоотношениях с банками и партнерами, порядке и сроках выполнения финансовых обязательств перед бюджетом, составе финансовых льгот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зависимость производства от природно-климатических условий, влияющих на качество и количество продукции, уровень затрат на ее производство, финансовые результаты деятельности предприятий и т.п.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зависимость экономических условий хозяйствования от возможности получения дохода рентного характера, наличие которых вызывает потребность в специальном механизме финансового регулирования, что может быть обеспечено за счет использования налоговых рычагов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различия в экономических условиях хозяйствования производственных инфраструктурных отраслей, что сказывается на источниках формирования финансовых ресурсов, формах их использования, взаимоотношениях с бюджетом и внебюджетными фондами и т.д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651640" y="2276280"/>
            <a:ext cx="2977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2314"/>
                </a:solidFill>
                <a:latin typeface="Majestic"/>
              </a:rPr>
              <a:t>Спасибо за внимание!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777777"/>
              </a:solidFill>
              <a:latin typeface="Corbel"/>
            </a:endParaRPr>
          </a:p>
        </p:txBody>
      </p:sp>
      <p:pic>
        <p:nvPicPr>
          <p:cNvPr id="337" name="Рисунок 6" descr="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0:55:36Z</dcterms:modified>
  <cp:revision>16</cp:revision>
  <dc:subject/>
  <dc:title>Бюджетная система Российской Федерации </dc:title>
</cp:coreProperties>
</file>