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DF2-C8B7-4F3C-80AD-8D2CC5D6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738-5E6A-44FC-9269-4D341241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CF2-78E0-47A6-9F75-43F1133B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EF6-C1D6-4E76-86C8-F215B4257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9F4E-7251-450D-8D23-140C6110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07FF-F83D-4CAF-9ED3-AE9B2FE5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ED16-5FE4-4567-8309-F42E51A3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A40A-C98E-4BA4-BA17-5746E8DF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3997-8811-4F06-BDB6-6D74298B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E96B-1D7F-41C8-B60A-CF5F5B48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98EB-DEF0-4FAE-A2DD-15A0538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4F1-1E5D-417F-9F8E-66DB2E1E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ED8A-D670-4E9A-A139-058558FE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9F18-A596-45C6-979E-E3B98943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303A-8E6A-4B25-AD23-F4CE1B15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15D1-DDCA-439A-B71B-7F1E4B4E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EEF5-5600-4D81-9F05-CDD279A5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4FFA-0953-4D8B-BD3D-A98A70BB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9F2B1-9F21-44AC-8D95-BCD0E469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8EEFD-0A37-43C6-9599-1D3E33CA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C1DA-582F-4B3E-9E3C-8086F82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8AEF-50EF-40B2-A7DC-945D78F6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88C-6002-4A34-AEDE-9922DE2F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42D0-9972-46B5-9F7F-4FBEB9B7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EDEDD-23BB-491F-8867-5FF6DE00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2F80-4FC4-4166-A25F-B4AF7DD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97C3-E580-4706-8D75-64556741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B1F6-598C-4B9C-A621-FEABA0A1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F0ED7-E4C0-4FD4-9F1D-4DC7F2C7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AFDD-C94B-4F62-917B-DEE754AD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7EB0E-5F61-45EB-AFBB-53716FE2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B55E-E651-4B79-9B9C-E8BC1381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49082-2CA9-49AC-BC61-1C6FE28B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F00-27DF-43CC-9436-DEF9A753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F66F-CC2E-4FFC-A3EA-6873F007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B9B4-4D0D-49AF-8F68-F0C26FB1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38382-3502-49D8-B4D8-8324B62F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F541-E43E-4C10-98EE-FD6D310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7DC9-FB5C-4508-8AFE-27438EB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B955-0E0A-424D-AF20-FFCAD50D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247D-370A-4C6B-9034-61B2A157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9061E-82FC-4357-B988-27D4DF2D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AE88-0493-4812-8A95-52CFF91E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1A2-2E34-41BE-A918-7D3B1937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619-E267-4704-A77A-1F8C81B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58B-699C-426B-BB06-0D4DC10B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964-1E40-48A7-93F9-167B4228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19A-F275-4BBD-B37E-7638F02C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9A7A-37BB-4415-92CB-D129C34C5634}" type="slidenum">
              <a:rPr b="0" lang="ru-RU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0BF-370E-4F83-9236-1DBC07985E07}" type="slidenum">
              <a:rPr b="0" lang="ru-RU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CBE1-DA19-46D6-8928-69924B702AF6}" type="slidenum">
              <a:rPr b="0" lang="ru-RU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e5b6f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40B7-DF70-42ED-A474-CA30F64206CA}" type="slidenum">
              <a:rPr b="0" lang="ru-RU" sz="1400" spc="-1" strike="noStrike">
                <a:solidFill>
                  <a:srgbClr val="4e5b6f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Тема 4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Финансы предприятий, учреждений и организаций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eb8803"/>
                </a:solidFill>
                <a:uFillTx/>
                <a:latin typeface="Arial"/>
                <a:hlinkClick r:id="rId1"/>
              </a:rPr>
              <a:t>4.2 Финансовые ресурсы предприятия, особенности их формирования и использования в условиях рынка. Прибыль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187280" y="907560"/>
            <a:ext cx="67694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нейшее распределение выручки связано с формированием амортизационных отчисл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ортизация по своей экономической сущ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процесс постепенного перенесения стоимости средств труда по мере износа на производимую продукцию, превращения в денежную форму и накопления ресурсов для последующего воспроизводства основных фон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стойчивые пассивы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—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87280" y="1628280"/>
            <a:ext cx="705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авниваются к собственным источникам, т.к. постоянно находятся в обороте предприятия, используются для финансирования хозяйственной деятельности, но ему (предприятию) не принадлеж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устойчивым пассивам относя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альная переходящая задолженность по зарпла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альная задолженность по резервам, на покрытие предстоящих расходов и плате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олженность поставщикам по неотфактурованным поставк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олженность заказчикам по авансам и частичной оплате проду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олженность бюджету по некоторым видам нал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редиторская задолженность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, не принадлежащие  предприятию, но временно находящиеся в его обороте (непланируемый источник формирования оборотных средст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69660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спользование финансовых ресурсов осуществляется предприятием по многим направлениям, главными из которых являют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16000" y="2349000"/>
            <a:ext cx="691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ежи органам финансово-банковской системы, обусловленные выполнением финансовых обязатель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рование собственных средств в капитальные затраты (реинвестирование), связанное с расширением производства и техническим обновлением, переходом на новые прогрессивные технологии, использование «ноу-хау»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рование финансовых ресурсов в ценные бумаги, приобретаемые на рын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е финансовых ресурсов на образование денежных фондов поощрительного харак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финансовых ресурсов на благотворительны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Основные средства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—это денежные средства, вложенные в основные фонд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71640" y="2349000"/>
            <a:ext cx="720072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воему экономическому содержанию основными фондами являются многократно используемые в хозяйственной деятельности средства труда, сохраняющие первоначальный внешний вид (форму) в течение длительного период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 и группировка основных фондов регламентированы Общероссийским классификатором основных фондов, утвержденным постановлением Государственного комитета Российской Федерации по стандартизации, метрологии и сертифик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971640" y="907560"/>
            <a:ext cx="712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ьной основой процесса производства являются производственные фонды в виде средств тру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роцессе производства средства и предметы труда по-разному и в разной степени переносят свою стоимость на стоимость производим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м и обусловлено деление производительных фондов на основные и оборотные производственные фон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186920" y="1197000"/>
            <a:ext cx="647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ение фондов производства и фондов обращения носит одинаковый характер и составляет еди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зволяет объединить оборотные производственные фонды и фонды обращения в единое понятие — оборотные сре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Оборотные средства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—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денежных средств, авансированных для создания и использования оборотных производственных фондов и фондов обращения для обеспечения непрерывного процесса производства и реализации проду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рганизация оборотных средств на предприятии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2920" y="2119320"/>
            <a:ext cx="68421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состава и структуры оборотных сред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потребностей предприятия в оборотных средств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ение источников формирования оборотных сред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пределение и маневрирование оборотных сред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ветственность за сохранность и эффективность использования оборот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рибыль предприят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87280" y="1773000"/>
            <a:ext cx="6769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бы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денежное выражение основной части денежных накоплений, создаваемых предприятиями любой формы собственности. Как экономическая категория она характеризует финансовый результат предпринимательской деятельности пред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бы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показатель, наиболее полно отражающий эффективность производства, объем и качество произведенной продукции, состояние производительности труда, уровень себестоимости. Прибыль оказывает стимулирующее воздействие на укрепление коммерческого расчета, интенсификацию производства при любой форме соб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Финансовые ресурс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—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71640" y="2119320"/>
            <a:ext cx="71294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денежные доходы и поступления, находящиеся в распоряжении хозяйствующего субъекта и предназначенные для выполнения финансовых обязательств, осуществления затрат по расширенному воспроизводству и экономическому стимулированию работ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рибыль предприятия зависит от двух показателей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ы продукции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трат на ее производ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Функции прибыли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71640" y="1773000"/>
            <a:ext cx="720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ет экономический эффект, полученный в результате деятельности предприятия. Получение прибыли на предприятии означает, что полученные доходы превышают все расходы, связанные с его деятельност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ладает стимулирующей функцией. Это связано с тем, что прибыль является одновременно не только финансовым результатом, но и основным элементом финансовых ресурсов предприя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вляется одним из важнейших источников формирования бюджетов разных уровн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3" descr="C:\Program Files (x86)\Microsoft Office\MEDIA\CAGCAT10\j0302953.jpg"/>
          <p:cNvPicPr/>
          <p:nvPr/>
        </p:nvPicPr>
        <p:blipFill>
          <a:blip r:embed="rId1"/>
          <a:stretch/>
        </p:blipFill>
        <p:spPr>
          <a:xfrm>
            <a:off x="3276720" y="2119320"/>
            <a:ext cx="25700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Финансовые ресурсы предприятия классифицируются на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637000"/>
            <a:ext cx="61959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ственные и приравненные к ним средства, заемные средства, привлеченные средства и средства, поступающие в порядке перераспре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 собственным и приравненным к ним средствам относятся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492280"/>
            <a:ext cx="61959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начальные взносы учредителей, прибыль от основной деятельности, амортизационные отчисления, выручка от реализации выбывшего имущества, устойчивые пассивы, мобилизация внутренних ресурсов в строительстве, другие виды поступ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Заемные средства —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ы и займы коммерческих банков, ссуды других кредиторов, кредиторская задолженность, приобретение основных фондов на основе финансового лизинга, инвестиционный налоговый кре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ривлеченные средства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—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 от продажи акций, облигаций и других ценных бумаг, паевые и другие взносы членов трудовых коллектив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Средства, поступающие в порядке перераспределения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86920" y="2276280"/>
            <a:ext cx="691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аховое возмещение по наступившим риск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ства, поступающие от объединений, союзов, ассоциаций, дивиденды и проценты по ценным бумагам других эмитентов, бюджетные субсид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ства, поступившие из внебюджетных фон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едства отечественных и иностранных инвесторов, предоставленные на безвозмездной основ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ие виды ресур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воначальное формирование финансовых ресурсов происходит в момент учреждения предприятия, когда образуется уставный фон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0000" y="2119320"/>
            <a:ext cx="70567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го источниками в зависимости от организационно-правовых форм деятельности выступают: акционерный капитал, вклады участников хозяйственных обществ и товариществ, паевые взносы членов производственных кооперативов, долгосрочный кредит, бюджетные сред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личина уставного фонда показывает размер тех денежных средств, которые инвестированы в процесс производства (т.е. направлены на формирование основных и оборотных фондов, на приобретение лицензий, патентов, ноу-хау и т.д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Основным источником финансовых ресурс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99640" y="2119320"/>
            <a:ext cx="72723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ействующих предприятиях выступает выручка от реализации продукции, выполнения работ, оказания услуг, которая поступает на расчетный счет предпри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уч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еще не доход, но источник возмещения затраченных на производство продукции средств и формирования денежных фондов и финансовых резервов пред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ea157a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1:20:57Z</dcterms:modified>
  <cp:revision>19</cp:revision>
  <dc:subject/>
  <dc:title>Бюджетная система Российской Федерации </dc:title>
</cp:coreProperties>
</file>